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B1433-9295-4565-810D-520FCDD34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28F1C-29F8-44D9-BEC3-19264455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8C1C8-39CA-4545-802F-C5ED3D6F8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630E-B5C8-47B7-989C-BC3C171C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413A2-073E-4A09-AEEC-5F383DE69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0EB5-4B2D-45F6-8AA5-00F17E299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06BC-B5A4-4B2C-B58B-59C7C3F0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4DE00-A588-4138-A254-3C1CEEFA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D7BBC-9A56-46AC-9B7D-2194C05F6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4601-C3BB-49D7-99D2-FFB8B216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A485-81EB-4D5E-8932-E13CE2D4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134E-9A3B-474F-8726-FB5243294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423E-4A38-446F-A5D5-129465CB7A8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1T19:58:45Z</dcterms:modified>
  <cp:revision>7</cp:revision>
  <dc:subject/>
  <dc:title>Aplicación de tratados sucesivos concernientes a la misma materia.</dc:title>
</cp:coreProperties>
</file>