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5DA-73A9-4307-A1BC-63CB3ED3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F56-D9E6-48EC-AE27-0230EB0A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F70-8B87-4AAC-8F81-5951AAFF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F71-1265-4D93-AE29-939AA293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8278-830C-4EC5-9DF9-79D55F01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F361-3196-4E96-8940-87B09894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7EAC-6F24-4E02-A81F-4D9786A0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098B-F9AC-4B28-B42C-5D2C857D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DBAE-9C4D-454B-8E24-D690EE18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2415-E504-4779-9B27-5CE99D54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7D67-694C-49BA-8613-A201A8A8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838-40B2-492B-B1F3-6C0B19B1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D45D-2E2A-47D5-9D29-FAC0DC89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C0D4-4A1F-4EC5-A888-673938E1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67BB-4CFA-4CF6-BBFF-AE664305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1A3A-8867-4E04-9648-9DD52D00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3CED-8394-444E-954E-E04B8102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59DD-DCCB-4601-8D5A-CFED851B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A94-B6FC-43BD-885A-5129381A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450-C207-4F17-9995-8B139612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FB4-CDAD-411B-BFB9-67E1B3F5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46F-45F8-4537-A447-DA35FC78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B7B3-7C3F-4AAB-AAC9-729F2103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E56-E5FD-4B5D-8BBD-2137815B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137A-F151-46B8-BDFA-E09F2AAFBC2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F045-768D-45AB-B9C0-1750C52FDE8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233280"/>
            <a:ext cx="77724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 </a:t>
            </a:r>
            <a:br>
              <a:rPr sz="4400"/>
            </a:br>
            <a:r>
              <a:rPr b="0" lang="es-ES_tradnl" sz="3200" spc="-1" strike="noStrike">
                <a:solidFill>
                  <a:srgbClr val="ccffff"/>
                </a:solidFill>
                <a:latin typeface="Arial Black"/>
              </a:rPr>
              <a:t>MEDIOS AUXILIARES PARA LA DETERMINACION DE LAS REGLAS DE DERECHO INTERNACIONAL</a:t>
            </a:r>
            <a:r>
              <a:rPr b="0" lang="es-E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Profesor Alberto Riose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Facultad de Derecho Universidad de Chil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Derecho Internacional Publi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7621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 Opinion Consultiva respecto de la Convencion sobre el genocidio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que establecio el principi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que solo procedi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reserva siempre que hubiere conformidad con el objeto y fin del trata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 DOCTRIN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norma del art,38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refiere a la doctrin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los publicista de mayor competenc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refiriéndose solo a individuo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pero hoy tiene especial importancia la  opinión de Asociaciones y Sociedades  especializadas en Derecho Internacional, com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l Institut de Droit International,la International Law Association,el Instituto Hispano Luso Americano de Derecho Internacional. 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Por otra parte , organizaciones internacioinales han creado organos consultivos, como en la ONU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Comision de Derecho Internacional, :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n la OEA, el Comite Juridico Interamericano. En el Consejo de Europa, el Comite Europeo de Cooperacion juridica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Tiene menor importancia que la Jurisprudencia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Sin embargo  la doctrina fue fundamental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n el desarrollo del Derecho de Gentes 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Y posteriormente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n los siglos XVIII y. , XIX, en que se citaba  frecuentemente en las sentencias arbítrales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reemos que la doctrina 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n la actualidad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ntribuye a determinar la existencia de la norma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analizarl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sistematizarla y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formular recomendaciones destinadas a mejorarl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l art.38 del Estatuto de la C.I.J.,parrafo 1,letra d) establece como medios auxiliares para determinar las normas de Derecho Internacional:  "las decisiones judiciales y las doctrinas de los poblicistas de mayor competencia 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"las decisiones judiciales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s doctrinas de los publicistas de mayor compet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  JURISPRUDENCIA.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s el conjunto de reglas jurídica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que se  desprenden d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s decisiones judiciales" (Pastor Ridruejo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No es propiamente una fuente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in embargo  tiene un papel fundamental  para demostrar la existencia de una norma, determinar su alcance y aclarar su conteni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demas la jurisprudencia cumple un papel muy importante en la formación y prueba de una norma consuetudinar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os fallos,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tanto judiciale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mo arbítrales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refieren con frecu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la jurisprudencia constant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las sentencias de la C I J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le dio un valor relativo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mo lo dice el  art, 38 del Estatuto: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decisión de la Cort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no es obligatoria sino para las partes en litigio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respecto del caso que ha sido decidido"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No se siguió el principio de "·stare decisis" de los paises del Common Law,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según el cual los fallos de los Tribunales Superiores constituyen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un precedente que tiene el valor de fuente de derech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Numerosos principios y normas de derecho internacional han recibido su consagración con motivo de fallos  judiciale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jemplos: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aso de las Pesquerías Anglo Noruegas, que estableció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l principio de las líneas de base rectas para medir la anchura del mar territorial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aso Nottebon que formulo el principio de la necesidad de un vinculo real y efectivo de nacionalidad como base para hacer efectiva la proteccion diplomatica.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21:22:34Z</dcterms:created>
  <dc:creator>profesmp</dc:creator>
  <dc:description/>
  <dc:language>en-US</dc:language>
  <cp:lastModifiedBy>Gilda</cp:lastModifiedBy>
  <dcterms:modified xsi:type="dcterms:W3CDTF">2008-07-01T19:33:15Z</dcterms:modified>
  <cp:revision>47</cp:revision>
  <dc:subject/>
  <dc:title>  MEDIOS AUXILIARES PARA LA DETERMINACION DE LAS REGLAS DE DERECHO INTERNACIONAL </dc:title>
</cp:coreProperties>
</file>