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412-772A-43D4-8E3F-3EF15056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9C6-33F4-48D0-A9AB-B96ED16D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27A-E35C-4D70-A3F9-A6CDE0F6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1BB-F3E4-4769-B65F-F03C8C19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3222-6558-46E6-9027-97C81BC2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A20F-A024-401D-A562-3783AB6A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BAA4-B9E7-4600-879D-2D6282A6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5D55-E2B9-48AF-A1B6-A127C68C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CA6B-C963-4124-B0E2-2E163E21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BF48-BBF9-4C2E-9BCF-DC4ECBB4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2442-5710-4CF1-BD3C-17C08B53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24A-3FD5-4388-934F-7F8AE5FA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E11F-528B-4F7F-8D06-051AF74A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4CD4-0BAB-4E6E-810C-2E518297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7A5D-0DB2-4AE0-9F5C-F92E2878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5593-149E-4A49-B18F-D26619D0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9E7E-F0E3-4C6C-BD12-D5FB3383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1C9-58AC-4572-B73D-52705A8F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48E-4B80-4550-9406-A83BD60B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EA46-43D6-41AA-B15C-CA4D024E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737-F866-41D3-932F-FF24CB11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F72-95C7-484C-88A5-800732BE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998-CCB7-4904-8BA8-C288F014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EF2-3FA7-4A51-AB34-BB354BF6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1702-A3B2-41C8-B254-78A120B6F4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10AF-5072-40EA-AF3B-5303AD0EF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UENTES NO CONTENIDAS EN EL 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RTICULO 38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580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50840" y="1447920"/>
            <a:ext cx="7712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s de Reconocimient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alidad de insurrectos, de beligerantes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evos estados y gobiern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ones territorial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tensión de un tercer estado sobre extensión del Mar territoria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ineas de base rec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idad de una persona otorgada por otro estad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4</a:t>
            </a:r>
            <a:r>
              <a:rPr b="0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-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a Protesta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1066680"/>
            <a:ext cx="7788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medio por el cual un Estado procura impedir que se forme un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umbre o un estado de cosas que le sea perjudicial, seacon referencia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situación determinada o a una pretensión de un tercer Estad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la contrapartida del reconocimiento; aquí no se admite o reconoce com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o un acto, pretención o situació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Se evita que se estime que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lencio implique reconocimient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Pese a ser un acto unilateral se dirig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otro sujeto de derecho internacional, que se ha hecho culpable de un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olación o amenaza contra el Estado autor  de la protes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e ser clara, frente a una situación bien determinada y pronta  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plazo razonabl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s importante el elemento repetición la cual debe se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tas veces como sea necesari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 que el silencio puede dar lug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estoppe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Asi Argentina protesta en forma continua de la ocupación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slas MALVINAS por Inglaterr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99072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 caso es el del templo de Preah Vigar en el cual el silencio de Siam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ilandi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ecto al trasado de la frontera Siam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boya hecho en u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a por oficiales franceses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icaba aceptación por parte de Siam pais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cho tratad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n este caso no hubo reacción en un plazo considerabl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casos de protes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el gobierno del Presidente Gonzalez Videla proclamó la doctrin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s 200 millas, hubo protestas de diversos Estad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e proclamó por Chile la linea de base recta hubo una protes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gentin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eriormente por tratado de Paz y Amistad Argentina reconoció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cha linea de base rec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Gobierno de Chile protestó en Junio de 1989 por la resolución 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ralia de expulsar al Sr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chanan, en vez de cumplir el procedimient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dición pedido por Chil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5</a:t>
            </a: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-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a Renuncia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523880"/>
            <a:ext cx="7864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la declaración unilateral mediante la cual un Estado abandona un derech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facultad, una pretensión u otra reclamació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ser abandono de derecho no se presum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n el caso del lotus se dijo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limitaciones a la independencia no se presumia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n el tratado de Paz de 1951, Japón renunció a toda pretensión 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quier derecho sobre cualquier parte de la Antártic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renuncia puede ser expresa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érminos explícitos o formales o táci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parece inequivocamente la intención de renunciar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derechos que pude renunciarse estan los territoriales, la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araciones, la reclamación por violación a inmunidad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lomáticas,etc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OS ACTOS JURIDICOS INDIVIDUALES</a:t>
            </a:r>
            <a:r>
              <a:rPr b="1" lang="es-E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914400"/>
            <a:ext cx="78642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manifestaciones de voluntad que provienen de un solo sujeto de der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y que producen efectos en elorden internaciona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ividen e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s estatales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s de organizaciones internacionale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a Jurídic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ueden ser considerados como fuentesde derecho internacional?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ecto de los actos estatales ¿en que medida y bajo que form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ir fuentes de derecho y producir efectos contra otros estados que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 participado ni consentido en elllos?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ecto de las organizaciones internacionales, su naturaleza de fuente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pende de los poderes que se les otorgaron en sus acto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tiv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  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CTOS JURIDICOS UNILATERALES DE LOS  ESTADOS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600200"/>
            <a:ext cx="7848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ser fuentes de derecho internaciona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sito de estos actos para que se consideren autenticos acto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laterales y fuente de derecho internaciona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an la manifestación de voluntad de un solo estad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 validez sea independiente de otros actos juridicos,o sea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te de actos autónom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Si dependen de otro acto jurídico, ya no es 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derecho acto unilatera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La reserva, la adhesión, l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ción de aceptación de competencia de la CIJ, según el art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 de su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tut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c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tengan en derecho significación de carácter internacional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situación jurídica respecto de ese estad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sta situación está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da por el derecho internaciona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219320"/>
            <a:ext cx="7711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 general son actos escritos como exepción se cita la declaración d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o de Relaciones Exteriores de Noruega Sr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HLEN en el cas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enlandia oriental, por la que hizo saber al Ministro de Dinamarca que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bierno Noruego no pondria dificultades al arreglo del asunt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enlandia, de manera que no reclamaba territorios en esa Isl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l cas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ayos nucleares en la atmósfera, tenia elementos verbales y escritos so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tifi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romes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onocimient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rotest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Renunci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1</a:t>
            </a: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-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a Notificación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1295280"/>
            <a:ext cx="7788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 por el cual el estado comunica oficialmente a otro un hech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ón , una acción o un documento, que produce efecto de derecho y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á en consecuencia desde ese momento legalmente conocido por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inatario²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La notificación que Chile hizo del Decreto que delimitaba sus lineas de base rec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Otorgar certeza lega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ció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ultativa, ejempl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Ruptura delas relaciones diplomáticas 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ción de neutralidad, reconocimiento de estado y de gobiern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371600"/>
            <a:ext cx="7848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toria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nque los ejemplosque van a continuación puede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rse como no auténtic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ción de Minas submarina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ya-1907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ción de bloqueo;declaración de Londres -1909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ción al Secretario General de la ONU sobr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jurisdicción voluntaria de la CIJ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 est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ción de envío de expedición a la Antártica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ártico art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7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59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2</a:t>
            </a: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-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a Promesa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19320"/>
            <a:ext cx="807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eclaración unilateral de voluntad por la cual un estado s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omet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adoptar un determinado comportamiento en el futuro HL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muy pocos los casos de promesas; por lo general los estados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siones espontaneas y gratuita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que tenga efecto jurídico es necesari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fectue publicament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 intención de obligars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necesario que de dirijan a un estado determinado ni se requier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otro estad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1295280"/>
            <a:ext cx="784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aso de Groenlandia Oriental; el Ministro IHLEN declaró que su pais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lamaria territorio en Groenlandi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aso de los ensayos nucleares; el Presidente de Francia y su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os de Relaciones Exteriores declararon que su pais se ab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dri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r ensayos nucleares en la atmósfer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declaraciones oblig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estado que las hizo en las condicion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das basadas en el principio de buena fé y en la obligación de respet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convicciones que se han hecho nacer por su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rtamient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3</a:t>
            </a: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-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l Reconocimiento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447920"/>
            <a:ext cx="7788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 mediante el cual se admite como legitimo un determinado estad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s o una determinada pretensió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acto discrecional; es el acto opuesto a al protes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ct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Otorga legitimidad a un acto o situación; éstos pasan a se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nibles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 lo reconoció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s efecto declarativo transforma una situación de h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situación jurídic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ció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cha en términos explícitos y formale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lomátic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áci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Se desprende de actos o conductas inequivoca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jemplo mantención  de agentes diplomáticos frente a un nuevo gobiern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12:27:32Z</dcterms:created>
  <dc:creator>Héctor Escobar</dc:creator>
  <dc:description/>
  <dc:language>en-US</dc:language>
  <cp:lastModifiedBy>Gilda</cp:lastModifiedBy>
  <dcterms:modified xsi:type="dcterms:W3CDTF">2008-07-02T06:00:04Z</dcterms:modified>
  <cp:revision>2</cp:revision>
  <dc:subject/>
  <dc:title>FUENTES NO CONTENIDAS EN EL  ARTICULO 38 </dc:title>
</cp:coreProperties>
</file>