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0BB-7222-4D37-898E-17160F87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A9B-F394-418D-A89F-37D68D41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D5D-57B2-40A6-A9DE-4E57F733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82A-39A1-41D6-B32C-23130D79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F025-7685-4CB5-82FA-0F153190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AED3-12B9-4798-96C6-830557AA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0674-D353-4C90-A4AD-2F581A1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4142-FB81-4244-A9E1-A4EC6656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369C-0925-48B5-9E5D-DBE86933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7768-F16B-403D-90E2-88A7E0D0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A2F2-89EB-4CC7-B9B5-584A8FD6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4D7-7F4D-4B5F-9905-E19DB3BA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812F-DE1B-4ACA-9E4F-B96482AE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B7E-2377-4CA8-A9E0-AC6BB0E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64AB-A9F7-441C-A2A2-5EEB56E8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DAC7-476A-4335-B3DC-1723B43E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A555-790C-4AC8-BE4C-3F8B1A63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C2D-257E-498E-92F2-8D60C207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B61-6F7A-4F07-A06A-C5EEB3CE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BAD-6BF7-4816-A027-95E10A32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1EE-A1D9-4803-A3B2-57306F6F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D39-DEEF-4C58-B600-8A0B724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109-3A4D-43D8-B05E-53929FD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241-E836-4BDC-9FFA-0D4192A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E1B-019D-4582-9049-39FD409BC5C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7DC-0514-49C8-A578-9223E4E6462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7488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e941c"/>
                </a:solidFill>
                <a:latin typeface="Times New Roman"/>
              </a:rPr>
              <a:t>LOS PRINCIPIOS GENERALES DEL DERECHO RECONOCIDOS POR LAS NACIONES CIVILIZAD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77691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y, por consiguiente,insta a todos los Estados a que se guíen por esos  principios en su comportamiento internacional y a que desarrollen  sus relaciones mutuas sobre la base del estricto cumplimiento de esos principio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74898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Es fuente principal de D.Int.P.(en el hecho es fuente subsidiaria: normalmente se acudirá a ella cuando no se encuentren normas en tratados o costumbres, aplicables a un caso determinad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CONCEP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0722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n" principios que existe y estan establecidos en el derecho interno de los estados"(Quoc Dinh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 de "cierto numero de principios que constituyen el fondo común de todos los sistemas jurídicos"(Paúl Reu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CARACTERISTIC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26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 una fuente primaria y autónoma de D.Int.P.; tiene una existencia independiente de los tratados y la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u objetivo es dar normas jurídicas que solucionen los casos no contemplados en dichas fu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No se trata de una aplicación completa y exacta de normas de diferentes ordenamientos jurídicos, sino de retener su espíritu común, sus aspectos esenciales y razonar por ana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SITUACION ACTUAL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7812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Hoy han perdido importancia como fuente ya que gran parte de ellos se encuentran incorporados en el derecho internacional convencional o consuetudinario (entre otros, la buena fe, lo pactado obliga, la autoridad de cosa juzgada, nadie puede ser juez y par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7769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 el caso Barcelona  Traction, a falta de  norma convencional o consuetudinaria, se acudió a los principios generales, y se distinguió entre sociedad y accionistas, y se concluyo que la demanda debía ser dirigida a la sociedad  y no a cada uno de  los soc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76215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NO DEBEN CONFUNDIRSE CON LOS PRINCIPÌOS GENERALES DEL DERECHO INTERNACIONAL PUBLIC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os son aquellos principios generales establecidos o que se deducen de las costumbres y convenciones en vig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manera que son normas que están en vigencia internacional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7518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Vamos a  estudiarlos..en su oportunidad y  se encuentran, principalmente, en la resolución  Nº 2625. De 24 de Octubre de 1970 y se tit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"DECLARACION SOBRE LOS PRINCIPIOS DE DERECHO INTERNACIONAL REFERENTES A LAS RELACIONES DE AMISTAD Y A LA COOPERACION ENTRE LOS ESTADOS DE CONFORMIDAD CON LA CARTA DE LAS NACIONES UNIDA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 su parte final esta Declaración dice: " Los  principios de la Carta incorporados a la presente Declaración constituyen principios básicos de derecho internacio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1:44:15Z</dcterms:created>
  <dc:creator>GILDA CICCI SALAZAR</dc:creator>
  <dc:description/>
  <dc:language>en-US</dc:language>
  <cp:lastModifiedBy>GILDA CICCI SALAZAR</cp:lastModifiedBy>
  <dcterms:modified xsi:type="dcterms:W3CDTF">2006-05-31T03:59:49Z</dcterms:modified>
  <cp:revision>18</cp:revision>
  <dc:subject/>
  <dc:title>    LOS PRINCIPIOS GENERALES DEL DERECHO RECONOCIDOS POR LAS NACIONES CIVILIZADAS   </dc:title>
</cp:coreProperties>
</file>