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B75E-AF5E-434B-93E0-FD3BE6DA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FAB0-CAA1-48A8-B65B-81025490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55CE-4E04-46D0-8681-ED6CA8E6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8AF7-CDBF-4492-81DC-A14BDB5E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1207-23DE-4632-AEE6-8DD2D475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A13B-4A2E-4ECC-83AF-2EB14CD0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AB1A-F332-4C63-8CF8-A06FB472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67EB-F7D8-48AF-AD0B-F86F8B25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15F7-C50C-4133-89A0-B07061E5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421-247A-4EB7-8489-5A90DCFB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A9C-BB14-4944-B5C7-E5441455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928-88FD-4769-B221-4AE1A5DA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56AA-DC72-40E9-95EE-18A7D3897563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000000"/>
                </a:solidFill>
                <a:latin typeface="Calibri"/>
              </a:rPr>
              <a:t>Los tratados y los terceros Estad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alibri"/>
              </a:rPr>
              <a:t>Regla General: Efecto relativo de los tratados</a:t>
            </a:r>
            <a:br>
              <a:rPr sz="2900"/>
            </a:br>
            <a:r>
              <a:rPr b="0" lang="es-CL" sz="2900" spc="-1" strike="noStrike">
                <a:solidFill>
                  <a:srgbClr val="000000"/>
                </a:solidFill>
                <a:latin typeface="Calibri"/>
              </a:rPr>
              <a:t>solo crean derechos y obligaciones entre las parte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Art. 34. Norma general concerniente a terceros Estados.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Un tratado no crea obligaciones ni derechos para un tercer Estado sin su consentimient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Caso de tratados que prevén obligaciones para terceros Estad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35. Tratados en que se prevén obligaciones para terceros Estados.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Una disposición de un tratado dará origen a una obligación para un tercer Estado si las partes en el tratado tienen la intención de que tal disposición sea el medio de crear la obligación y si el tercer Estado acepta expresamente por escrito esa oblig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.-Intencion partes del tra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.- consentimiento escrito y por expreso del ter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e forma un acuerdo colate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obligación  para el tercero- nace del acuerdo colater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Que es un tratado bilateral que se forma p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Intención partes tratado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nsentimiento del ter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aso de los derech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Calibri"/>
              </a:rPr>
              <a:t>Art.-36. Tratados en que se prevén derechos para terceros Estados.</a:t>
            </a: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 1. Una disposición de un tratado dará origen a un derecho para un tercer Estado si con ella las partes en el tratado tienen la intención de conferir ese derecho al tercer Estado o a un grupo de Estados al cual pertenezca, o bien a todos los Estados y si el tercer Estado asiente a ello. Su asentimiento se presumirá mientras no haya indicación en contrario, salvo que el tratado disponga otra cos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2. Un Estado que ejerza un derecho con arreglo al párrafo I deberá cumplir las condiciones que para su ejercicio estén prescritas en el tratado o se establezcan conforme a ést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,. Intención partes conferir a un tercero- un grupo de terceros o a todos los terceros Est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.- Asentimiento del tercer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j. Tratado bilateral Chile Argentina 1881 en su art 5° establece un derecho para todos los terceros Estad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ibertad de navegación para los barcos de todos los terceros Estados por el Estrecho de Magall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Revocación o modificación de obligaciones o de derechos de terceros Estad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rt 37--1. Cuando de conformidad con el artículo 35 se haya originado una obligación para un tercer Estado, ta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obligación no podrá ser revocada ni modificada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sino con e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consentimiento de las partes en el tratado y del tercer Estado,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 menos que conste que habían convenido otra cosa al respec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2. Cuando de conformidad con el artículo 36 se haya originado un derecho para un tercer Estado, ta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derecho no podrá ser revocado ni modificado por las partes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si consta que se tuvo la intención de que el derecho no fuera revocable ni modificable sin el consentimiento del tercer Estado 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lación: tratado  costum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fecto generador- desarrollo progresivo del D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isión: Asamblea general ONU Art 13Carta 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dificar y desarrollar progresivamente el DIP por CDI Comisión Derecho Inter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rt.  38.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Normas de un tratado que lleguen a ser obligatorias para terceros Estados en virtud de una costumbre internacional.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o dispuesto en los artículos 34 a 37 no impedirá que una norma enunciada en un tratado llegue a ser obligatoria para un tercer Estado como norma consuetudinaria de derecho internacional reconocida como t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3:45:37Z</dcterms:created>
  <dc:creator>Gilda</dc:creator>
  <dc:description/>
  <dc:language>en-US</dc:language>
  <cp:lastModifiedBy>Gilda</cp:lastModifiedBy>
  <dcterms:modified xsi:type="dcterms:W3CDTF">2008-07-01T19:39:06Z</dcterms:modified>
  <cp:revision>12</cp:revision>
  <dc:subject/>
  <dc:title>Los tratados y los terceros Estados.</dc:title>
</cp:coreProperties>
</file>