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CEF72-F04C-4849-A591-911C52E37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46365-B985-4DED-A6D5-7018F84EE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3FC0F-06BE-4B14-9A6F-BA55DC741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44BB3-CDCE-4B8B-A861-E37B7F0A9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4635-344F-49DD-8B8F-A717A3836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BFD7-973C-4F64-AA57-B7A6228A0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AAE06-1098-4095-A1D2-E2DC5669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39410-E369-44E3-89EC-DCC33EADA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F416A-B759-4EE1-BCF6-BF58EAEBC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DAF44-667D-41AC-914A-CC281409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0BC4-F1E2-4CFD-A463-52C4B680C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B2425-8B0C-4612-A31E-C7CF19938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572B-316F-4336-AEB4-F5B5D4F98B7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1T19:58:45Z</dcterms:modified>
  <cp:revision>7</cp:revision>
  <dc:subject/>
  <dc:title>Aplicación de tratados sucesivos concernientes a la misma materia.</dc:title>
</cp:coreProperties>
</file>