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7616AC-BD08-44D0-B2CF-9BA7892650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FD74E-755C-45DA-80E5-EF42DA450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67D50F-0B4F-4764-81D6-F49C1A7533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BB871A-2A40-4A8B-9255-E8DA9D5478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A7439-DBCE-4EFD-8E0A-3E767A569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47AA8-B320-41FF-B16F-2D7249C0A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E01BA-868B-4211-AD7A-E3C58BEDB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0AE25-C4F2-4A99-A001-E61F705D7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A46FB-CCD4-4169-B9D1-FF5880D22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115FB-D410-455B-AFF8-437797F20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3A3F8-7E4C-4373-98CD-C0C53C45A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373AA-2354-424E-B46F-E4B86A4888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19DEE-0210-4342-8F60-F465C4124B87}"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Aplicación de tratados sucesivos concernientes a la misma materia.</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98989"/>
                </a:solidFill>
                <a:latin typeface="Calibri"/>
              </a:rPr>
              <a:t>ART 30.</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98989"/>
                </a:solidFill>
                <a:latin typeface="Calibri"/>
              </a:rPr>
              <a:t>Convencion Viena derecho de los Tratad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Primera Regla </a:t>
            </a:r>
            <a:endParaRPr b="0" lang="en-US" sz="4400" spc="-1" strike="noStrike">
              <a:solidFill>
                <a:srgbClr val="000000"/>
              </a:solidFill>
              <a:latin typeface="Calibri"/>
            </a:endParaRPr>
          </a:p>
        </p:txBody>
      </p:sp>
      <p:sp>
        <p:nvSpPr>
          <p:cNvPr id="44" name=""/>
          <p:cNvSpPr txBox="1"/>
          <p:nvPr/>
        </p:nvSpPr>
        <p:spPr>
          <a:xfrm>
            <a:off x="457200" y="1213920"/>
            <a:ext cx="8229600" cy="56437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n caso de conflicto entre las obligaciones que asumen los estados miembros de ONU, y las obligaciones derivadas de otro Tratado diferent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Priman siempre las obligaciones de la carta de ONU. Ej Obligaciones derivadas para Estado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de ONU</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y de resoluciones de órganos de ONU EJ. Consejo de Seguridad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Art. 24 y 25</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j. Tratado entre Chile e Irak</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Consejo de Seguridad en virtud art. 25 prohíbe comerciar con Irak</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Chile debe suspender el tratado con Irak</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Priman obligaciones Carta ONU</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Art 30-1. Sin perjuicio de lo dispuesto en el articulo 103 de la Carta de las Naciones Unidas, los derechos y las obligaciones de los Estados partes en tratados sucesivos concernientes a la misma materia se determinaran conforme a los párrafos siguientes.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457200" y="1071720"/>
            <a:ext cx="8229600" cy="5054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aso: en que tratado posterior especifica q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evalecen disposiciones del segundo trata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rt. 30 -2. Cuando un tratado especifique que está subordinado a un tratado anterior o posterior o que no debe ser considerado incompatible con ese otro tratado prevalecerán las disposiciones de este último.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457200" y="356760"/>
            <a:ext cx="8229600" cy="57690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aso en que 2° Tratado no dice nada respecto del primero.</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e debe entender que prevalece la última manifestación de volunta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Art. 30 -3. Cuando todas las partes en el tratado anterior sean también partes en el tratado posterior, pero el tratado anterior no quede terminado ni su aplicación suspendida conforme al articulo 59, el tratado anterior se aplicara únicamente en la medida en que sus disposiciones sean compatibles con las del tratado posterior.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aso en que en </a:t>
            </a:r>
            <a:br>
              <a:rPr sz="3200"/>
            </a:br>
            <a:r>
              <a:rPr b="0" lang="es-CL" sz="3200" spc="-1" strike="noStrike">
                <a:solidFill>
                  <a:srgbClr val="000000"/>
                </a:solidFill>
                <a:latin typeface="Calibri"/>
              </a:rPr>
              <a:t>primer tratado partes no son las </a:t>
            </a:r>
            <a:r>
              <a:rPr b="0" lang="es-CL" sz="2800" spc="-1" strike="noStrike">
                <a:solidFill>
                  <a:srgbClr val="000000"/>
                </a:solidFill>
                <a:latin typeface="Calibri"/>
              </a:rPr>
              <a:t>mismas que en 2° tratado</a:t>
            </a:r>
            <a:endParaRPr b="0" lang="en-US" sz="2800" spc="-1" strike="noStrike">
              <a:solidFill>
                <a:srgbClr val="000000"/>
              </a:solidFill>
              <a:latin typeface="Calibri"/>
            </a:endParaRPr>
          </a:p>
        </p:txBody>
      </p:sp>
      <p:sp>
        <p:nvSpPr>
          <p:cNvPr id="50" name=""/>
          <p:cNvSpPr txBox="1"/>
          <p:nvPr/>
        </p:nvSpPr>
        <p:spPr>
          <a:xfrm>
            <a:off x="457200" y="1599840"/>
            <a:ext cx="8229600" cy="5257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Art. 30-4. Cuando las partes en el tratado anterior no sean todas ellas partes en el tratado posterior: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a) en las relaciones entre los Estados partes en ambos tratados se aplicará la norma enunciada en el párrafo 3: ( se aplica la ultima manifestación de voluntad en caso que tratado nada dispong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b) en las relaciones entre un Estado que sea parte en ambos tratados y un Estado que sólo lo sea en uno de ellos, los derechos y obligaciones recíprocos se regirán por el tratado en el que los dos Estados sean parte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03:32:10Z</dcterms:created>
  <dc:creator>Gilda</dc:creator>
  <dc:description/>
  <dc:language>en-US</dc:language>
  <cp:lastModifiedBy>Gilda</cp:lastModifiedBy>
  <dcterms:modified xsi:type="dcterms:W3CDTF">2008-07-02T06:05:48Z</dcterms:modified>
  <cp:revision>7</cp:revision>
  <dc:subject/>
  <dc:title>Aplicación de tratados sucesivos concernientes a la misma materia.</dc:title>
</cp:coreProperties>
</file>