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30F-C45A-42A3-9101-D61D6DB2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5CE-4316-4FE4-A6DC-9011083A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8ED-4110-4E31-80B5-9052DAF3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D1A-1A17-444E-8E35-C78874C6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7A01-F415-42CD-B681-34981AD6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1E89-41CD-4FAC-A96C-F036028D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ADF4-B08C-466E-B2AE-9B420091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3068-BC56-40B0-9F05-FF9C3EA4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78AF-CED0-44CD-AEF5-8A69E730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5C52-1605-44BC-9BE6-E633CEE1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2D83-1B92-44F6-B81E-F9E21B49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C45-16E7-4296-908B-6DD851C9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C689-2AD1-4F48-A799-121FE688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05FB-001A-4187-9650-5CD0A1F5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2981-1F89-496B-B0B4-153C3515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25AE-EFFF-463F-B81F-D027317D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A9A1-E87C-43D2-A2CE-FB8D99AD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965-4762-48E1-A92B-668225C7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33E-CE50-4D57-8801-BCAB0E25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DD2-A048-4855-BEE2-027E349E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86B-29AC-4993-81C4-15BEC947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0FD-0C34-4E7E-9EA3-A11E4C4B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C16-68BC-47FA-9156-4969A8C7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46C-56F7-4D4A-9865-122FCF78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5324-095A-4F68-9382-C9BFAE57260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D5C7-469A-41B0-BF09-51ECAB245F1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233280"/>
            <a:ext cx="77724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 </a:t>
            </a:r>
            <a:br>
              <a:rPr sz="4400"/>
            </a:br>
            <a:r>
              <a:rPr b="0" lang="es-ES_tradnl" sz="3200" spc="-1" strike="noStrike">
                <a:solidFill>
                  <a:srgbClr val="ccffff"/>
                </a:solidFill>
                <a:latin typeface="Arial Black"/>
              </a:rPr>
              <a:t>MEDIOS AUXILIARES PARA LA DETERMINACION DE LAS REGLAS DE DERECHO INTERNACIONAL</a:t>
            </a:r>
            <a:r>
              <a:rPr b="0" lang="es-E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Profesor Alberto Riose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Facultad de Derecho Universidad de Chi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Derecho Internacional Publi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 Opinion Consultiva respecto de la Convencion sobre el genocidio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establecio el principi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que solo proced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reserva siempre que hubiere conformidad con el objeto y fin del trata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DOCTRIN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norma del art,38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 a la doctrin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os publicista de mayor competenc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firiéndose solo a individuo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ero hoy tiene especial importancia la  opinión de Asociaciones y Sociedades  especializadas en Derecho Internacional, com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Institut de Droit International,la International Law Association,el Instituto Hispano Luso Americano de Derecho Internacional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or otra parte , organizaciones internacioinales han creado organos consultivos, como en la ONU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Comision de Derecho Internacional, :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OEA, el Comite Juridico Interamericano. En el Consejo de Europa, el Comite Europeo de Cooperacion juridica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Tiene menor importancia que la Jurisprudencia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in embargo  la doctrina fue fundamental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el desarrollo del Derecho de Gentes 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Y posteriorment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los siglos XVIII y. , XIX, en que se citaba  frecuentemente en las sentencias arbítrales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reemos que la doctrina 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actualidad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ntribuye a determinar la existencia de la norma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analizarl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sistematizarla 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formular recomendaciones destinadas a mejorarl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art.38 del Estatuto de la C.I.J.,parrafo 1,letra d) establece como medios auxiliares para determinar las normas de Derecho Internacional:  "las decisiones judiciales y las doctrinas de los poblicistas de mayor competencia 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"las decisiones judiciales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octrinas de los publicistas de mayor compet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 JURISPRUDENCIA.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s el conjunto de reglas jurídica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se  desprenden d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ecisiones judiciales" (Pastor Ridruejo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propiamente una fuente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in embargo  tiene un papel fundamental  para demostrar la existencia de una norma, determinar su alcance y aclarar su conteni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demas la jurisprudencia cumple un papel muy importante en la formación y prueba de una norma consuetudinar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os fallos,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tanto judiciale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arbítrales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n con frecu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 jurisprudencia constant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s sentencias de la C I J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le dio un valor relativo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lo dice el  art, 38 del Estatuto: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decisión de la Cort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obligatoria sino para las partes en litigio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specto del caso que ha sido decidido"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o se siguió el principio de "·stare decisis" de los paises del Common Law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egún el cual los fallos de los Tribunales Superiores constituyen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un precedente que tiene el valor de fuente de derech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umerosos principios y normas de derecho internacional han recibido su consagración con motivo de fallos  judicial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jemplos: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de las Pesquerías Anglo Noruegas, que estableció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principio de las líneas de base rectas para medir la anchura del mar territorial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Nottebon que formulo el principio de la necesidad de un vinculo real y efectivo de nacionalidad como base para hacer efectiva la proteccion diplomatica.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21:22:34Z</dcterms:created>
  <dc:creator>profesmp</dc:creator>
  <dc:description/>
  <dc:language>en-US</dc:language>
  <cp:lastModifiedBy>Gilda</cp:lastModifiedBy>
  <dcterms:modified xsi:type="dcterms:W3CDTF">2008-07-01T19:33:15Z</dcterms:modified>
  <cp:revision>47</cp:revision>
  <dc:subject/>
  <dc:title>  MEDIOS AUXILIARES PARA LA DETERMINACION DE LAS REGLAS DE DERECHO INTERNACIONAL </dc:title>
</cp:coreProperties>
</file>