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596-4A90-406A-A529-6F516E8D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291-5E85-4C5B-9E94-7AB5F3D1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D39-15BA-45E0-AB45-C27D2F50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91A-8879-429F-9995-48776280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EB92-8ED3-4B90-92C3-AE30EB3C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937C-AA9B-4164-9EC6-1D141069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89CF-6591-47A5-9822-0C8950F7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3809-44F7-4893-A185-621EF04B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CF01-381A-420F-A8EA-C1955F7E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17B6-C384-490F-801A-9E76CF63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D2B2-1115-48C2-B395-C86F6B73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51F-C44A-4A9D-B0AC-050C8480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E621-4C4A-480F-AA20-1EB7D25A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C1D6-75E7-4E26-8893-8096AB6C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D11C-6D30-4795-8C83-86C905F3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168D-3DFF-44E3-95F9-FD1249F2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FFF8-CE91-4D72-80ED-B5A77AA9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B888-9B80-4A32-AE3E-41B4AB49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8FFC-DDEF-4BC7-8A80-491E0842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53D-68D4-442E-A199-02F0FBAB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62CC-9429-4241-91F4-AD714755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D46-D0EB-427D-8C50-DF87F76A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B4E8-15BA-458F-9AF7-DFA037E7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CD2D-BCDD-46A8-BF85-C6286446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50A7-E735-44BF-B824-FB076ED8175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08D4-718B-48BF-A8CA-652C088688A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ffff"/>
                </a:solidFill>
                <a:latin typeface="Times New Roman"/>
              </a:rPr>
              <a:t>Fuentes del Derecho Internacional Públic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60000" y="425520"/>
            <a:ext cx="76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rarquía entre normas jurídicas inter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144440"/>
            <a:ext cx="8101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o hay jerarquía entre tratados y costum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xisten principios que se deben aplicar en caso de conflictos entre normas jurídicas internaciona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1º Normas de IUS COGENS: Normas Imperativas de Dº Internacional General (ver artículo 53 convención de Viena sobre Dº de los Tratados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2º no tratándose de normas de Ius Cogens se acude a los siguientes princip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1.- Ley Especial Deroga a la Ley Gener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2.- Ley Posterior Deroga a la Ley Anteri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* Tratados y Costumbres pueden derogarse recíproc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ffff"/>
                </a:solidFill>
                <a:latin typeface="Times New Roman"/>
              </a:rPr>
              <a:t>Generalidades.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03480" y="1447920"/>
            <a:ext cx="7940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lementos de los cuales emanan los principios y normas d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I.P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FUENTES MATERIALES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lementos históricos, políticos, económicos, sociales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ológicos y otros que han ido determinando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ido de las normas del D.I.P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FUENTES FORMALES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Procedimientos, medios, o actos a través de los cuales s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n, modifican, o extinguen las normas del D.I.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AS FUENTES FORMAL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7160" y="669960"/>
            <a:ext cx="80168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EN EL AMBITO INTERN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Las normas la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 el Poder Legislativo en su sistem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ciona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EN EL AMBITO DE LA COMUNIDAD INTERNACIONAL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Dado su carácter desentralizado no hay un poder legislativ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CLASIFICACION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FUENTES CONVENCIONALE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RATADOS)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FUENTES EXPONTANEA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STUMBRE Y PRINCIPIOS GENERAL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  DERECHO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-FUENTES AUTORITARI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SON UNA EXEPC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que distinguir:  LA FUENTE (Procedimiento por el cual se crea la norm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  LA NORMA MISMA ( Substancia de la regl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da).  Asi los TRATADOS da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gen a las NORMAS CONVENCIONALES, y la COSTUMBRE, a las NORM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UETUDINAR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CLASIFICACION DE LAS NORMAS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50840" y="1905120"/>
            <a:ext cx="8093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DE CARACTER GENERAL ,ABSTRACTO Y PERMANENTE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Estan destinadas a regir todas las situaciones concretas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an presentarse en el futuro. (Normas Consuetudinari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es, ejemplo responsabilidad internacional por hech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ícito, y principios generales de derecho).  Hay también normas convencionales de carácter general y abstracto, ejemplo l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ción de ONU  sobre el Derecho del Mar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DE CARACTER PARTICULAR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Estan destinadas a regir situaciones determinadas, ejemplo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 de Paz y Amistad de Chile y Argenti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ANALISIS DEL ARTICULO 38 DE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ESTATUTO DE  LA CORTE INTERNACIONAL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DE 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JUSTICIA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73080" y="1557360"/>
            <a:ext cx="8250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o actualmente vigente, tomado del estatuto de la corte permanente d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 internacional de 1920, que, aunque no lo dice expresamente s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iere a fuentes formales de derecho internacional Públic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exto del artículo 38 es el siguiente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1.- LaCorte cuya función es decidir conforme al Derecho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 las controversias que le sean sometidas, deberá aplicar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.- Las Convenciones Internacionales, sean generales 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ula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cen reglas expresamente reconocidas por lo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dos litigan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La Costumbre internacional como prueba de una practica ge-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ralmente aceptada como derech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50840" y="1233360"/>
            <a:ext cx="8093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-  Los principios generales de derecho reconocidos por l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es Civilizadas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- Las Deciciones Judiciales y las Doctrinas de los publicistas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or competencia de las distintas naciones, como medi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xiliar para la determinación de las reglas de derecho si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juicio de lo dispuesto en el arti. 59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2.- La presente disposición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nge la facultad de la Corte par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dir un letigio ex aequo et bono, si las partes así lo convinier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ACTERISTIC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parrafo 1º del art. 38 , nos revela que se esta refiriendo 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ntes de D.I.P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IMPORTANCI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762120"/>
            <a:ext cx="7924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universalidad, porque es norma vigente para los 191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dos miembro de la ONU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s la unica norma vigente sobre esta materia, además se alude a ella en la Convención del Derecho del Mar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Y es aplicada por Tribunales y Tratadista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ectos que comprende 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.- Las verdaderas fuentes formales (Tratados, costumbre y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 generales del derecho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.- los medios auxiliares para la determinación del derecho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Jurisprudencia y Doctrina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c.-- La opción de solicitar se falle en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quidad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 Parrafo   2º del art.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).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nque la mayoria opina que la equidad no es una fuente  de D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CRITICA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219320"/>
            <a:ext cx="775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No incluye todas las fuentes de DIP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2.- No contempla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arqui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fuent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ARA NOSOTROS   ES MAS UNA VIRTUD QUE UN DEFECT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3.- Coloca en un mismo parrafos fuentes y medios auxiliares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4.- Parece dar la misma importancia a doctrina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.;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tante el destacado papel de esta últim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5.- Emplea una expresión ya superada como es Naciones Civilizadas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83480" y="49212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Times New Roman"/>
              </a:rPr>
              <a:t>JERARQUÍA DE LAS FU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1554120"/>
            <a:ext cx="741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l artículo 38 del Estatuto se abstuvo de establecer una jerarquía entre las Fuentes formales princip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) En el proyecto de la convención se establecía que la aplicación de estas fuentes había de hacerse “por orden suscesivo”, la Asamblea General decidío suprimir dicho inciso por considerarlo inneces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) Usa letras para designar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) Solo establece un orden sucesivo de consideración (es un método operativo, no indica jerarquía, el tribunal puede aplicar varias fuentes en un mismo cas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23:54:51Z</dcterms:created>
  <dc:creator>Héctor Escobar</dc:creator>
  <dc:description/>
  <dc:language>en-US</dc:language>
  <cp:lastModifiedBy>Andres</cp:lastModifiedBy>
  <dcterms:modified xsi:type="dcterms:W3CDTF">2005-07-07T20:30:17Z</dcterms:modified>
  <cp:revision>16</cp:revision>
  <dc:subject/>
  <dc:title>Fuentes del Derecho Internacional Público</dc:title>
</cp:coreProperties>
</file>