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401-85B9-44BA-8EE0-C8EAC0D7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464-8373-4DE7-90CF-6F12FCD0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CDC-3618-4669-9687-94771D74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EC5-31C9-45C8-A5E2-851BE69C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BCBE-F9B3-4426-B4A1-57010BF2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21D1-C6B2-46FF-8C41-24D692E4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5918-15C6-42D5-9767-F6ADB21C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A68F-FFAC-4ACA-9FFA-53419B34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CD0F-02A7-4E97-828B-D684779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1AF6-3CA8-4F02-917D-2B71A29A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0F23-FC33-4A0D-A5B7-045584F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184-0C70-431A-86CB-6272D0E5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A24-598B-4B83-8E92-B2893B4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436F-F822-4640-AA4E-99E582B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7C4-38C7-4A1A-ACC9-FBCE1C55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F92-9A82-4DF6-965A-0A8E6C08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EEA-C899-492C-804F-4E50739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886-C84E-469C-B26E-71F7600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EA9-A851-4A22-BBF0-99EE198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F6F-FEA1-4A6A-A75B-3D8A725E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DC5-E4A7-414B-BBE6-ABC590F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A9B-EAD8-4150-8DCA-47F43C9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610-CAFE-406F-B171-6D79634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54A-C2E2-40CC-AA0A-7A17EAA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2C6-8B64-447B-B8A3-84C635F5C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F4A-D02A-4F64-84E4-518E68A07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UENTES NO CONTENIDAS EN EL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RTICULO 38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0840" y="1447920"/>
            <a:ext cx="7712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s de Reconocimient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lidad de insurrectos, de beligerantes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evos estados y gobiern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ones territorial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tensión de un tercer estado sobre extensión del Mar territo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idad de una persona otorgada por otro es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</a:t>
            </a:r>
            <a:r>
              <a:rPr b="0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testa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edio por el cual un Estado procura impedir que se forme 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umbre o un estado de cosas que le sea perjudicial, seacon referencia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determinada o a una pretensión de un tercer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contrapartida del reconocimiento; aquí no se admite o reconoce com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o un acto, pretención o situ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evita que se estime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cio implique reconoci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Pese a ser un acto unilateral se dirig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tro sujeto de derecho internacional, que se ha hecho culpable de u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ación o amenaza contra el Estado autor  de la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e ser clara, frente a una situación bien determinada y pronta  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plazo razonabl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importante el elemento repetición la cual debe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as veces como sea necesari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el silencio puede dar lug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oppe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Asi Argentina protesta en forma continua de la ocupación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slas MALVINAS por Inglater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99072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 caso es el del templo de Preah Vigar en el cual el silencio de Siam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i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al trasado de la frontera Siam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boya hecho en u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a por oficiales franceses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icaba aceptación por parte de Siam pai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o tra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ste caso no hubo reacción en un plazo considerab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casos de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l gobierno del Presidente Gonzalez Videla proclamó la doctrin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200 millas, hubo protestas de diversos Estad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e proclamó por Chile la linea de base recta hubo una protes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entin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riormente por tratado de Paz y Amistad Argentina reconoció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cha linea de base rec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Gobierno de Chile protestó en Junio de 1989 por la resolución 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 de expulsar al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chanan, en vez de cumplir el procedimie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dición pedido por Chil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5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523880"/>
            <a:ext cx="786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la declaración unilateral mediante la cual un Estado abandona un der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facultad, una pretensión u otra reclam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ser abandono de derecho no se presum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n el caso del lotus se dijo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limitaciones a la independencia no se presumia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n el tratado de Paz de 1951, Japón renunció a toda pretensión 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quier derecho sobre cualquier parte de la Antár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 puede ser expres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érminos explícitos o formales o tácit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parece inequivocamente la intención de renuncia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derechos que pude renunciarse estan los territoriales, l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raciones, la reclamación por violación a inmunidad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s,et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OS ACTOS JURIDICOS INDIVIDUALES</a:t>
            </a:r>
            <a:r>
              <a:rPr b="1" lang="es-E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914400"/>
            <a:ext cx="7864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anifestaciones de voluntad que provienen de un solo sujeto de der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y que producen efectos en elorden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ividen e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estatales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s de organizaciones internacion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Jurídic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ueden ser considerados como fuentesde derecho internacional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os actos estatales ¿en que medida y bajo que f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ir fuentes de derecho y producir efectos contra otros estados que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participado ni consentido en elllos?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ecto de las organizaciones internacionales, su naturaleza de fuente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pende de los poderes que se les otorgaron en su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tiv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CTOS JURIDICOS UNILATERALES DE LOS  ESTADOS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600200"/>
            <a:ext cx="784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ser fuentes de derecho internaciona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o de estos actos para que se consideren autenticos acto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laterales y fuente de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an la manifestación de voluntad de un sol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 validez sea independiente de otros actos juridicos,o sea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te de actos autónom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i dependen de otro acto jurídico, ya no es 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derecho acto unilater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reserva, la adhesión, l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aceptación de competencia de la CIJ, según el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de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tu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tengan en derecho significación de carácter internacional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situación jurídica respecto de ese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ta situación está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da por el derecho internacion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19320"/>
            <a:ext cx="7711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 general son actos escritos como exepción se cita la declaración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 de Relaciones Exteriores de Noruega Sr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HLEN en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 oriental, por la que hizo saber al Ministro de Dinamarca que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bierno Noruego no pondria dificultades al arreglo del asunt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enlandia, de manera que no reclamaba territorios en esa Isl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l cas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ayos nucleares en la atmósfera, tenia elementos verbales y escritos so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t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otest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nuncia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Notificación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778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por el cual el estado comunica oficialmente a otro un hecho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, una acción o un documento, que produce efecto de derecho y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á en consecuencia desde ese momento legalmente conocido por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ario²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La notificación que Chile hizo del Decreto que delimitaba sus lineas de base rec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r certeza lega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ativa, 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Ruptura delas relaciones diplomáticas 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de neutralidad, reconocimiento de estado y de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371600"/>
            <a:ext cx="78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ori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los ejemplosque van a continuación puede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rse como no auténtic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Minas submarin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ya-190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bloqueo;declaración de Londres -190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al Secretario General de la ONU sobr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jurisdicción voluntaria de la CIJ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es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ción de envío de expedición a la Antártica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ártico art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7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9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a Promesa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eclaración unilateral de voluntad por la cual un estado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omet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adoptar un determinado comportamiento en el futuro HLL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muy pocos los casos de promesas; por lo general los estado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siones espontaneas y gratuit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tenga efecto jurídico es necesari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fectue publicament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 intención de obligar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necesario que de dirijan a un estado determinado ni se requier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otro estad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29528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Groenlandia Oriental; el Ministro IHLEN declaró que su pais 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ria territorio en Groenlandi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aso de los ensayos nucleares; el Presidente de Francia y su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stros de Relaciones Exteriores declararon que su pais se ab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ri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nsayos nucleares en la atmósfer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declaraciones oblig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estado que las hizo en las condicion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das basadas en el principio de buena fé y en la obligación de respeta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convicciones que se han hecho nacer por su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he-IL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-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l Reconocimiento</a:t>
            </a:r>
            <a:r>
              <a:rPr b="1" lang="es-E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447920"/>
            <a:ext cx="7788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o mediante el cual se admite como legitimo un determinado estado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s o una determinada pretens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acto discrecional; es el acto opuesto a al protes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Otorga legitimidad a un acto o situación; éstos pasan a se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nibles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 lo reconoció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s efecto declarativo transforma una situación de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situación juríd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ificació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cha en términos explícitos y formal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mátic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ácita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Se desprende de actos o conductas inequivoca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Ejemplo mantención  de agentes diplomáticos frente a un nuevo gobierno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2:27:32Z</dcterms:created>
  <dc:creator>Héctor Escobar</dc:creator>
  <dc:description/>
  <dc:language>en-US</dc:language>
  <cp:lastModifiedBy>Gilda</cp:lastModifiedBy>
  <dcterms:modified xsi:type="dcterms:W3CDTF">2008-07-02T06:00:04Z</dcterms:modified>
  <cp:revision>2</cp:revision>
  <dc:subject/>
  <dc:title>FUENTES NO CONTENIDAS EN EL  ARTICULO 38 </dc:title>
</cp:coreProperties>
</file>