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B61-12DB-4EC0-B42E-F39D0045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185-BF68-4F7E-B22A-A6E1D24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F4A-E46B-4B0D-BB25-87578FB1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1CE-116E-4551-B3BB-4806E03B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FD4C-225A-44D9-85FE-0BC24C0B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CCD8-8722-425B-9664-78901BCF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3274-AFDB-4DF0-8025-90834D01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2AC9-6163-436E-89B9-701228C2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1350-8A0C-4D82-AEC4-556F045E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3B1C-6F0E-4C8B-A7DB-C79A0C75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9307-B44D-4A94-A7D3-3B4537B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76C-F72D-4B45-8288-B777BA1D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DED2-E620-4B30-85C0-AA60142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B1B2-78FD-4047-8A27-BD71EC41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084D-0553-4B94-A10C-250037E3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7415-8D94-4BE8-B2AD-45FCB685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DDC5-0453-4845-A3C6-2AF7A6E8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BAB-A9B5-48C6-967E-2FC9B829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43A-4AAD-467A-BD5A-F1746D9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C31-341E-497F-9767-285DC120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36C-72AA-4ABE-93C9-D755FDDE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C46-AD52-41B3-9BC7-B93C3F1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D19-19EC-4BE6-9181-95008469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820-F247-4CCE-85B2-66A1DE08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8ED3-AA43-4E45-BABF-5AE289A15B8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919D-CF69-47DA-AB05-75694D32425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748836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e941c"/>
                </a:solidFill>
                <a:latin typeface="Times New Roman"/>
              </a:rPr>
              <a:t>LOS PRINCIPIOS GENERALES DEL DERECHO RECONOCIDOS POR LAS NACIONES CIVILIZAD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77691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y, por consiguiente,insta a todos los Estados a que se guíen por esos  principios en su comportamiento internacional y a que desarrollen  sus relaciones mutuas sobre la base del estricto cumplimiento de esos principios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74898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Es fuente principal de D.Int.P.(en el hecho es fuente subsidiaria: normalmente se acudirá a ella cuando no se encuentren normas en tratados o costumbres, aplicables a un caso determinad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7e7ff"/>
                </a:solidFill>
                <a:latin typeface="Times New Roman"/>
              </a:rPr>
              <a:t>CONCEP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0722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n" principios que existe y estan establecidos en el derecho interno de los estados"(Quoc Dinh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 de "cierto numero de principios que constituyen el fondo común de todos los sistemas jurídicos"(Paúl Reu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7e7ff"/>
                </a:solidFill>
                <a:latin typeface="Times New Roman"/>
              </a:rPr>
              <a:t>CARACTERISTIC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726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 una fuente primaria y autónoma de D.Int.P.; tiene una existencia independiente de los tratados y la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u objetivo es dar normas jurídicas que solucionen los casos no contemplados en dichas fu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No se trata de una aplicación completa y exacta de normas de diferentes ordenamientos jurídicos, sino de retener su espíritu común, sus aspectos esenciales y razonar por ana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7e7ff"/>
                </a:solidFill>
                <a:latin typeface="Times New Roman"/>
              </a:rPr>
              <a:t>SITUACION ACTUAL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7812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Hoy han perdido importancia como fuente ya que gran parte de ellos se encuentran incorporados en el derecho internacional convencional o consuetudinario (entre otros, la buena fe, lo pactado obliga, la autoridad de cosa juzgada, nadie puede ser juez y par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7769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 el caso Barcelona  Traction, a falta de  norma convencional o consuetudinaria, se acudió a los principios generales, y se distinguió entre sociedad y accionistas, y se concluyo que la demanda debía ser dirigida a la sociedad  y no a cada uno de  los soc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76215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NO DEBEN CONFUNDIRSE CON LOS PRINCIPÌOS GENERALES DEL DERECHO INTERNACIONAL PUBLICO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stos son aquellos principios generales establecidos o que se deducen de las costumbres y convenciones en vig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manera que son normas que están en vigencia internacional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7518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Vamos a  estudiarlos..en su oportunidad y  se encuentran, principalmente, en la resolución  Nº 2625. De 24 de Octubre de 1970 y se tit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"DECLARACION SOBRE LOS PRINCIPIOS DE DERECHO INTERNACIONAL REFERENTES A LAS RELACIONES DE AMISTAD Y A LA COOPERACION ENTRE LOS ESTADOS DE CONFORMIDAD CON LA CARTA DE LAS NACIONES UNIDAS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 su parte final esta Declaración dice: " Los  principios de la Carta incorporados a la presente Declaración constituyen principios básicos de derecho internacio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1:44:15Z</dcterms:created>
  <dc:creator>GILDA CICCI SALAZAR</dc:creator>
  <dc:description/>
  <dc:language>en-US</dc:language>
  <cp:lastModifiedBy>GILDA CICCI SALAZAR</cp:lastModifiedBy>
  <dcterms:modified xsi:type="dcterms:W3CDTF">2006-05-31T03:59:49Z</dcterms:modified>
  <cp:revision>18</cp:revision>
  <dc:subject/>
  <dc:title>    LOS PRINCIPIOS GENERALES DEL DERECHO RECONOCIDOS POR LAS NACIONES CIVILIZADAS   </dc:title>
</cp:coreProperties>
</file>