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F4848-2456-48D7-9230-B957F288D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D7589-6B6C-4E0F-B5E8-03AC4CCCD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BE414-FB5D-45DB-B7D0-005291EA5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2A38A-037E-404B-8509-2CAA74371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12315E-B03D-4B48-A54E-F81363AEB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4BCAF-AA95-4D8B-9364-A340A77AC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FEC9D-0322-405B-B785-15FEF93F4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A29C9-5613-4BED-9928-3FE69CE09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44712-13B0-479F-A891-9E23BD5C9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E8771-DD5C-40DC-8D59-080551657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1AD77-9069-43A3-9FD6-08A6184F3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7D638-2ED7-4532-80A7-D92FF9198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34A36-A895-4AD9-8ACA-77741D840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0724F-B0F0-4D9B-9A5C-A7A705194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F56AC-B11B-42B1-9653-47B1481E7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86C79-F881-4681-88C5-592A6452B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C6BC3-8F09-42EF-B2C5-187FBFD764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BF391-4F08-4251-8C86-E9E93EB91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F9D2D-314C-4036-804F-1C44C470B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83BE8-130A-4D8B-BF67-726087D3A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53A19-0DC3-4256-B7B6-6FC746661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584B8-F06A-4122-BC89-83D82E845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62965-C774-4ABB-8AEF-94B63CC77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66013-451D-410E-ACBD-CA3C0D0DF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2D1D-4BB9-4CB6-907F-F39896269482}"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3F64-FAD3-4983-8B66-F691A50712E3}"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ccecff"/>
                </a:solidFill>
                <a:latin typeface="Arial"/>
              </a:rPr>
              <a:t>Solución de Controversias</a:t>
            </a:r>
            <a:br>
              <a:rPr sz="4800"/>
            </a:br>
            <a:r>
              <a:rPr b="0" lang="es-CL" sz="4800" spc="-1" strike="noStrike">
                <a:solidFill>
                  <a:srgbClr val="ccecff"/>
                </a:solidFill>
                <a:latin typeface="Arial"/>
              </a:rPr>
              <a:t>Internacionales.</a:t>
            </a:r>
            <a:endParaRPr b="0" lang="en-US" sz="4800" spc="-1" strike="noStrike">
              <a:solidFill>
                <a:srgbClr val="ccecff"/>
              </a:solidFill>
              <a:latin typeface="Arial"/>
            </a:endParaRPr>
          </a:p>
        </p:txBody>
      </p:sp>
      <p:sp>
        <p:nvSpPr>
          <p:cNvPr id="157" name="PlaceHolder 2"/>
          <p:cNvSpPr>
            <a:spLocks noGrp="1"/>
          </p:cNvSpPr>
          <p:nvPr>
            <p:ph type="subTitle"/>
          </p:nvPr>
        </p:nvSpPr>
        <p:spPr>
          <a:xfrm>
            <a:off x="899640" y="3885840"/>
            <a:ext cx="7272360" cy="21351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Julio Jáuregui M.</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Derecho Internacional Público – Gilda Cicci</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4280"/>
            <a:ext cx="8229600" cy="851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Negociaciones Directas</a:t>
            </a:r>
            <a:endParaRPr b="0" lang="en-US" sz="3200" spc="-1" strike="noStrike">
              <a:solidFill>
                <a:srgbClr val="ccecff"/>
              </a:solidFill>
              <a:latin typeface="Arial"/>
            </a:endParaRPr>
          </a:p>
        </p:txBody>
      </p:sp>
      <p:sp>
        <p:nvSpPr>
          <p:cNvPr id="174"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Verdana"/>
              </a:rPr>
              <a:t>Características</a:t>
            </a:r>
            <a:endParaRPr b="0" lang="en-US" sz="18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cuerdo Directo</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Sin intervención de un tercero</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artes directamente tratan de ponerse de acuerdo</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anifestación del ejercicio de las facultades de los Estados</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Conducir relaciones internacional</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Discutir, arreglar y eventualmente solucionar el conflicto</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nunciable</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Las bases de la negociación son renunciables mientras no se dicte un tratado que la fije.</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uede darse a distintos niveles (principalmente funcionarios diplomáticos)</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residente de la República: Diplomacia de cumbre o presidencial</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Canciller y otros funcionarios de la plana del servicio exterior.</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Interés directo</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Incluso puede darse para más de dos Estados</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structura flexible y carácter informal</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artes pueden acordar reglas Ad – Hoc</a:t>
            </a:r>
            <a:endParaRPr b="0" lang="en-US" sz="1400" spc="-1" strike="noStrike">
              <a:solidFill>
                <a:srgbClr val="ffffff"/>
              </a:solidFill>
              <a:latin typeface="Verdana"/>
            </a:endParaRPr>
          </a:p>
          <a:p>
            <a:pPr lvl="3" marL="1600200" indent="-228600" algn="just">
              <a:lnSpc>
                <a:spcPct val="80000"/>
              </a:lnSpc>
              <a:spcBef>
                <a:spcPts val="3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Verdana"/>
              </a:rPr>
              <a:t>Similar a las Negociaciones en D° Interno</a:t>
            </a:r>
            <a:endParaRPr b="0" lang="en-US" sz="12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lección no obligatoria</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En virtud de la libertad de medios</a:t>
            </a:r>
            <a:endParaRPr b="0" lang="en-US" sz="1400" spc="-1" strike="noStrike">
              <a:solidFill>
                <a:srgbClr val="ffffff"/>
              </a:solidFill>
              <a:latin typeface="Verdana"/>
            </a:endParaRPr>
          </a:p>
          <a:p>
            <a:pPr lvl="3" marL="1600200" indent="-228600" algn="just">
              <a:lnSpc>
                <a:spcPct val="80000"/>
              </a:lnSpc>
              <a:spcBef>
                <a:spcPts val="3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Verdana"/>
              </a:rPr>
              <a:t>En la práctica, es el primer medio, ya que da mayor posibilidad de entendimiento.</a:t>
            </a:r>
            <a:endParaRPr b="0" lang="en-US" sz="1200" spc="-1" strike="noStrike">
              <a:solidFill>
                <a:srgbClr val="ffffff"/>
              </a:solidFill>
              <a:latin typeface="Verdana"/>
            </a:endParaRPr>
          </a:p>
          <a:p>
            <a:pPr lvl="3" marL="16002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Verdana"/>
              </a:rPr>
              <a:t>Requisitos</a:t>
            </a:r>
            <a:endParaRPr b="0" lang="en-US" sz="18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Genuinas</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Buena Fe</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 constituyan meras formalidades para dilatar el conflicto</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3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 Buenos Oficios</a:t>
            </a:r>
            <a:endParaRPr b="0" lang="en-US" sz="3200" spc="-1" strike="noStrike">
              <a:solidFill>
                <a:srgbClr val="ccecff"/>
              </a:solidFill>
              <a:latin typeface="Arial"/>
            </a:endParaRPr>
          </a:p>
        </p:txBody>
      </p:sp>
      <p:sp>
        <p:nvSpPr>
          <p:cNvPr id="176" name="PlaceHolder 2"/>
          <p:cNvSpPr>
            <a:spLocks noGrp="1"/>
          </p:cNvSpPr>
          <p:nvPr>
            <p:ph/>
          </p:nvPr>
        </p:nvSpPr>
        <p:spPr>
          <a:xfrm>
            <a:off x="0" y="1267920"/>
            <a:ext cx="9144000" cy="518508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Un tercero busca lograr acercamiento entre las parte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Ofreciendo una sede</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niendo en contacto a las partes</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NO participa directamente en las negociaciones, y menos, tiene poder de decisión</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no se involucra en las negociacione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i así fuere, sería una mediación</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tervención tercero no finaliza hasta que hay acuerdo</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cuerdo queda plasmado en un Tratad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3. Mediación</a:t>
            </a:r>
            <a:endParaRPr b="0" lang="en-US" sz="3200" spc="-1" strike="noStrike">
              <a:solidFill>
                <a:srgbClr val="ccecff"/>
              </a:solidFill>
              <a:latin typeface="Arial"/>
            </a:endParaRPr>
          </a:p>
        </p:txBody>
      </p:sp>
      <p:sp>
        <p:nvSpPr>
          <p:cNvPr id="178" name="PlaceHolder 2"/>
          <p:cNvSpPr>
            <a:spLocks noGrp="1"/>
          </p:cNvSpPr>
          <p:nvPr>
            <p:ph/>
          </p:nvPr>
        </p:nvSpPr>
        <p:spPr>
          <a:xfrm>
            <a:off x="0" y="1267920"/>
            <a:ext cx="9144000" cy="5372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dan a uno o varios terceros el poder para mediar</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Ya sea por un tratado anterior al conflicto, o</a:t>
            </a:r>
            <a:endParaRPr b="0" lang="en-US" sz="18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r nota que se envía al mediador</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propone bases de solución </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ases son facultativas para las partes</a:t>
            </a:r>
            <a:endParaRPr b="0" lang="en-US" sz="18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ases no pueden ser consideradas un acto inamistoso</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Las organizaciones internacionales tienen la obligación de ofrecer sus oficios para mediar</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No finaliza hasta logrado un acuerdo</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mediador está entre las partes, pero no tiene facultades para decidir</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i fuera así, se convertiría en arbitraje</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cuerdos se plasman en un tratado</a:t>
            </a:r>
            <a:endParaRPr b="0" lang="en-US" sz="2000" spc="-1" strike="noStrike">
              <a:solidFill>
                <a:srgbClr val="ffffff"/>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4. Investigación</a:t>
            </a:r>
            <a:endParaRPr b="0" lang="en-US" sz="3200" spc="-1" strike="noStrike">
              <a:solidFill>
                <a:srgbClr val="ccecff"/>
              </a:solidFill>
              <a:latin typeface="Arial"/>
            </a:endParaRPr>
          </a:p>
        </p:txBody>
      </p:sp>
      <p:sp>
        <p:nvSpPr>
          <p:cNvPr id="180" name="PlaceHolder 2"/>
          <p:cNvSpPr>
            <a:spLocks noGrp="1"/>
          </p:cNvSpPr>
          <p:nvPr>
            <p:ph/>
          </p:nvPr>
        </p:nvSpPr>
        <p:spPr>
          <a:xfrm>
            <a:off x="0" y="1268280"/>
            <a:ext cx="9144000" cy="5516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involucradas encargan a una comisión la investigación de hecho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forme de la comisión no es vinculante</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isión no dirime el asunto de fondo, salvo que por principio de autonomía de las partes, den al informe carácter de vinculante</a:t>
            </a:r>
            <a:endParaRPr b="0" lang="en-US" sz="1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Origen histórico</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ferencias de La Haya de 1899 y 1907</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o creación de mecanismo alternativo al arbitraj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5. Conciliación</a:t>
            </a:r>
            <a:endParaRPr b="0" lang="en-US" sz="3200" spc="-1" strike="noStrike">
              <a:solidFill>
                <a:srgbClr val="ccecff"/>
              </a:solidFill>
              <a:latin typeface="Arial"/>
            </a:endParaRPr>
          </a:p>
        </p:txBody>
      </p:sp>
      <p:sp>
        <p:nvSpPr>
          <p:cNvPr id="182" name="PlaceHolder 2"/>
          <p:cNvSpPr>
            <a:spLocks noGrp="1"/>
          </p:cNvSpPr>
          <p:nvPr>
            <p:ph/>
          </p:nvPr>
        </p:nvSpPr>
        <p:spPr>
          <a:xfrm>
            <a:off x="0" y="1267920"/>
            <a:ext cx="9144000" cy="49690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solicitan a un órgano colegiado (Comisión de Conciliación) inspección personal de todos los aspectos de la controversia (hechos y derech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la investigación, en que ésta, sólo se pronuncia sobre cuestiones de hech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misión formula una propuesta de solución de carácter global y no vinculante</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la mediación, en que en ésta, la formulación de la propuesta no es un trámite obligatorio</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el arbitraje, ya que éste conoce sobre el hecho y el derecho, pero con carácter obligatori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Más rápido que los medios jurisdiccionale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 de utilización bastante excepciona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052640"/>
            <a:ext cx="8229600" cy="502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Medios Jurídicos</a:t>
            </a:r>
            <a:br>
              <a:rPr sz="4400"/>
            </a:br>
            <a:r>
              <a:rPr b="0" lang="es-CL" sz="4400" spc="-1" strike="noStrike">
                <a:solidFill>
                  <a:srgbClr val="ccecff"/>
                </a:solidFill>
                <a:latin typeface="Arial"/>
              </a:rPr>
              <a:t>de Solución</a:t>
            </a:r>
            <a:br>
              <a:rPr sz="4400"/>
            </a:br>
            <a:r>
              <a:rPr b="0" lang="es-CL" sz="4400" spc="-1" strike="noStrike">
                <a:solidFill>
                  <a:srgbClr val="ccecff"/>
                </a:solidFill>
                <a:latin typeface="Arial"/>
              </a:rPr>
              <a:t>de las Controversias</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5" name="PlaceHolder 2"/>
          <p:cNvSpPr>
            <a:spLocks noGrp="1"/>
          </p:cNvSpPr>
          <p:nvPr>
            <p:ph/>
          </p:nvPr>
        </p:nvSpPr>
        <p:spPr>
          <a:xfrm>
            <a:off x="-360" y="1339920"/>
            <a:ext cx="8999640" cy="5184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fera de competencia: todos los asuntos que los Estados determinen en los respectivos tratados</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gulada por la Conferencia de Paz de La Haya de 1907</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reación de la Corte Permanente de Arbitraje</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Lista de árbitros: cuatro juristas por Nación</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reación de reglas comunes </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Medio facultativo aún cuando se sea parte de la Conferencia de La Haya</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acultativo si requiere un acuerdo ulterior de las partes para constituir el tribunal; obligatorio, si pactada una cláusula arbitral, cualquiera de las partes demanda a la otra para resolver el conflicto</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jecución de la sentencia</a:t>
            </a:r>
            <a:endParaRPr b="0" lang="en-US" sz="20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udo tiene efecto obligatorio</a:t>
            </a:r>
            <a:endParaRPr b="0" lang="en-US" sz="18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jecución queda entregada a las parte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7" name="PlaceHolder 2"/>
          <p:cNvSpPr>
            <a:spLocks noGrp="1"/>
          </p:cNvSpPr>
          <p:nvPr>
            <p:ph/>
          </p:nvPr>
        </p:nvSpPr>
        <p:spPr>
          <a:xfrm>
            <a:off x="0" y="1322280"/>
            <a:ext cx="9144000" cy="5491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Definición</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ocedimiento jurisdiccional que tiene por objeto la solución de una controversia a través de un tercero, que dicta una solución (laudo arbitral) de carácter </a:t>
            </a:r>
            <a:r>
              <a:rPr b="0" i="1" lang="es-CL" sz="2000" spc="-1" strike="noStrike">
                <a:solidFill>
                  <a:srgbClr val="ffffff"/>
                </a:solidFill>
                <a:latin typeface="Verdana"/>
              </a:rPr>
              <a:t>obligatoria, </a:t>
            </a:r>
            <a:r>
              <a:rPr b="0" lang="es-CL" sz="2000" spc="-1" strike="noStrike">
                <a:solidFill>
                  <a:srgbClr val="ffffff"/>
                </a:solidFill>
                <a:latin typeface="Verdana"/>
              </a:rPr>
              <a:t>aplicando el Derecho Internacional.</a:t>
            </a:r>
            <a:endParaRPr b="0" lang="en-US" sz="20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Ventaj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Jueces son designados por las parte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pueden determinar las reglas del procedimiento</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n incluso indicarles el Derecho aplicable</a:t>
            </a:r>
            <a:endParaRPr b="0" lang="en-US" sz="18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Desventaj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ección de los árbitros pueden generar mayores conflict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n algunos tratados, cuando no hay consenso sobre el punto, la decisión recae en un tercero predefinid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oblemas idiomáticos entre las partes y los árbitro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seguridad del procedimiento que depende directamente de las part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9" name="PlaceHolder 2"/>
          <p:cNvSpPr>
            <a:spLocks noGrp="1"/>
          </p:cNvSpPr>
          <p:nvPr>
            <p:ph/>
          </p:nvPr>
        </p:nvSpPr>
        <p:spPr>
          <a:xfrm>
            <a:off x="0" y="1341360"/>
            <a:ext cx="9144000" cy="54007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Mecanismos para hacerlo efectivo</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Tratado general de arbitraje:</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ratado anterior al conflicto establece a éste como el medio de solución de las controversias</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Fija la competencia del tribu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rmalmente no caben los temas políticos</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stablece la composición del tribu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Unipersonal o pluripersonal (más de tres miembros)</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icta las normas generales del procedimiento</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Fase escrita u oral</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edios de prueba, etc.</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ñala las características de la sentencia</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Fundada en Derecho o no</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ipo de mayoría</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Quien dirime en caso de empate</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ujeción a algún recurso</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ecisa la duración del mecanismo</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Con plazo o indefinido</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1" name="PlaceHolder 2"/>
          <p:cNvSpPr>
            <a:spLocks noGrp="1"/>
          </p:cNvSpPr>
          <p:nvPr>
            <p:ph/>
          </p:nvPr>
        </p:nvSpPr>
        <p:spPr>
          <a:xfrm>
            <a:off x="0" y="1267920"/>
            <a:ext cx="9144000" cy="4797720"/>
          </a:xfrm>
          <a:prstGeom prst="rect">
            <a:avLst/>
          </a:prstGeom>
          <a:noFill/>
          <a:ln w="0">
            <a:noFill/>
          </a:ln>
        </p:spPr>
        <p:txBody>
          <a:bodyPr lIns="90000" rIns="90000" tIns="46800" bIns="46800" anchor="t">
            <a:normAutofit/>
          </a:bodyPr>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Compromiso</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sterior al conflicto</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cuerdo ad-hoc</a:t>
            </a:r>
            <a:r>
              <a:rPr b="0" lang="es-CL" sz="1800" spc="-1" strike="noStrike">
                <a:solidFill>
                  <a:srgbClr val="ffffff"/>
                </a:solidFill>
                <a:latin typeface="Verdana"/>
              </a:rPr>
              <a:t>	</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stablece el tribunal y las reglas básicas aplicables</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 darse por:</a:t>
            </a:r>
            <a:endParaRPr b="0" lang="en-US" sz="18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ratado anterior que fija una cláusula arbitral</a:t>
            </a:r>
            <a:endParaRPr b="0" lang="en-US" sz="16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cuerdo de los Estados para solucionar el conflicto vía arbitraje</a:t>
            </a:r>
            <a:endParaRPr b="0" lang="en-US" sz="16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promiso se extingue con el fin del proceso</a:t>
            </a:r>
            <a:endParaRPr b="0" lang="en-US" sz="1800" spc="-1" strike="noStrike">
              <a:solidFill>
                <a:srgbClr val="ffffff"/>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Cláusula compromisoria</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tenida en un tratado sobre cualquier materia </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ermite que una parte que tenga o crea tener un conflicto lleve a la otra a una corte arbitral</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ñala como se constituye el tribuna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Introducción</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relación entre el DIP y la Solución de las Controversias Internacionales es de una simbiosis, ya que por el principio de </a:t>
            </a:r>
            <a:r>
              <a:rPr b="0" i="1" lang="es-CL" sz="2400" spc="-1" strike="noStrike">
                <a:solidFill>
                  <a:srgbClr val="ffffff"/>
                </a:solidFill>
                <a:latin typeface="Verdana"/>
              </a:rPr>
              <a:t>Prohibición del uso o amenaza de la fuerza</a:t>
            </a:r>
            <a:r>
              <a:rPr b="0" lang="es-CL" sz="2400" spc="-1" strike="noStrike">
                <a:solidFill>
                  <a:srgbClr val="ffffff"/>
                </a:solidFill>
                <a:latin typeface="Verdana"/>
              </a:rPr>
              <a:t>, los Estados deben resolver sus conflictos a través de medios pacíficos, los cuales son estudiados por esta área del Derecho Internacional.</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ctualmente la solución de las controversias se basa en el Art. 2.3 de la Carta de la ONU: </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cc66"/>
                </a:solidFill>
                <a:latin typeface="Verdana"/>
              </a:rPr>
              <a:t>“</a:t>
            </a:r>
            <a:r>
              <a:rPr b="0" lang="es-ES_tradnl" sz="2400" spc="-1" strike="noStrike">
                <a:solidFill>
                  <a:srgbClr val="ffcc66"/>
                </a:solidFill>
                <a:latin typeface="Verdana"/>
              </a:rPr>
              <a:t>...arreglarán sus controversias internacionales por medios pacíficos de tal manera que no se pongan en peligro ni la paz y la seguridad internacionales ni la justicia”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3" name="PlaceHolder 2"/>
          <p:cNvSpPr>
            <a:spLocks noGrp="1"/>
          </p:cNvSpPr>
          <p:nvPr>
            <p:ph/>
          </p:nvPr>
        </p:nvSpPr>
        <p:spPr>
          <a:xfrm>
            <a:off x="-360" y="1341360"/>
            <a:ext cx="9109080" cy="5112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ompetencia</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mpugnación:</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opio tribunal arbitral conoce de su competencia o incompetencia</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ementos para fijar la competencia</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Materi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 hay límites, salvo que materia sea contraria al </a:t>
            </a:r>
            <a:r>
              <a:rPr b="0" i="1" lang="es-CL" sz="1600" spc="-1" strike="noStrike">
                <a:solidFill>
                  <a:srgbClr val="ffffff"/>
                </a:solidFill>
                <a:latin typeface="Verdana"/>
              </a:rPr>
              <a:t>jus cogens</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artes</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ismas con que se pactó: </a:t>
            </a:r>
            <a:r>
              <a:rPr b="0" i="1" lang="es-CL" sz="1600" spc="-1" strike="noStrike">
                <a:solidFill>
                  <a:srgbClr val="ffffff"/>
                </a:solidFill>
                <a:latin typeface="Verdana"/>
              </a:rPr>
              <a:t>Ratione Personae</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emporalidad</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egún retroactividad o irretroactividad del tratado: </a:t>
            </a:r>
            <a:r>
              <a:rPr b="0" i="1" lang="es-CL" sz="1600" spc="-1" strike="noStrike">
                <a:solidFill>
                  <a:srgbClr val="ffffff"/>
                </a:solidFill>
                <a:latin typeface="Verdana"/>
              </a:rPr>
              <a:t>Ratione Temporis</a:t>
            </a:r>
            <a:endParaRPr b="0" lang="en-US" sz="16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Recurso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terpretación</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el mismo tribunal que lo dictó</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uando a juicio de una de las partes se creó una controversia en virtud de la interpretación de la sentenci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Determina el sentido y la forma en como se aplica</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5" name="PlaceHolder 2"/>
          <p:cNvSpPr>
            <a:spLocks noGrp="1"/>
          </p:cNvSpPr>
          <p:nvPr>
            <p:ph/>
          </p:nvPr>
        </p:nvSpPr>
        <p:spPr>
          <a:xfrm>
            <a:off x="0" y="1267920"/>
            <a:ext cx="9144000" cy="4753080"/>
          </a:xfrm>
          <a:prstGeom prst="rect">
            <a:avLst/>
          </a:prstGeom>
          <a:noFill/>
          <a:ln w="0">
            <a:noFill/>
          </a:ln>
        </p:spPr>
        <p:txBody>
          <a:bodyPr lIns="90000" rIns="90000" tIns="46800" bIns="46800" anchor="t">
            <a:normAutofit/>
          </a:bodyPr>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visión</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el mismo tribunal que lo dictó</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uando, a juicio de una de las partes, un elemento está mal considerado o planteado en la sentencia</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produce por</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rror de hecho o hecho nuevo</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Documento falso o adulterado</a:t>
            </a:r>
            <a:endParaRPr b="0" lang="en-US" sz="16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pelación</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otro tribunal</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a de forma muy excepcio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ólo en regímenes muy acotados. Ej.: CIADI</a:t>
            </a:r>
            <a:endParaRPr b="0" lang="en-US" sz="16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Nulidad</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nstitución desarrollada sólo por reglas modelos de Derecho Internacional, no por tratados.</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ausales: Nulidad de compromiso, corrupción y exceso de pode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 </a:t>
            </a:r>
            <a:r>
              <a:rPr b="0" lang="es-CL" sz="3200" spc="-1" strike="noStrike">
                <a:solidFill>
                  <a:srgbClr val="ccecff"/>
                </a:solidFill>
                <a:latin typeface="Arial"/>
              </a:rPr>
              <a:t>2. Arreglo Judicial</a:t>
            </a:r>
            <a:endParaRPr b="0" lang="en-US" sz="3200" spc="-1" strike="noStrike">
              <a:solidFill>
                <a:srgbClr val="ccecff"/>
              </a:solidFill>
              <a:latin typeface="Arial"/>
            </a:endParaRPr>
          </a:p>
        </p:txBody>
      </p:sp>
      <p:sp>
        <p:nvSpPr>
          <p:cNvPr id="197" name="PlaceHolder 2"/>
          <p:cNvSpPr>
            <a:spLocks noGrp="1"/>
          </p:cNvSpPr>
          <p:nvPr>
            <p:ph/>
          </p:nvPr>
        </p:nvSpPr>
        <p:spPr>
          <a:xfrm>
            <a:off x="0" y="1268280"/>
            <a:ext cx="9144000" cy="482472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 generales</a:t>
            </a:r>
            <a:endParaRPr b="0" lang="en-US" sz="24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Tribunales permanentes</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soluciones obligatoria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acción por parte del Consejo de Seguridad</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unción análoga a la del arbitraje</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iferencia más importante: </a:t>
            </a:r>
            <a:endParaRPr b="0" lang="en-US" sz="18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ribunal constituido antes de que las partes acuerden recurrir a ese medio</a:t>
            </a:r>
            <a:endParaRPr b="0" lang="en-US" sz="16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Tribunales más importante</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Internacional de Justicia</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ribunal Internacional de Derecho del Mar</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Penal Internacional</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Interamericana de Derechos Humano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
        <p:nvSpPr>
          <p:cNvPr id="199" name="PlaceHolder 2"/>
          <p:cNvSpPr>
            <a:spLocks noGrp="1"/>
          </p:cNvSpPr>
          <p:nvPr>
            <p:ph/>
          </p:nvPr>
        </p:nvSpPr>
        <p:spPr>
          <a:xfrm>
            <a:off x="0" y="1125360"/>
            <a:ext cx="9144000" cy="5616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sado histórico: Corte Permanente de Justicia Internacional (1920) (Sociedad de Naciones)</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incipal órgano jurisdiccional de la ONU</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uncionamiento</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15 miembros electos por la Asamblea Gral. y C. Seguridad</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flejan la diversidad geográfica (no más de uno por Estad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ersonas de los más altos puestos en la carrera judicial o personas dotadas de gran competencia en D° Internacion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or regla no escrita hay un juez por cada miembro permanente de la ONU</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ueden haber </a:t>
            </a:r>
            <a:r>
              <a:rPr b="0" lang="es-ES" sz="1600" spc="-1" strike="noStrike">
                <a:solidFill>
                  <a:srgbClr val="ffffff"/>
                </a:solidFill>
                <a:latin typeface="Verdana"/>
              </a:rPr>
              <a:t>además jueces “ad- hoc” cuando en la corte  no hay miembros de alguno de los países que se enfrentan</a:t>
            </a:r>
            <a:r>
              <a:rPr b="0" lang="es-ES" sz="1600" spc="-1" strike="noStrike">
                <a:solidFill>
                  <a:srgbClr val="ffffff"/>
                </a:solidFill>
                <a:latin typeface="Verdana"/>
              </a:rPr>
              <a:t> </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 funcionar </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pleno, quórum mínimo: 9 miembros</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sala, sólo de manera excepcional</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u sede se encuentra en La Haya (Holanda)</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diomas oficiales: Inglés y Francés </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tatuto de la Corte es su norma fundament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utiliza como código de procedimiento</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lamento de la Corte precisa las normas sustantiva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0" y="1123920"/>
            <a:ext cx="9144000" cy="51134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ompetencia</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tenciosa</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ólo para conflictos interestatales</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quiere que Estados hayan aceptado someterse a su conocimiento, ví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un tratado general: cualquiera de las partes en el tratado puede llevar a otro Estado parte a la CIJ. Ej: Pacto de Bogotá</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láusula compromisoria: dentro de un tratado sobre otro tema, sirve para instaurar competencia respecto al objeto del tratado </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ompromiso: las partes de común acuerdo  deciden someter su conflicto al conocimiento de un tribunal permanente, luego de producido el conflict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Declaración en virtud de una cláusula facultativa: Acto unilateral de un Estado que es parte del estatuto y que declara unilateralmente aceptar la jurisdicción contenciosa de la CIJ. Puede ser formulada de tal manera que reserva la jurisdicción tanto en materia, tiempo o Estados con los cuales se someterá. Se puede pensar más aun el factor temporalidad instaurando un plazo resolutori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rorroga de competencia tácita: Aquella en que el Estado demandado que no ha reconocido la jurisdicción del tribunal, se presenta sin discutir la competencia alegando el fondo del asunto </a:t>
            </a:r>
            <a:endParaRPr b="0" lang="en-US" sz="1600" spc="-1" strike="noStrike">
              <a:solidFill>
                <a:srgbClr val="ffffff"/>
              </a:solidFill>
              <a:latin typeface="Verdana"/>
            </a:endParaRPr>
          </a:p>
        </p:txBody>
      </p:sp>
      <p:sp>
        <p:nvSpPr>
          <p:cNvPr id="201" name="PlaceHolder 2"/>
          <p:cNvSpPr>
            <a:spLocks noGrp="1"/>
          </p:cNvSpPr>
          <p:nvPr>
            <p:ph type="title"/>
          </p:nvPr>
        </p:nvSpPr>
        <p:spPr>
          <a:xfrm>
            <a:off x="457200" y="43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0" y="1369800"/>
            <a:ext cx="9144000" cy="501156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tenciosa</a:t>
            </a:r>
            <a:endParaRPr b="0" lang="en-US" sz="20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IJ debe aceptar la competencia, resolviendo conflictos de jurisdicción</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IJ puede adoptar </a:t>
            </a:r>
            <a:r>
              <a:rPr b="0" i="1" lang="es-CL" sz="1800" spc="-1" strike="noStrike">
                <a:solidFill>
                  <a:srgbClr val="ffffff"/>
                </a:solidFill>
                <a:latin typeface="Verdana"/>
              </a:rPr>
              <a:t>medidas provisionales o precautorias</a:t>
            </a:r>
            <a:r>
              <a:rPr b="0" lang="es-CL" sz="1800" spc="-1" strike="noStrike">
                <a:solidFill>
                  <a:srgbClr val="ffffff"/>
                </a:solidFill>
                <a:latin typeface="Verdana"/>
              </a:rPr>
              <a:t>, ya sea de oficio o a petición de partes</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debe juzgar, en principio, en Derecho, o facultado por el Art. 38 del Estatuto, </a:t>
            </a:r>
            <a:r>
              <a:rPr b="0" i="1" lang="es-CL" sz="1800" spc="-1" strike="noStrike">
                <a:solidFill>
                  <a:srgbClr val="ffffff"/>
                </a:solidFill>
                <a:latin typeface="Verdana"/>
              </a:rPr>
              <a:t>ex aequo et bono</a:t>
            </a:r>
            <a:r>
              <a:rPr b="0" lang="es-CL" sz="1800" spc="-1" strike="noStrike">
                <a:solidFill>
                  <a:srgbClr val="ffffff"/>
                </a:solidFill>
                <a:latin typeface="Verdana"/>
              </a:rPr>
              <a:t> (equidad)</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ecisión final: vinculante</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cursos</a:t>
            </a:r>
            <a:endParaRPr b="0" lang="en-US" sz="18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pelación: no es posible</a:t>
            </a:r>
            <a:endParaRPr b="0" lang="en-US" sz="16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Interpretación: de manera excepcional, por la propia corte</a:t>
            </a:r>
            <a:endParaRPr b="0" lang="en-US" sz="16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visión: al surgir un hecho nuevo de naturaleza decisoria, desconocido por la corte y por la parte que presenta el recurso, siempre que no haya habido negligencia en su ignorancia</a:t>
            </a:r>
            <a:endParaRPr b="0" lang="en-US" sz="16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n el caso de que una de las partes no cumpla el fallo, la parte ganadora puede acudir al Consejo de Seguridad para que éste imponga alguna medida coercitiva en los términos de la Carta de la ONU, para hacer efectiva la sentencia </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puede pronunciarse sobre una eventual </a:t>
            </a:r>
            <a:r>
              <a:rPr b="0" i="1" lang="es-CL" sz="1800" spc="-1" strike="noStrike">
                <a:solidFill>
                  <a:srgbClr val="ffffff"/>
                </a:solidFill>
                <a:latin typeface="Verdana"/>
              </a:rPr>
              <a:t>indemnización de perjuicios</a:t>
            </a:r>
            <a:endParaRPr b="0" lang="en-US" sz="1800" spc="-1" strike="noStrike">
              <a:solidFill>
                <a:srgbClr val="ffffff"/>
              </a:solidFill>
              <a:latin typeface="Verdana"/>
            </a:endParaRPr>
          </a:p>
        </p:txBody>
      </p:sp>
      <p:sp>
        <p:nvSpPr>
          <p:cNvPr id="203" name="PlaceHolder 2"/>
          <p:cNvSpPr>
            <a:spLocks noGrp="1"/>
          </p:cNvSpPr>
          <p:nvPr>
            <p:ph type="title"/>
          </p:nvPr>
        </p:nvSpPr>
        <p:spPr>
          <a:xfrm>
            <a:off x="468360" y="57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1341360"/>
            <a:ext cx="9144000" cy="4176720"/>
          </a:xfrm>
          <a:prstGeom prst="rect">
            <a:avLst/>
          </a:prstGeom>
          <a:noFill/>
          <a:ln w="0">
            <a:noFill/>
          </a:ln>
        </p:spPr>
        <p:txBody>
          <a:bodyPr lIns="90000" rIns="90000" tIns="46800" bIns="46800" anchor="t">
            <a:normAutofit/>
          </a:bodyPr>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sultiva</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esentadas por: Consejo de Seguridad, Asamblea General u órganos especiales de ONU (UNESCO, FAO, OMS, OIT, etc.)</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soluciones en éste ámbito no son vinculantes</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emite una opinión de carácter jurídico sobre algún asunto litigioso</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60% de las opiniones han provenido de la Asamblea General</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l establecer precedentes jurídicos, no se distingue entre fallos u opiniones consultivas</a:t>
            </a:r>
            <a:endParaRPr b="0" lang="en-US" sz="1800" spc="-1" strike="noStrike">
              <a:solidFill>
                <a:srgbClr val="ffffff"/>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5" name="PlaceHolder 2"/>
          <p:cNvSpPr>
            <a:spLocks noGrp="1"/>
          </p:cNvSpPr>
          <p:nvPr>
            <p:ph type="title"/>
          </p:nvPr>
        </p:nvSpPr>
        <p:spPr>
          <a:xfrm>
            <a:off x="457200" y="43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71280"/>
            <a:ext cx="91440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2 Tribunal Internacional de Derecho del Mar</a:t>
            </a:r>
            <a:endParaRPr b="0" lang="en-US" sz="3200" spc="-1" strike="noStrike">
              <a:solidFill>
                <a:srgbClr val="ccecff"/>
              </a:solidFill>
              <a:latin typeface="Arial"/>
            </a:endParaRPr>
          </a:p>
        </p:txBody>
      </p:sp>
      <p:sp>
        <p:nvSpPr>
          <p:cNvPr id="207" name="PlaceHolder 2"/>
          <p:cNvSpPr>
            <a:spLocks noGrp="1"/>
          </p:cNvSpPr>
          <p:nvPr>
            <p:ph/>
          </p:nvPr>
        </p:nvSpPr>
        <p:spPr>
          <a:xfrm>
            <a:off x="0" y="576360"/>
            <a:ext cx="9144000" cy="6237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de: Hamburgo</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hile acepta la competencia para conocer de controversias marítimas respecto de otros Estados que hayan reconocido igual competencia</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iene 10 años de antigüedad</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mporta un reforzamiento a las normas de la Convención de las Naciones Unidas sobre Derecho del Mar</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ulación de: </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Zona Económica Exclusiva (200 MM)</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lataforma Continent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edio ambiente marino, etc.</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gula jurisdicción, ya sea con una corte permanente (Tribunal Internacional de Derecho del Mar), o por una jurisdicción arbitr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gula el </a:t>
            </a:r>
            <a:r>
              <a:rPr b="0" i="1" lang="es-CL" sz="1600" spc="-1" strike="noStrike">
                <a:solidFill>
                  <a:srgbClr val="ffffff"/>
                </a:solidFill>
                <a:latin typeface="Verdana"/>
              </a:rPr>
              <a:t>Patrimonio común de la humanidad</a:t>
            </a:r>
            <a:r>
              <a:rPr b="0" lang="es-CL" sz="1600" spc="-1" strike="noStrike">
                <a:solidFill>
                  <a:srgbClr val="ffffff"/>
                </a:solidFill>
                <a:latin typeface="Verdana"/>
              </a:rPr>
              <a:t>, que son los minerales que están en el fondo marino</a:t>
            </a:r>
            <a:endParaRPr b="0" lang="en-US" sz="1600" spc="-1" strike="noStrike">
              <a:solidFill>
                <a:srgbClr val="ffffff"/>
              </a:solidFill>
              <a:latin typeface="Verdana"/>
            </a:endParaRPr>
          </a:p>
          <a:p>
            <a:pPr lvl="4" marL="2057400" indent="-228600" algn="just">
              <a:lnSpc>
                <a:spcPct val="80000"/>
              </a:lnSpc>
              <a:spcBef>
                <a:spcPts val="400"/>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Hay mecanismos especiales de solución de controversias en este aspect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Convención sobre D° del Mar acepta que algunas controversias no sean llevadas a tribunales internacionales, porque forman parte del ámbito interno de los Estados, es decir algunas medidas que adopten los estados en </a:t>
            </a:r>
            <a:r>
              <a:rPr b="1" lang="es-ES" sz="1600" spc="-1" strike="noStrike">
                <a:solidFill>
                  <a:srgbClr val="ffffff"/>
                </a:solidFill>
                <a:latin typeface="Verdana"/>
              </a:rPr>
              <a:t>sus</a:t>
            </a:r>
            <a:r>
              <a:rPr b="0" lang="es-ES" sz="1600" spc="-1" strike="noStrike">
                <a:solidFill>
                  <a:srgbClr val="ffffff"/>
                </a:solidFill>
                <a:latin typeface="Verdana"/>
              </a:rPr>
              <a:t> espacios marítimos y las controversias en las zonas propias de los Estados, no sean llevadas a un tribunal internacional (reglas de respeto de la soberanía de los Estados). </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demás, hay competencia facultativa, las cuales son </a:t>
            </a:r>
            <a:r>
              <a:rPr b="0" lang="es-ES" sz="1600" spc="-1" strike="noStrike">
                <a:solidFill>
                  <a:srgbClr val="ffffff"/>
                </a:solidFill>
                <a:latin typeface="Verdana"/>
              </a:rPr>
              <a:t>aquellas que los Estados pueden admitir como controversia  que puede ser llevada ante un tribunal. Ejemplo, es facultativo excluir las actividades militare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ecff"/>
                </a:solidFill>
                <a:latin typeface="Arial"/>
              </a:rPr>
              <a:t>Medios de Solución Pacífica de Controversias.</a:t>
            </a:r>
            <a:endParaRPr b="0" lang="en-US" sz="4000" spc="-1" strike="noStrike">
              <a:solidFill>
                <a:srgbClr val="ccecff"/>
              </a:solidFill>
              <a:latin typeface="Arial"/>
            </a:endParaRPr>
          </a:p>
        </p:txBody>
      </p:sp>
      <p:sp>
        <p:nvSpPr>
          <p:cNvPr id="161"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Los medios están señalados en el Art.. 33 de la Carta ONU: </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Verdana"/>
              </a:rPr>
              <a:t>  “… </a:t>
            </a:r>
            <a:r>
              <a:rPr b="0" lang="es-ES_tradnl" sz="2800" spc="-1" strike="noStrike">
                <a:solidFill>
                  <a:srgbClr val="ffcc66"/>
                </a:solidFill>
                <a:latin typeface="Verdana"/>
              </a:rPr>
              <a:t>susceptible de poner en peligro la paz y la  seguridad internacionales tratarán de buscarle solución, ante todo mediante la negociación, la investigación, la mediación, la conciliación, el arbitraje, el arreglo judicial, el recurso a organismos o acuerdos regionales u otros medios pacíficos a su elección.”</a:t>
            </a:r>
            <a:r>
              <a:rPr b="0" lang="es-ES_tradnl" sz="2800" spc="-1" strike="noStrike">
                <a:solidFill>
                  <a:srgbClr val="ffcc66"/>
                </a:solidFill>
                <a:latin typeface="Verdana"/>
              </a:rPr>
              <a:t>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De la lectura de la disposición se desprende el principio general de </a:t>
            </a:r>
            <a:r>
              <a:rPr b="0" i="1" lang="es-CL" sz="2800" spc="-1" strike="noStrike">
                <a:solidFill>
                  <a:srgbClr val="ffffff"/>
                </a:solidFill>
                <a:latin typeface="Verdana"/>
              </a:rPr>
              <a:t>Libre elección de los Medi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Definición de Controversia</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principal definición la encontramos en la CPJI, Asunto Mavrommatis de 1924:</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cc66"/>
                </a:solidFill>
                <a:latin typeface="Verdana"/>
              </a:rPr>
              <a:t>“ </a:t>
            </a:r>
            <a:r>
              <a:rPr b="0" lang="es-CL" sz="2400" spc="-1" strike="noStrike">
                <a:solidFill>
                  <a:srgbClr val="ffcc66"/>
                </a:solidFill>
                <a:latin typeface="Verdana"/>
              </a:rPr>
              <a:t>una controversia es un desacuerdo sobre un punto de derecho o de hecho, una contradicción, una oposición de tesis jurídicas o de intereses entre dos personas.”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e manera más reciente, la CIJ en la sentencia de 1998 sobre el Asunto de la frontera terrestre y marítima entre Camerún y Nigeria declaró: </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cc66"/>
                </a:solidFill>
                <a:latin typeface="Verdana"/>
              </a:rPr>
              <a:t>“</a:t>
            </a:r>
            <a:r>
              <a:rPr b="0" lang="es-CL" sz="2400" spc="-1" strike="noStrike">
                <a:solidFill>
                  <a:srgbClr val="ffcc66"/>
                </a:solidFill>
                <a:latin typeface="Verdana"/>
              </a:rPr>
              <a:t>para establecer la existencia de una controversia hay que demostrar que la reclamación de una parte se enfrenta al rechazo manifiesto de la otra parte y, además que la existencia de dicha controversia se determine de forma objetiv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Clases de controversia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principal distinción que hace la doctrina y la jurisprudencia apunta a las controversias </a:t>
            </a:r>
            <a:r>
              <a:rPr b="0" i="1" lang="es-CL" sz="2400" spc="-1" strike="noStrike">
                <a:solidFill>
                  <a:srgbClr val="ffffff"/>
                </a:solidFill>
                <a:latin typeface="Verdana"/>
              </a:rPr>
              <a:t>políticas</a:t>
            </a:r>
            <a:r>
              <a:rPr b="0" lang="es-CL" sz="2400" spc="-1" strike="noStrike">
                <a:solidFill>
                  <a:srgbClr val="ffffff"/>
                </a:solidFill>
                <a:latin typeface="Verdana"/>
              </a:rPr>
              <a:t> y las </a:t>
            </a:r>
            <a:r>
              <a:rPr b="0" i="1" lang="es-CL" sz="2400" spc="-1" strike="noStrike">
                <a:solidFill>
                  <a:srgbClr val="ffffff"/>
                </a:solidFill>
                <a:latin typeface="Verdana"/>
              </a:rPr>
              <a:t>jurídicas</a:t>
            </a:r>
            <a:r>
              <a:rPr b="0" lang="es-CL" sz="2400" spc="-1" strike="noStrike">
                <a:solidFill>
                  <a:srgbClr val="ffffff"/>
                </a:solidFill>
                <a:latin typeface="Verdana"/>
              </a:rPr>
              <a:t>.</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mayor distinción radica en los puntos en conflicto y en la forma de solución. Así, las </a:t>
            </a:r>
            <a:r>
              <a:rPr b="0" i="1" lang="es-CL" sz="2400" spc="-1" strike="noStrike">
                <a:solidFill>
                  <a:srgbClr val="ffffff"/>
                </a:solidFill>
                <a:latin typeface="Verdana"/>
              </a:rPr>
              <a:t>jurídicas</a:t>
            </a:r>
            <a:r>
              <a:rPr b="0" lang="es-CL" sz="2400" spc="-1" strike="noStrike">
                <a:solidFill>
                  <a:srgbClr val="ffffff"/>
                </a:solidFill>
                <a:latin typeface="Verdana"/>
              </a:rPr>
              <a:t> se refieren a la forma de aplicación del derecho vigente, por lo que se resuelven aplicando el derecho vigente. Las </a:t>
            </a:r>
            <a:r>
              <a:rPr b="0" i="1" lang="es-CL" sz="2400" spc="-1" strike="noStrike">
                <a:solidFill>
                  <a:srgbClr val="ffffff"/>
                </a:solidFill>
                <a:latin typeface="Verdana"/>
              </a:rPr>
              <a:t>políticas</a:t>
            </a:r>
            <a:r>
              <a:rPr b="0" lang="es-CL" sz="2400" spc="-1" strike="noStrike">
                <a:solidFill>
                  <a:srgbClr val="ffffff"/>
                </a:solidFill>
                <a:latin typeface="Verdana"/>
              </a:rPr>
              <a:t> son aquellas basadas en una pretensión cuya solución requiere la modificación del derecho vigente, por lo que se solucionan al alcanzar un nuevo acuerdo específico sobre la materia litigios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Evolución de la forma de solución de las controversias</a:t>
            </a:r>
            <a:endParaRPr b="0" lang="en-US" sz="3200" spc="-1" strike="noStrike">
              <a:solidFill>
                <a:srgbClr val="ccecff"/>
              </a:solidFill>
              <a:latin typeface="Arial"/>
            </a:endParaRPr>
          </a:p>
        </p:txBody>
      </p:sp>
      <p:sp>
        <p:nvSpPr>
          <p:cNvPr id="167" name="PlaceHolder 2"/>
          <p:cNvSpPr>
            <a:spLocks noGrp="1"/>
          </p:cNvSpPr>
          <p:nvPr>
            <p:ph/>
          </p:nvPr>
        </p:nvSpPr>
        <p:spPr>
          <a:xfrm>
            <a:off x="250920" y="1196640"/>
            <a:ext cx="8642160" cy="5661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nferencias de Paz: </a:t>
            </a:r>
            <a:r>
              <a:rPr b="0" lang="es-CL" sz="2000" spc="-1" strike="noStrike">
                <a:solidFill>
                  <a:srgbClr val="ffffff"/>
                </a:solidFill>
                <a:latin typeface="Verdana"/>
              </a:rPr>
              <a:t>Pre I Guerra Mundial</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La Haya 1899 y 1907: Surgen tribunales internacionales (aún vigentes), que regulan la guerra como el arbitraje.</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vención sobre solución pacífica de 1907 incorpora una cláusula para </a:t>
            </a:r>
            <a:r>
              <a:rPr b="0" i="1" lang="es-CL" sz="1800" spc="-1" strike="noStrike">
                <a:solidFill>
                  <a:srgbClr val="ffffff"/>
                </a:solidFill>
                <a:latin typeface="Verdana"/>
              </a:rPr>
              <a:t>“evitar en lo posible</a:t>
            </a:r>
            <a:r>
              <a:rPr b="0" lang="es-CL" sz="1800" spc="-1" strike="noStrike">
                <a:solidFill>
                  <a:srgbClr val="ffffff"/>
                </a:solidFill>
                <a:latin typeface="Verdana"/>
              </a:rPr>
              <a:t> el uso de la fuerza”. Por lo que no se está renunciando totalmente a ésta.</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ociedad de Naciones: </a:t>
            </a:r>
            <a:r>
              <a:rPr b="0" lang="es-CL" sz="2000" spc="-1" strike="noStrike">
                <a:solidFill>
                  <a:srgbClr val="ffffff"/>
                </a:solidFill>
                <a:latin typeface="Verdana"/>
              </a:rPr>
              <a:t>Históricamente no tuvo éxito.</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os estados someterán sus controversias a arbitraje y otros medios de solución pacífica, absteniéndose de usar la fuerza durante un periodo de latencia de la controversia (3 meses), y sólo podrán usarla luego de conocido el laudo arbitral</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Pacto Briand Kellog: </a:t>
            </a:r>
            <a:r>
              <a:rPr b="0" lang="es-CL" sz="2000" spc="-1" strike="noStrike">
                <a:solidFill>
                  <a:srgbClr val="ffffff"/>
                </a:solidFill>
                <a:latin typeface="Verdana"/>
              </a:rPr>
              <a:t>Pre II Guerra Mundi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Uso de la fuerza sólo a título de legítima defenza</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istema de seguridad colectiva de la ONU: </a:t>
            </a:r>
            <a:r>
              <a:rPr b="0" lang="es-CL" sz="2000" spc="-1" strike="noStrike">
                <a:solidFill>
                  <a:srgbClr val="ffffff"/>
                </a:solidFill>
                <a:latin typeface="Verdana"/>
              </a:rPr>
              <a:t>Vencedores II Guerra Mundi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ulación del empleo de la fuerza :limitación al uso, fabricación y transformación de las armas convencionales y de destrucción masiva.</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operación de los Estados para resolver sus controversias de manera pacífic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44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Principios fundantes de la solución de las controversias de la ONU.</a:t>
            </a:r>
            <a:endParaRPr b="0" lang="en-US" sz="3200" spc="-1" strike="noStrike">
              <a:solidFill>
                <a:srgbClr val="ccecff"/>
              </a:solidFill>
              <a:latin typeface="Arial"/>
            </a:endParaRPr>
          </a:p>
        </p:txBody>
      </p:sp>
      <p:sp>
        <p:nvSpPr>
          <p:cNvPr id="16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Prohibición de la amenaza o el uso de la fuerza para resolver las controversi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upervisión por parte de los principales órganos de la ONU: Asamblea General, Consejo de seguridad, y los propios Estad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xcepciones: Art. 7 y 51 Carta ONU</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ebate la legitimidad de la defensa propia preventiva.</a:t>
            </a:r>
            <a:endParaRPr b="0" lang="en-US" sz="18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Obligación de recurrir a medios pacíficos para resolver las controversi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objetivo principal es no poner en peligro la paz, libertad y justicia.</a:t>
            </a:r>
            <a:endParaRPr b="0" lang="en-US" sz="20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ibertad de elección de los medio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Debido a la falta de preeminencia de uno por sobre otro</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 nivel regional puede darse un orden de prelación. </a:t>
            </a:r>
            <a:endParaRPr b="0" lang="en-US" sz="1800" spc="-1" strike="noStrike">
              <a:solidFill>
                <a:srgbClr val="ffffff"/>
              </a:solidFill>
              <a:latin typeface="Verdana"/>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j. Pacto de Bogotá de 1943</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44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Medios de Solución de Diferencias.</a:t>
            </a:r>
            <a:endParaRPr b="0" lang="en-US" sz="3200" spc="-1" strike="noStrike">
              <a:solidFill>
                <a:srgbClr val="ccecff"/>
              </a:solidFill>
              <a:latin typeface="Arial"/>
            </a:endParaRPr>
          </a:p>
        </p:txBody>
      </p:sp>
      <p:sp>
        <p:nvSpPr>
          <p:cNvPr id="171"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diplomáticos o políticos: </a:t>
            </a:r>
            <a:endParaRPr b="0" lang="en-US" sz="24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Negociaciones Directas</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uenos Oficios</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Mediación</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nvestigación</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ciliación</a:t>
            </a:r>
            <a:endParaRPr b="0" lang="en-US" sz="1800" spc="-1" strike="noStrike">
              <a:solidFill>
                <a:srgbClr val="ffffff"/>
              </a:solidFill>
              <a:latin typeface="Verdan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Buscan facilitar un acuerdo, sin mediar una solución de fondo</a:t>
            </a:r>
            <a:endParaRPr b="0" lang="en-US" sz="18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Jurídicos:</a:t>
            </a:r>
            <a:endParaRPr b="0" lang="en-US" sz="24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rbitraje</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rreglo judicial</a:t>
            </a:r>
            <a:endParaRPr b="0" lang="en-US" sz="1800" spc="-1" strike="noStrike">
              <a:solidFill>
                <a:srgbClr val="ffffff"/>
              </a:solidFill>
              <a:latin typeface="Verdan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Soluciones vinculantes para las partes</a:t>
            </a:r>
            <a:endParaRPr b="0" lang="en-US" sz="18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Violentos:</a:t>
            </a:r>
            <a:endParaRPr b="0" lang="en-US" sz="24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Ultimátum</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uptura de relaciones diplomáticas</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torsión</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Guerra</a:t>
            </a:r>
            <a:endParaRPr b="0" lang="en-US" sz="2000" spc="-1" strike="noStrike">
              <a:solidFill>
                <a:srgbClr val="ffffff"/>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052640"/>
            <a:ext cx="8229600" cy="502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Medios Diplomáticos o Políticos</a:t>
            </a:r>
            <a:br>
              <a:rPr sz="4400"/>
            </a:br>
            <a:r>
              <a:rPr b="0" lang="es-CL" sz="4400" spc="-1" strike="noStrike">
                <a:solidFill>
                  <a:srgbClr val="ccecff"/>
                </a:solidFill>
                <a:latin typeface="Arial"/>
              </a:rPr>
              <a:t>de Solución</a:t>
            </a:r>
            <a:br>
              <a:rPr sz="4400"/>
            </a:br>
            <a:r>
              <a:rPr b="0" lang="es-CL" sz="4400" spc="-1" strike="noStrike">
                <a:solidFill>
                  <a:srgbClr val="ccecff"/>
                </a:solidFill>
                <a:latin typeface="Arial"/>
              </a:rPr>
              <a:t>de las Controversias</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4:38:11Z</dcterms:created>
  <dc:creator>Julio Jáuregui Medina</dc:creator>
  <dc:description/>
  <dc:language>en-US</dc:language>
  <cp:lastModifiedBy>lucarna03</cp:lastModifiedBy>
  <dcterms:modified xsi:type="dcterms:W3CDTF">2008-06-17T13:46:11Z</dcterms:modified>
  <cp:revision>5</cp:revision>
  <dc:subject/>
  <dc:title>Solución de Controversias Internacionales.</dc:title>
</cp:coreProperties>
</file>