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10F19-C911-4F15-8832-02CB34617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DDCAA-AA69-4368-903C-615243C62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78668-9A41-4FC6-91DF-D1B54F10F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14CB4-5E11-415F-87AA-632C5C3B3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E9019-7B90-4D88-B071-FF8D3D7B6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2C5D1-1378-4FA4-8B3E-795A1D316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CCF25-3A56-46A7-B639-1A8CE73A5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97D09-D5B7-49F1-A290-94668E1F3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D4C47-FA04-42BD-B35A-BDC7C1C8C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DDAEA-D676-4C90-944F-5CCF8F84A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6A7FB-9429-427D-9DB3-B1A6E2A4D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450FF-3B23-45E9-B4CA-F0EE6FDD6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1D096-432A-4828-A7B5-745034F53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B0A15-2297-4F65-B7A7-0241EBEF9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A6E4B-EEA7-4CC0-A18E-1FE0202E0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E916E-99D1-4AFB-84D7-C10CBE30A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FE6F6-D4DF-479B-BDBC-9A4E3D4DD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53E0B-A386-47A6-9BA2-0B33B5B0D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755E3-C8FD-45C1-9009-094F00BCC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10260-BC33-483D-BA1F-4CB91ACC6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5890E-5A6F-4904-B8F7-82C1EE15C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F716B-F520-46CA-A966-BC442954E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13E6-76B8-49C5-8915-76354448C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21EC3-0274-4051-9890-997B90DF1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D8CE-786E-41E6-B2AD-F7896611AB07}"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2856-F3C7-4D4D-A614-CCD15334D7CF}"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ccecff"/>
                </a:solidFill>
                <a:latin typeface="Arial"/>
              </a:rPr>
              <a:t>Solución de Controversias</a:t>
            </a:r>
            <a:br>
              <a:rPr sz="4800"/>
            </a:br>
            <a:r>
              <a:rPr b="0" lang="es-CL" sz="4800" spc="-1" strike="noStrike">
                <a:solidFill>
                  <a:srgbClr val="ccecff"/>
                </a:solidFill>
                <a:latin typeface="Arial"/>
              </a:rPr>
              <a:t>Internacionales.</a:t>
            </a:r>
            <a:endParaRPr b="0" lang="en-US" sz="4800" spc="-1" strike="noStrike">
              <a:solidFill>
                <a:srgbClr val="ccecff"/>
              </a:solidFill>
              <a:latin typeface="Arial"/>
            </a:endParaRPr>
          </a:p>
        </p:txBody>
      </p:sp>
      <p:sp>
        <p:nvSpPr>
          <p:cNvPr id="157" name="PlaceHolder 2"/>
          <p:cNvSpPr>
            <a:spLocks noGrp="1"/>
          </p:cNvSpPr>
          <p:nvPr>
            <p:ph type="subTitle"/>
          </p:nvPr>
        </p:nvSpPr>
        <p:spPr>
          <a:xfrm>
            <a:off x="899640" y="3885840"/>
            <a:ext cx="7272360" cy="21351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Julio Jáuregui M.</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recho Internacional Público – Gilda Cicci</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4280"/>
            <a:ext cx="8229600" cy="85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Negociaciones Directas</a:t>
            </a:r>
            <a:endParaRPr b="0" lang="en-US" sz="3200" spc="-1" strike="noStrike">
              <a:solidFill>
                <a:srgbClr val="ccecff"/>
              </a:solidFill>
              <a:latin typeface="Arial"/>
            </a:endParaRPr>
          </a:p>
        </p:txBody>
      </p:sp>
      <p:sp>
        <p:nvSpPr>
          <p:cNvPr id="174"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Característica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Sin intervención de un tercero</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directamente tratan de ponerse de acuerd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anifestación del ejercicio de las facultades de los Estad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onducir relaciones internacion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Discutir, arreglar y eventualmente solucionar el conflict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nunciable</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Las bases de la negociación son renunciables mientras no se dicte un tratado que la fije.</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 darse a distintos niveles (principalmente funcionarios diplomátic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residente de la República: Diplomacia de cumbre o presidenci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anciller y otros funcionarios de la plana del servicio exterior.</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és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Incluso puede darse para más de dos Estados</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structura flexible y carácter informal</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pueden acordar reglas Ad – Hoc</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Similar a las Negociaciones en D° Interno</a:t>
            </a:r>
            <a:endParaRPr b="0" lang="en-US" sz="12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lección no obligatoria</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En virtud de la libertad de medios</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En la práctica, es el primer medio, ya que da mayor posibilidad de entendimiento.</a:t>
            </a:r>
            <a:endParaRPr b="0" lang="en-US" sz="1200" spc="-1" strike="noStrike">
              <a:solidFill>
                <a:srgbClr val="ffffff"/>
              </a:solidFill>
              <a:latin typeface="Verdana"/>
            </a:endParaRPr>
          </a:p>
          <a:p>
            <a:pPr lvl="3" marL="16002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Requisito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Genuina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Buena F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constituyan meras formalidades para dilatar el conflict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 Buenos Oficios</a:t>
            </a:r>
            <a:endParaRPr b="0" lang="en-US" sz="3200" spc="-1" strike="noStrike">
              <a:solidFill>
                <a:srgbClr val="ccecff"/>
              </a:solidFill>
              <a:latin typeface="Arial"/>
            </a:endParaRPr>
          </a:p>
        </p:txBody>
      </p:sp>
      <p:sp>
        <p:nvSpPr>
          <p:cNvPr id="176" name="PlaceHolder 2"/>
          <p:cNvSpPr>
            <a:spLocks noGrp="1"/>
          </p:cNvSpPr>
          <p:nvPr>
            <p:ph/>
          </p:nvPr>
        </p:nvSpPr>
        <p:spPr>
          <a:xfrm>
            <a:off x="0" y="1267920"/>
            <a:ext cx="9144000" cy="518508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n tercero busca lograr acercamiento entre las part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Ofreciendo una sede</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niendo en contacto a las partes</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participa directamente en las negociaciones, y menos, tiene poder de decisión</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se involucra en las negociacion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así fuere, sería una mediación</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vención tercero no finaliza hasta que hay acuerdo</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 queda plasmado en un Tratad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3. Mediación</a:t>
            </a:r>
            <a:endParaRPr b="0" lang="en-US" sz="3200" spc="-1" strike="noStrike">
              <a:solidFill>
                <a:srgbClr val="ccecff"/>
              </a:solidFill>
              <a:latin typeface="Arial"/>
            </a:endParaRPr>
          </a:p>
        </p:txBody>
      </p:sp>
      <p:sp>
        <p:nvSpPr>
          <p:cNvPr id="178" name="PlaceHolder 2"/>
          <p:cNvSpPr>
            <a:spLocks noGrp="1"/>
          </p:cNvSpPr>
          <p:nvPr>
            <p:ph/>
          </p:nvPr>
        </p:nvSpPr>
        <p:spPr>
          <a:xfrm>
            <a:off x="0" y="1267920"/>
            <a:ext cx="9144000" cy="537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dan a uno o varios terceros el poder para media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Ya sea por un tratado anterior al conflicto, o</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r nota que se envía al mediador</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propone bases de solución </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son facultativas para las partes</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no pueden ser consideradas un acto inamistoso</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s organizaciones internacionales tienen la obligación de ofrecer sus oficios para mediar</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o finaliza hasta logrado un acuerdo</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mediador está entre las partes, pero no tiene facultades para decidi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fuera así, se convertiría en arbitraje</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s se plasman en un tratado</a:t>
            </a:r>
            <a:endParaRPr b="0" lang="en-US" sz="20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4. Investigación</a:t>
            </a:r>
            <a:endParaRPr b="0" lang="en-US" sz="3200" spc="-1" strike="noStrike">
              <a:solidFill>
                <a:srgbClr val="ccecff"/>
              </a:solidFill>
              <a:latin typeface="Arial"/>
            </a:endParaRPr>
          </a:p>
        </p:txBody>
      </p:sp>
      <p:sp>
        <p:nvSpPr>
          <p:cNvPr id="180" name="PlaceHolder 2"/>
          <p:cNvSpPr>
            <a:spLocks noGrp="1"/>
          </p:cNvSpPr>
          <p:nvPr>
            <p:ph/>
          </p:nvPr>
        </p:nvSpPr>
        <p:spPr>
          <a:xfrm>
            <a:off x="0" y="126828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involucradas encargan a una comisión la investigación de hech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forme de la comisión no es vinculante</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isión no dirime el asunto de fondo, salvo que por principio de autonomía de las partes, den al informe carácter de vinculante</a:t>
            </a:r>
            <a:endParaRPr b="0" lang="en-US" sz="1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Origen histórico</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ferencias de La Haya de 1899 y 1907</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o creación de mecanismo alternativo al arbitraj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5. Conciliación</a:t>
            </a:r>
            <a:endParaRPr b="0" lang="en-US" sz="3200" spc="-1" strike="noStrike">
              <a:solidFill>
                <a:srgbClr val="ccecff"/>
              </a:solidFill>
              <a:latin typeface="Arial"/>
            </a:endParaRPr>
          </a:p>
        </p:txBody>
      </p:sp>
      <p:sp>
        <p:nvSpPr>
          <p:cNvPr id="182" name="PlaceHolder 2"/>
          <p:cNvSpPr>
            <a:spLocks noGrp="1"/>
          </p:cNvSpPr>
          <p:nvPr>
            <p:ph/>
          </p:nvPr>
        </p:nvSpPr>
        <p:spPr>
          <a:xfrm>
            <a:off x="0" y="1267920"/>
            <a:ext cx="91440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solicitan a un órgano colegiado (Comisión de Conciliación) inspección personal de todos los aspectos de la controversia (hechos y derech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investigación, en que ésta, sólo se pronuncia sobre cuestiones de hech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misión formula una propuesta de solución de carácter global y no vinculant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mediación, en que en ésta, la formulación de la propuesta no es un trámite obligatorio</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el arbitraje, ya que éste conoce sobre el hecho y el derecho, pero con carácter obligatori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ás rápido que los medios jurisdiccional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 de utilización bastante excepcion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Juríd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5" name="PlaceHolder 2"/>
          <p:cNvSpPr>
            <a:spLocks noGrp="1"/>
          </p:cNvSpPr>
          <p:nvPr>
            <p:ph/>
          </p:nvPr>
        </p:nvSpPr>
        <p:spPr>
          <a:xfrm>
            <a:off x="-360" y="1339920"/>
            <a:ext cx="8999640" cy="5184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fera de competencia: todos los asuntos que los Estados determinen en los respectivos tratado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gulada por la Conferencia de Paz de La Haya de 1907</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la Corte Permanente de Arbitraje</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Lista de árbitros: cuatro juristas por Nación</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reglas comune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edio facultativo aún cuando se sea parte de la Conferencia de La Haya</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acultativo si requiere un acuerdo ulterior de las partes para constituir el tribunal; obligatorio, si pactada una cláusula arbitral, cualquiera de las partes demanda a la otra para resolver el conflicto</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jecución de la sentenci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udo tiene efecto obligatorio</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jecución queda entregada a las part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7" name="PlaceHolder 2"/>
          <p:cNvSpPr>
            <a:spLocks noGrp="1"/>
          </p:cNvSpPr>
          <p:nvPr>
            <p:ph/>
          </p:nvPr>
        </p:nvSpPr>
        <p:spPr>
          <a:xfrm>
            <a:off x="0" y="1322280"/>
            <a:ext cx="9144000" cy="549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finición</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cedimiento jurisdiccional que tiene por objeto la solución de una controversia a través de un tercero, que dicta una solución (laudo arbitral) de carácter </a:t>
            </a:r>
            <a:r>
              <a:rPr b="0" i="1" lang="es-CL" sz="2000" spc="-1" strike="noStrike">
                <a:solidFill>
                  <a:srgbClr val="ffffff"/>
                </a:solidFill>
                <a:latin typeface="Verdana"/>
              </a:rPr>
              <a:t>obligatoria, </a:t>
            </a:r>
            <a:r>
              <a:rPr b="0" lang="es-CL" sz="2000" spc="-1" strike="noStrike">
                <a:solidFill>
                  <a:srgbClr val="ffffff"/>
                </a:solidFill>
                <a:latin typeface="Verdana"/>
              </a:rPr>
              <a:t>aplicando el Derecho Internacional.</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Jueces son designados por las part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pueden determinar las reglas del procedimient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n incluso indicarles el Derecho aplicable</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s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cción de los árbitros pueden generar mayores conflict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algunos tratados, cuando no hay consenso sobre el punto, la decisión recae en un tercero predefinid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blemas idiomáticos entre las partes y los árbitro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seguridad del procedimiento que depende directamente de las part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9" name="PlaceHolder 2"/>
          <p:cNvSpPr>
            <a:spLocks noGrp="1"/>
          </p:cNvSpPr>
          <p:nvPr>
            <p:ph/>
          </p:nvPr>
        </p:nvSpPr>
        <p:spPr>
          <a:xfrm>
            <a:off x="0" y="1341360"/>
            <a:ext cx="9144000" cy="5400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Mecanismos para hacerlo efectivo</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Tratado general de arbitraj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atado anterior al conflicto establece a éste como el medio de solución de las controversia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Fija la competencia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rmalmente no caben los temas polític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la composición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Unipersonal o pluripersonal (más de tres miembr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cta las normas generales del procedimient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ase escrita u oral</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s de prueba, etc.</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las características de la sentencia</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undada en Derecho o n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ipo de mayoría</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Quien dirime en caso de empate</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ujeción a algún recurso</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cisa la duración del mecanism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Con plazo o indefinid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1" name="PlaceHolder 2"/>
          <p:cNvSpPr>
            <a:spLocks noGrp="1"/>
          </p:cNvSpPr>
          <p:nvPr>
            <p:ph/>
          </p:nvPr>
        </p:nvSpPr>
        <p:spPr>
          <a:xfrm>
            <a:off x="0" y="1267920"/>
            <a:ext cx="9144000" cy="4797720"/>
          </a:xfrm>
          <a:prstGeom prst="rect">
            <a:avLst/>
          </a:prstGeom>
          <a:noFill/>
          <a:ln w="0">
            <a:noFill/>
          </a:ln>
        </p:spPr>
        <p:txBody>
          <a:bodyPr lIns="90000" rIns="90000" tIns="46800" bIns="46800" anchor="t">
            <a:normAutofit/>
          </a:bodyPr>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ompromiso</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sterior al conflicto</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cuerdo ad-hoc</a:t>
            </a:r>
            <a:r>
              <a:rPr b="0" lang="es-CL" sz="1800" spc="-1" strike="noStrike">
                <a:solidFill>
                  <a:srgbClr val="ffffff"/>
                </a:solidFill>
                <a:latin typeface="Verdana"/>
              </a:rPr>
              <a:t>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el tribunal y las reglas básicas aplicables</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darse por:</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atado anterior que fija una cláusula arbitral</a:t>
            </a:r>
            <a:endParaRPr b="0" lang="en-US" sz="16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e los Estados para solucionar el conflicto vía arbitraje</a:t>
            </a:r>
            <a:endParaRPr b="0" lang="en-US" sz="16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promiso se extingue con el fin del proceso</a:t>
            </a:r>
            <a:endParaRPr b="0" lang="en-US" sz="1800" spc="-1" strike="noStrike">
              <a:solidFill>
                <a:srgbClr val="ffffff"/>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láusula compromisoria</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tenida en un tratado sobre cualquier materia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rmite que una parte que tenga o crea tener un conflicto lleve a la otra a una corte arbitr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como se constituye el tribun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Introducció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relación entre el DIP y la Solución de las Controversias Internacionales es de una simbiosis, ya que por el principio de </a:t>
            </a:r>
            <a:r>
              <a:rPr b="0" i="1" lang="es-CL" sz="2400" spc="-1" strike="noStrike">
                <a:solidFill>
                  <a:srgbClr val="ffffff"/>
                </a:solidFill>
                <a:latin typeface="Verdana"/>
              </a:rPr>
              <a:t>Prohibición del uso o amenaza de la fuerza</a:t>
            </a:r>
            <a:r>
              <a:rPr b="0" lang="es-CL" sz="2400" spc="-1" strike="noStrike">
                <a:solidFill>
                  <a:srgbClr val="ffffff"/>
                </a:solidFill>
                <a:latin typeface="Verdana"/>
              </a:rPr>
              <a:t>, los Estados deben resolver sus conflictos a través de medios pacíficos, los cuales son estudiados por esta área del Derecho Internacional.</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ctualmente la solución de las controversias se basa en el Art. 2.3 de la Carta de la ONU: </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cc66"/>
                </a:solidFill>
                <a:latin typeface="Verdana"/>
              </a:rPr>
              <a:t>“</a:t>
            </a:r>
            <a:r>
              <a:rPr b="0" lang="es-ES_tradnl" sz="2400" spc="-1" strike="noStrike">
                <a:solidFill>
                  <a:srgbClr val="ffcc66"/>
                </a:solidFill>
                <a:latin typeface="Verdana"/>
              </a:rPr>
              <a:t>...arreglarán sus controversias internacionales por medios pacíficos de tal manera que no se pongan en peligro ni la paz y la seguridad internacionales ni la justici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3" name="PlaceHolder 2"/>
          <p:cNvSpPr>
            <a:spLocks noGrp="1"/>
          </p:cNvSpPr>
          <p:nvPr>
            <p:ph/>
          </p:nvPr>
        </p:nvSpPr>
        <p:spPr>
          <a:xfrm>
            <a:off x="-360" y="1341360"/>
            <a:ext cx="9109080" cy="5112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mpugn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opio tribunal arbitral conoce de su competencia o incompetencia</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mentos para fijar la competenci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ater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hay límites, salvo que materia sea contraria al </a:t>
            </a:r>
            <a:r>
              <a:rPr b="0" i="1" lang="es-CL" sz="1600" spc="-1" strike="noStrike">
                <a:solidFill>
                  <a:srgbClr val="ffffff"/>
                </a:solidFill>
                <a:latin typeface="Verdana"/>
              </a:rPr>
              <a:t>jus cogens</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artes</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ismas con que se pactó: </a:t>
            </a:r>
            <a:r>
              <a:rPr b="0" i="1" lang="es-CL" sz="1600" spc="-1" strike="noStrike">
                <a:solidFill>
                  <a:srgbClr val="ffffff"/>
                </a:solidFill>
                <a:latin typeface="Verdana"/>
              </a:rPr>
              <a:t>Ratione Personae</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emporal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egún retroactividad o irretroactividad del tratado: </a:t>
            </a:r>
            <a:r>
              <a:rPr b="0" i="1" lang="es-CL" sz="1600" spc="-1" strike="noStrike">
                <a:solidFill>
                  <a:srgbClr val="ffffff"/>
                </a:solidFill>
                <a:latin typeface="Verdana"/>
              </a:rPr>
              <a:t>Ratione Temporis</a:t>
            </a:r>
            <a:endParaRPr b="0" lang="en-US" sz="16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Recurso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pret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se creó una controversia en virtud de la interpretación de la sentenc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etermina el sentido y la forma en como se aplica</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5" name="PlaceHolder 2"/>
          <p:cNvSpPr>
            <a:spLocks noGrp="1"/>
          </p:cNvSpPr>
          <p:nvPr>
            <p:ph/>
          </p:nvPr>
        </p:nvSpPr>
        <p:spPr>
          <a:xfrm>
            <a:off x="0" y="1267920"/>
            <a:ext cx="9144000" cy="475308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vis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un elemento está mal considerado o planteado en la sentencia</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produce por</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rror de hecho o hecho nuev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ocumento falso o adulterado</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pelac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otro tribunal</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a de forma muy excepcio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ólo en regímenes muy acotados. Ej.: CIADI</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ulidad</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stitución desarrollada sólo por reglas modelos de Derecho Internacional, no por tratado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ausales: Nulidad de compromiso, corrupción y exceso de pod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 </a:t>
            </a:r>
            <a:r>
              <a:rPr b="0" lang="es-CL" sz="3200" spc="-1" strike="noStrike">
                <a:solidFill>
                  <a:srgbClr val="ccecff"/>
                </a:solidFill>
                <a:latin typeface="Arial"/>
              </a:rPr>
              <a:t>2. Arreglo Judicial</a:t>
            </a:r>
            <a:endParaRPr b="0" lang="en-US" sz="3200" spc="-1" strike="noStrike">
              <a:solidFill>
                <a:srgbClr val="ccecff"/>
              </a:solidFill>
              <a:latin typeface="Arial"/>
            </a:endParaRPr>
          </a:p>
        </p:txBody>
      </p:sp>
      <p:sp>
        <p:nvSpPr>
          <p:cNvPr id="197" name="PlaceHolder 2"/>
          <p:cNvSpPr>
            <a:spLocks noGrp="1"/>
          </p:cNvSpPr>
          <p:nvPr>
            <p:ph/>
          </p:nvPr>
        </p:nvSpPr>
        <p:spPr>
          <a:xfrm>
            <a:off x="0" y="1268280"/>
            <a:ext cx="9144000" cy="482472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 generale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permanentes</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soluciones obligatoria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acción por parte del Consejo de Seguridad</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ón análoga a la del arbitraj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ferencia más importante: </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ibunal constituido antes de que las partes acuerden recurrir a ese medio</a:t>
            </a:r>
            <a:endParaRPr b="0" lang="en-US" sz="16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más important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nacional de Justicia</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ibunal Internacional de Derecho del Mar</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enal Internacion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americana de Derechos Human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
        <p:nvSpPr>
          <p:cNvPr id="199"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sado histórico: Corte Permanente de Justicia Internacional (1920) (Sociedad de Nacione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incipal órgano jurisdiccional de la ONU</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onamien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15 miembros electos por la Asamblea Gral. y C. Segur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flejan la diversidad geográfica (no más de uno por Estad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ersonas de los más altos puestos en la carrera judicial o personas dotadas de gran competencia en D° Internacion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or regla no escrita hay un juez por cada miembro permanente de la ONU</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n haber </a:t>
            </a:r>
            <a:r>
              <a:rPr b="0" lang="es-ES" sz="1600" spc="-1" strike="noStrike">
                <a:solidFill>
                  <a:srgbClr val="ffffff"/>
                </a:solidFill>
                <a:latin typeface="Verdana"/>
              </a:rPr>
              <a:t>además jueces “ad- hoc” cuando en la corte  no hay miembros de alguno de los países que se enfrentan</a:t>
            </a:r>
            <a:r>
              <a:rPr b="0" lang="es-ES" sz="1600" spc="-1" strike="noStrike">
                <a:solidFill>
                  <a:srgbClr val="ffffff"/>
                </a:solidFill>
                <a:latin typeface="Verdana"/>
              </a:rPr>
              <a:t> </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funcionar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pleno, quórum mínimo: 9 miembros</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sala, sólo de manera excepcional</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u sede se encuentra en La Haya (Holand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diomas oficiales: Inglés y Francé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tatuto de la Corte es su norma fundament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utiliza como código de procedimiento</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lamento de la Corte precisa las normas sustantiv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1123920"/>
            <a:ext cx="9144000" cy="51134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ólo para conflictos interestatales</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quiere que Estados hayan aceptado someterse a su conocimiento, ví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un tratado general: cualquiera de las partes en el tratado puede llevar a otro Estado parte a la CIJ. Ej: Pacto de Bogotá</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láusula compromisoria: dentro de un tratado sobre otro tema, sirve para instaurar competencia respecto al objeto del tratado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ompromiso: las partes de común acuerdo  deciden someter su conflicto al conocimiento de un tribunal permanente, luego de producido el confli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Declaración en virtud de una cláusula facultativa: Acto unilateral de un Estado que es parte del estatuto y que declara unilateralmente aceptar la jurisdicción contenciosa de la CIJ. Puede ser formulada de tal manera que reserva la jurisdicción tanto en materia, tiempo o Estados con los cuales se someterá. Se puede pensar más aun el factor temporalidad instaurando un plazo resolutori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rorroga de competencia tácita: Aquella en que el Estado demandado que no ha reconocido la jurisdicción del tribunal, se presenta sin discutir la competencia alegando el fondo del asunto </a:t>
            </a:r>
            <a:endParaRPr b="0" lang="en-US" sz="1600" spc="-1" strike="noStrike">
              <a:solidFill>
                <a:srgbClr val="ffffff"/>
              </a:solidFill>
              <a:latin typeface="Verdana"/>
            </a:endParaRPr>
          </a:p>
        </p:txBody>
      </p:sp>
      <p:sp>
        <p:nvSpPr>
          <p:cNvPr id="201"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0" y="1369800"/>
            <a:ext cx="9144000" cy="50115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debe aceptar la competencia, resolviendo conflictos de jurisdicción</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puede adoptar </a:t>
            </a:r>
            <a:r>
              <a:rPr b="0" i="1" lang="es-CL" sz="1800" spc="-1" strike="noStrike">
                <a:solidFill>
                  <a:srgbClr val="ffffff"/>
                </a:solidFill>
                <a:latin typeface="Verdana"/>
              </a:rPr>
              <a:t>medidas provisionales o precautorias</a:t>
            </a:r>
            <a:r>
              <a:rPr b="0" lang="es-CL" sz="1800" spc="-1" strike="noStrike">
                <a:solidFill>
                  <a:srgbClr val="ffffff"/>
                </a:solidFill>
                <a:latin typeface="Verdana"/>
              </a:rPr>
              <a:t>, ya sea de oficio o a petición de partes</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debe juzgar, en principio, en Derecho, o facultado por el Art. 38 del Estatuto, </a:t>
            </a:r>
            <a:r>
              <a:rPr b="0" i="1" lang="es-CL" sz="1800" spc="-1" strike="noStrike">
                <a:solidFill>
                  <a:srgbClr val="ffffff"/>
                </a:solidFill>
                <a:latin typeface="Verdana"/>
              </a:rPr>
              <a:t>ex aequo et bono</a:t>
            </a:r>
            <a:r>
              <a:rPr b="0" lang="es-CL" sz="1800" spc="-1" strike="noStrike">
                <a:solidFill>
                  <a:srgbClr val="ffffff"/>
                </a:solidFill>
                <a:latin typeface="Verdana"/>
              </a:rPr>
              <a:t> (equidad)</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ecisión final: vinculante</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cursos</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pelación: no es posibl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pretación: de manera excepcional, por la propia cort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visión: al surgir un hecho nuevo de naturaleza decisoria, desconocido por la corte y por la parte que presenta el recurso, siempre que no haya habido negligencia en su ignorancia</a:t>
            </a:r>
            <a:endParaRPr b="0" lang="en-US" sz="16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el caso de que una de las partes no cumpla el fallo, la parte ganadora puede acudir al Consejo de Seguridad para que éste imponga alguna medida coercitiva en los términos de la Carta de la ONU, para hacer efectiva la sentencia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uede pronunciarse sobre una eventual </a:t>
            </a:r>
            <a:r>
              <a:rPr b="0" i="1" lang="es-CL" sz="1800" spc="-1" strike="noStrike">
                <a:solidFill>
                  <a:srgbClr val="ffffff"/>
                </a:solidFill>
                <a:latin typeface="Verdana"/>
              </a:rPr>
              <a:t>indemnización de perjuicios</a:t>
            </a:r>
            <a:endParaRPr b="0" lang="en-US" sz="1800" spc="-1" strike="noStrike">
              <a:solidFill>
                <a:srgbClr val="ffffff"/>
              </a:solidFill>
              <a:latin typeface="Verdana"/>
            </a:endParaRPr>
          </a:p>
        </p:txBody>
      </p:sp>
      <p:sp>
        <p:nvSpPr>
          <p:cNvPr id="203" name="PlaceHolder 2"/>
          <p:cNvSpPr>
            <a:spLocks noGrp="1"/>
          </p:cNvSpPr>
          <p:nvPr>
            <p:ph type="title"/>
          </p:nvPr>
        </p:nvSpPr>
        <p:spPr>
          <a:xfrm>
            <a:off x="468360" y="57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1341360"/>
            <a:ext cx="9144000" cy="4176720"/>
          </a:xfrm>
          <a:prstGeom prst="rect">
            <a:avLst/>
          </a:prstGeom>
          <a:noFill/>
          <a:ln w="0">
            <a:noFill/>
          </a:ln>
        </p:spPr>
        <p:txBody>
          <a:bodyPr lIns="90000" rIns="90000" tIns="46800" bIns="46800" anchor="t">
            <a:normAutofit/>
          </a:bodyPr>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sultiva</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sentadas por: Consejo de Seguridad, Asamblea General u órganos especiales de ONU (UNESCO, FAO, OMS, OIT, etc.)</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soluciones en éste ámbito no son vinculantes</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emite una opinión de carácter jurídico sobre algún asunto litigioso</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60% de las opiniones han provenido de la Asamblea General</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l establecer precedentes jurídicos, no se distingue entre fallos u opiniones consultivas</a:t>
            </a:r>
            <a:endParaRPr b="0" lang="en-US" sz="1800" spc="-1" strike="noStrike">
              <a:solidFill>
                <a:srgbClr val="ffffff"/>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1280"/>
            <a:ext cx="91440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2 Tribunal Internacional de Derecho del Mar</a:t>
            </a:r>
            <a:endParaRPr b="0" lang="en-US" sz="3200" spc="-1" strike="noStrike">
              <a:solidFill>
                <a:srgbClr val="ccecff"/>
              </a:solidFill>
              <a:latin typeface="Arial"/>
            </a:endParaRPr>
          </a:p>
        </p:txBody>
      </p:sp>
      <p:sp>
        <p:nvSpPr>
          <p:cNvPr id="207" name="PlaceHolder 2"/>
          <p:cNvSpPr>
            <a:spLocks noGrp="1"/>
          </p:cNvSpPr>
          <p:nvPr>
            <p:ph/>
          </p:nvPr>
        </p:nvSpPr>
        <p:spPr>
          <a:xfrm>
            <a:off x="0" y="576360"/>
            <a:ext cx="9144000" cy="6237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de: Hamburgo</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hile acepta la competencia para conocer de controversias marítimas respecto de otros Estados que hayan reconocido igual competencia</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iene 10 años de antigüedad</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mporta un reforzamiento a las normas de la Convención de las Naciones Unidas sobre Derecho del Mar</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Zona Económica Exclusiva (200 MM)</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lataforma Continent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 ambiente marino, etc.</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jurisdicción, ya sea con una corte permanente (Tribunal Internacional de Derecho del Mar), o por una jurisdicción arbitr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el </a:t>
            </a:r>
            <a:r>
              <a:rPr b="0" i="1" lang="es-CL" sz="1600" spc="-1" strike="noStrike">
                <a:solidFill>
                  <a:srgbClr val="ffffff"/>
                </a:solidFill>
                <a:latin typeface="Verdana"/>
              </a:rPr>
              <a:t>Patrimonio común de la humanidad</a:t>
            </a:r>
            <a:r>
              <a:rPr b="0" lang="es-CL" sz="1600" spc="-1" strike="noStrike">
                <a:solidFill>
                  <a:srgbClr val="ffffff"/>
                </a:solidFill>
                <a:latin typeface="Verdana"/>
              </a:rPr>
              <a:t>, que son los minerales que están en el fondo marino</a:t>
            </a:r>
            <a:endParaRPr b="0" lang="en-US" sz="1600" spc="-1" strike="noStrike">
              <a:solidFill>
                <a:srgbClr val="ffffff"/>
              </a:solidFill>
              <a:latin typeface="Verdana"/>
            </a:endParaRPr>
          </a:p>
          <a:p>
            <a:pPr lvl="4" marL="2057400" indent="-228600" algn="just">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Hay mecanismos especiales de solución de controversias en este aspe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Convención sobre D° del Mar acepta que algunas controversias no sean llevadas a tribunales internacionales, porque forman parte del ámbito interno de los Estados, es decir algunas medidas que adopten los estados en </a:t>
            </a:r>
            <a:r>
              <a:rPr b="1" lang="es-ES" sz="1600" spc="-1" strike="noStrike">
                <a:solidFill>
                  <a:srgbClr val="ffffff"/>
                </a:solidFill>
                <a:latin typeface="Verdana"/>
              </a:rPr>
              <a:t>sus</a:t>
            </a:r>
            <a:r>
              <a:rPr b="0" lang="es-ES" sz="1600" spc="-1" strike="noStrike">
                <a:solidFill>
                  <a:srgbClr val="ffffff"/>
                </a:solidFill>
                <a:latin typeface="Verdana"/>
              </a:rPr>
              <a:t> espacios marítimos y las controversias en las zonas propias de los Estados, no sean llevadas a un tribunal internacional (reglas de respeto de la soberanía de los Estados).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demás, hay competencia facultativa, las cuales son </a:t>
            </a:r>
            <a:r>
              <a:rPr b="0" lang="es-ES" sz="1600" spc="-1" strike="noStrike">
                <a:solidFill>
                  <a:srgbClr val="ffffff"/>
                </a:solidFill>
                <a:latin typeface="Verdana"/>
              </a:rPr>
              <a:t>aquellas que los Estados pueden admitir como controversia  que puede ser llevada ante un tribunal. Ejemplo, es facultativo excluir las actividades militar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Medios de Solución Pacífica de Controversias.</a:t>
            </a:r>
            <a:endParaRPr b="0" lang="en-US" sz="4000" spc="-1" strike="noStrike">
              <a:solidFill>
                <a:srgbClr val="ccecff"/>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os medios están señalados en el Art.. 33 de la Carta ONU: </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Verdana"/>
              </a:rPr>
              <a:t>  “… </a:t>
            </a:r>
            <a:r>
              <a:rPr b="0" lang="es-ES_tradnl" sz="2800" spc="-1" strike="noStrike">
                <a:solidFill>
                  <a:srgbClr val="ffcc66"/>
                </a:solidFill>
                <a:latin typeface="Verdana"/>
              </a:rPr>
              <a:t>susceptible de poner en peligro la paz y la  seguridad internacionales tratarán de buscarle solución, ante todo mediante la negociación, la investigación, la mediación, la conciliación, el arbitraje, el arreglo judicial, el recurso a organismos o acuerdos regionales u otros medios pacíficos a su elección.”</a:t>
            </a:r>
            <a:r>
              <a:rPr b="0" lang="es-ES_tradnl" sz="2800" spc="-1" strike="noStrike">
                <a:solidFill>
                  <a:srgbClr val="ffcc66"/>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 la lectura de la disposición se desprende el principio general de </a:t>
            </a:r>
            <a:r>
              <a:rPr b="0" i="1" lang="es-CL" sz="2800" spc="-1" strike="noStrike">
                <a:solidFill>
                  <a:srgbClr val="ffffff"/>
                </a:solidFill>
                <a:latin typeface="Verdana"/>
              </a:rPr>
              <a:t>Libre elección de los Medi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Definición de Controversia</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efinición la encontramos en la CPJI, Asunto Mavrommatis de 1924:</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 </a:t>
            </a:r>
            <a:r>
              <a:rPr b="0" lang="es-CL" sz="2400" spc="-1" strike="noStrike">
                <a:solidFill>
                  <a:srgbClr val="ffcc66"/>
                </a:solidFill>
                <a:latin typeface="Verdana"/>
              </a:rPr>
              <a:t>una controversia es un desacuerdo sobre un punto de derecho o de hecho, una contradicción, una oposición de tesis jurídicas o de intereses entre dos personas.”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 manera más reciente, la CIJ en la sentencia de 1998 sobre el Asunto de la frontera terrestre y marítima entre Camerún y Nigeria declaró: </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a:t>
            </a:r>
            <a:r>
              <a:rPr b="0" lang="es-CL" sz="2400" spc="-1" strike="noStrike">
                <a:solidFill>
                  <a:srgbClr val="ffcc66"/>
                </a:solidFill>
                <a:latin typeface="Verdana"/>
              </a:rPr>
              <a:t>para establecer la existencia de una controversia hay que demostrar que la reclamación de una parte se enfrenta al rechazo manifiesto de la otra parte y, además que la existencia de dicha controversia se determine de forma obje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Clases de controversi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istinción que hace la doctrina y la jurisprudencia apunta a las controversias </a:t>
            </a:r>
            <a:r>
              <a:rPr b="0" i="1" lang="es-CL" sz="2400" spc="-1" strike="noStrike">
                <a:solidFill>
                  <a:srgbClr val="ffffff"/>
                </a:solidFill>
                <a:latin typeface="Verdana"/>
              </a:rPr>
              <a:t>políticas</a:t>
            </a:r>
            <a:r>
              <a:rPr b="0" lang="es-CL" sz="2400" spc="-1" strike="noStrike">
                <a:solidFill>
                  <a:srgbClr val="ffffff"/>
                </a:solidFill>
                <a:latin typeface="Verdana"/>
              </a:rPr>
              <a:t> y las </a:t>
            </a:r>
            <a:r>
              <a:rPr b="0" i="1" lang="es-CL" sz="2400" spc="-1" strike="noStrike">
                <a:solidFill>
                  <a:srgbClr val="ffffff"/>
                </a:solidFill>
                <a:latin typeface="Verdana"/>
              </a:rPr>
              <a:t>jurídicas</a:t>
            </a:r>
            <a:r>
              <a:rPr b="0" lang="es-CL" sz="2400" spc="-1" strike="noStrike">
                <a:solidFill>
                  <a:srgbClr val="ffffff"/>
                </a:solidFill>
                <a:latin typeface="Verdana"/>
              </a:rPr>
              <a:t>.</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mayor distinción radica en los puntos en conflicto y en la forma de solución. Así, las </a:t>
            </a:r>
            <a:r>
              <a:rPr b="0" i="1" lang="es-CL" sz="2400" spc="-1" strike="noStrike">
                <a:solidFill>
                  <a:srgbClr val="ffffff"/>
                </a:solidFill>
                <a:latin typeface="Verdana"/>
              </a:rPr>
              <a:t>jurídicas</a:t>
            </a:r>
            <a:r>
              <a:rPr b="0" lang="es-CL" sz="2400" spc="-1" strike="noStrike">
                <a:solidFill>
                  <a:srgbClr val="ffffff"/>
                </a:solidFill>
                <a:latin typeface="Verdana"/>
              </a:rPr>
              <a:t> se refieren a la forma de aplicación del derecho vigente, por lo que se resuelven aplicando el derecho vigente. Las </a:t>
            </a:r>
            <a:r>
              <a:rPr b="0" i="1" lang="es-CL" sz="2400" spc="-1" strike="noStrike">
                <a:solidFill>
                  <a:srgbClr val="ffffff"/>
                </a:solidFill>
                <a:latin typeface="Verdana"/>
              </a:rPr>
              <a:t>políticas</a:t>
            </a:r>
            <a:r>
              <a:rPr b="0" lang="es-CL" sz="2400" spc="-1" strike="noStrike">
                <a:solidFill>
                  <a:srgbClr val="ffffff"/>
                </a:solidFill>
                <a:latin typeface="Verdana"/>
              </a:rPr>
              <a:t> son aquellas basadas en una pretensión cuya solución requiere la modificación del derecho vigente, por lo que se solucionan al alcanzar un nuevo acuerdo específico sobre la materia litigio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Evolución de la forma de solución de las controversias</a:t>
            </a:r>
            <a:endParaRPr b="0" lang="en-US" sz="3200" spc="-1" strike="noStrike">
              <a:solidFill>
                <a:srgbClr val="ccecff"/>
              </a:solidFill>
              <a:latin typeface="Arial"/>
            </a:endParaRPr>
          </a:p>
        </p:txBody>
      </p:sp>
      <p:sp>
        <p:nvSpPr>
          <p:cNvPr id="167" name="PlaceHolder 2"/>
          <p:cNvSpPr>
            <a:spLocks noGrp="1"/>
          </p:cNvSpPr>
          <p:nvPr>
            <p:ph/>
          </p:nvPr>
        </p:nvSpPr>
        <p:spPr>
          <a:xfrm>
            <a:off x="250920" y="1196640"/>
            <a:ext cx="8642160" cy="5661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ferencias de Paz: </a:t>
            </a:r>
            <a:r>
              <a:rPr b="0" lang="es-CL" sz="2000" spc="-1" strike="noStrike">
                <a:solidFill>
                  <a:srgbClr val="ffffff"/>
                </a:solidFill>
                <a:latin typeface="Verdana"/>
              </a:rPr>
              <a:t>Pre I Guerra Mundial</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 Haya 1899 y 1907: Surgen tribunales internacionales (aún vigentes), que regulan la guerra como el arbitraje.</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vención sobre solución pacífica de 1907 incorpora una cláusula para </a:t>
            </a:r>
            <a:r>
              <a:rPr b="0" i="1" lang="es-CL" sz="1800" spc="-1" strike="noStrike">
                <a:solidFill>
                  <a:srgbClr val="ffffff"/>
                </a:solidFill>
                <a:latin typeface="Verdana"/>
              </a:rPr>
              <a:t>“evitar en lo posible</a:t>
            </a:r>
            <a:r>
              <a:rPr b="0" lang="es-CL" sz="1800" spc="-1" strike="noStrike">
                <a:solidFill>
                  <a:srgbClr val="ffffff"/>
                </a:solidFill>
                <a:latin typeface="Verdana"/>
              </a:rPr>
              <a:t> el uso de la fuerza”. Por lo que no se está renunciando totalmente a ést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ociedad de Naciones: </a:t>
            </a:r>
            <a:r>
              <a:rPr b="0" lang="es-CL" sz="2000" spc="-1" strike="noStrike">
                <a:solidFill>
                  <a:srgbClr val="ffffff"/>
                </a:solidFill>
                <a:latin typeface="Verdana"/>
              </a:rPr>
              <a:t>Históricamente no tuvo éxi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estados someterán sus controversias a arbitraje y otros medios de solución pacífica, absteniéndose de usar la fuerza durante un periodo de latencia de la controversia (3 meses), y sólo podrán usarla luego de conocido el laudo arbitral</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acto Briand Kellog: </a:t>
            </a:r>
            <a:r>
              <a:rPr b="0" lang="es-CL" sz="2000" spc="-1" strike="noStrike">
                <a:solidFill>
                  <a:srgbClr val="ffffff"/>
                </a:solidFill>
                <a:latin typeface="Verdana"/>
              </a:rPr>
              <a:t>Pre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so de la fuerza sólo a título de legítima defenz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istema de seguridad colectiva de la ONU: </a:t>
            </a:r>
            <a:r>
              <a:rPr b="0" lang="es-CL" sz="2000" spc="-1" strike="noStrike">
                <a:solidFill>
                  <a:srgbClr val="ffffff"/>
                </a:solidFill>
                <a:latin typeface="Verdana"/>
              </a:rPr>
              <a:t>Vencedores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l empleo de la fuerza :limitación al uso, fabricación y transformación de las armas convencionales y de destrucción masiv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operación de los Estados para resolver sus controversias de manera pacíf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Principios fundantes de la solución de las controversias de la ONU.</a:t>
            </a:r>
            <a:endParaRPr b="0" lang="en-US" sz="3200" spc="-1" strike="noStrike">
              <a:solidFill>
                <a:srgbClr val="ccecff"/>
              </a:solidFill>
              <a:latin typeface="Arial"/>
            </a:endParaRPr>
          </a:p>
        </p:txBody>
      </p:sp>
      <p:sp>
        <p:nvSpPr>
          <p:cNvPr id="1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rohibición de la amenaza o el uso de la fuerza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pervisión por parte de los principales órganos de la ONU: Asamblea General, Consejo de seguridad, y los propios Estad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xcepciones: Art. 7 y 51 Carta ONU</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ebate la legitimidad de la defensa propia preventiva.</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Obligación de recurrir a medios pacíficos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objetivo principal es no poner en peligro la paz, libertad y justicia.</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ibertad de elección de los medio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Debido a la falta de preeminencia de uno por sobre otr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 nivel regional puede darse un orden de prelación. </a:t>
            </a:r>
            <a:endParaRPr b="0" lang="en-US" sz="1800" spc="-1" strike="noStrike">
              <a:solidFill>
                <a:srgbClr val="ffffff"/>
              </a:solidFill>
              <a:latin typeface="Verdana"/>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j. Pacto de Bogotá de 1943</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Medios de Solución de Diferencias.</a:t>
            </a:r>
            <a:endParaRPr b="0" lang="en-US" sz="3200" spc="-1" strike="noStrike">
              <a:solidFill>
                <a:srgbClr val="ccecff"/>
              </a:solidFill>
              <a:latin typeface="Arial"/>
            </a:endParaRPr>
          </a:p>
        </p:txBody>
      </p:sp>
      <p:sp>
        <p:nvSpPr>
          <p:cNvPr id="171"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diplomáticos o políticos: </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Negociaciones Directa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uenos Oficio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edi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vestig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ciliación</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Buscan facilitar un acuerdo, sin mediar una solución de fondo</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Jurídicos:</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bitraje</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reglo judicial</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Soluciones vinculantes para las partes</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Violento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ltimátum</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uptura de relaciones diplomáticas</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torsión</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Guerra</a:t>
            </a: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Diplomáticos o Polít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4:38:11Z</dcterms:created>
  <dc:creator>Julio Jáuregui Medina</dc:creator>
  <dc:description/>
  <dc:language>en-US</dc:language>
  <cp:lastModifiedBy>lucarna03</cp:lastModifiedBy>
  <dcterms:modified xsi:type="dcterms:W3CDTF">2008-06-17T13:46:11Z</dcterms:modified>
  <cp:revision>5</cp:revision>
  <dc:subject/>
  <dc:title>Solución de Controversias Internacionales.</dc:title>
</cp:coreProperties>
</file>