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9418C-D163-46FF-8394-EFFDDEE5F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E7C16-146F-43D3-8717-78EEA5E14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78902-1CCE-421E-BFA1-FB701BCCF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E2DE1-C2B0-4A6F-9434-2413BCD81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CEDA54-A711-4C0D-A8B8-20B062958C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12C3A-B4EF-46BD-87AF-433B7A04A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A5AFF-EF60-484C-9CAA-FB28299C5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E7F6A-1CA8-438A-9680-C22DD4259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49C1E-90E6-4A61-A12C-31C3B51AE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2EB3F-4F49-443A-88AF-7804CB16C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5DD11-9A47-4DA6-A756-E17AC53B6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25CD4-6A1D-4D62-A621-2D403A151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FCE26-806D-43D1-8419-860491712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71699-2A51-4F0B-8367-423F66FAA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405F1-7F34-459E-AC5D-DD8AC39BD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668CE3-6CB3-4CC1-8208-FCB23B7C9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3F5A31-DDB2-40FF-9393-4575AF0F4F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A017F-1670-4456-98AF-63B38E809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CFCFA-F65A-4ED1-B8C7-CA1CA7B0F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1B38C-36FC-4BA1-BBB7-0249601AB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F0E11-92A4-4A26-AFA2-87DB4831B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0052C-C1A7-4ABC-A4C6-13C8711E6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87846-D85D-4DA1-86A8-45231472E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6E53F-AAF7-4F5A-A998-C757D3D970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5DB4A-B28D-400C-AB74-9EB77E1BBD6B}"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325E-3604-4132-BA4A-71F4A57034BE}"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ccecff"/>
                </a:solidFill>
                <a:latin typeface="Arial"/>
              </a:rPr>
              <a:t>Solución de Controversias</a:t>
            </a:r>
            <a:br>
              <a:rPr sz="4800"/>
            </a:br>
            <a:r>
              <a:rPr b="0" lang="es-CL" sz="4800" spc="-1" strike="noStrike">
                <a:solidFill>
                  <a:srgbClr val="ccecff"/>
                </a:solidFill>
                <a:latin typeface="Arial"/>
              </a:rPr>
              <a:t>Internacionales.</a:t>
            </a:r>
            <a:endParaRPr b="0" lang="en-US" sz="4800" spc="-1" strike="noStrike">
              <a:solidFill>
                <a:srgbClr val="ccecff"/>
              </a:solidFill>
              <a:latin typeface="Arial"/>
            </a:endParaRPr>
          </a:p>
        </p:txBody>
      </p:sp>
      <p:sp>
        <p:nvSpPr>
          <p:cNvPr id="157" name="PlaceHolder 2"/>
          <p:cNvSpPr>
            <a:spLocks noGrp="1"/>
          </p:cNvSpPr>
          <p:nvPr>
            <p:ph type="subTitle"/>
          </p:nvPr>
        </p:nvSpPr>
        <p:spPr>
          <a:xfrm>
            <a:off x="899640" y="3885840"/>
            <a:ext cx="7272360" cy="21351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Julio Jáuregui M.</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Derecho Internacional Público – Gilda Cicci</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4280"/>
            <a:ext cx="8229600" cy="851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Negociaciones Directas</a:t>
            </a:r>
            <a:endParaRPr b="0" lang="en-US" sz="3200" spc="-1" strike="noStrike">
              <a:solidFill>
                <a:srgbClr val="ccecff"/>
              </a:solidFill>
              <a:latin typeface="Arial"/>
            </a:endParaRPr>
          </a:p>
        </p:txBody>
      </p:sp>
      <p:sp>
        <p:nvSpPr>
          <p:cNvPr id="174"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Verdana"/>
              </a:rPr>
              <a:t>Características</a:t>
            </a:r>
            <a:endParaRPr b="0" lang="en-US" sz="18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Acuerdo Directo</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Sin intervención de un tercero</a:t>
            </a:r>
            <a:endParaRPr b="0" lang="en-US" sz="14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Partes directamente tratan de ponerse de acuerdo</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Manifestación del ejercicio de las facultades de los Estados</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Conducir relaciones internacional</a:t>
            </a:r>
            <a:endParaRPr b="0" lang="en-US" sz="14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Discutir, arreglar y eventualmente solucionar el conflicto</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nunciable</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Las bases de la negociación son renunciables mientras no se dicte un tratado que la fije.</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uede darse a distintos niveles (principalmente funcionarios diplomáticos)</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Presidente de la República: Diplomacia de cumbre o presidencial</a:t>
            </a:r>
            <a:endParaRPr b="0" lang="en-US" sz="14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Canciller y otros funcionarios de la plana del servicio exterior.</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Interés directo</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Incluso puede darse para más de dos Estados</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structura flexible y carácter informal</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Partes pueden acordar reglas Ad – Hoc</a:t>
            </a:r>
            <a:endParaRPr b="0" lang="en-US" sz="1400" spc="-1" strike="noStrike">
              <a:solidFill>
                <a:srgbClr val="ffffff"/>
              </a:solidFill>
              <a:latin typeface="Verdana"/>
            </a:endParaRPr>
          </a:p>
          <a:p>
            <a:pPr lvl="3" marL="1600200" indent="-228600" algn="just">
              <a:lnSpc>
                <a:spcPct val="80000"/>
              </a:lnSpc>
              <a:spcBef>
                <a:spcPts val="3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Verdana"/>
              </a:rPr>
              <a:t>Similar a las Negociaciones en D° Interno</a:t>
            </a:r>
            <a:endParaRPr b="0" lang="en-US" sz="12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lección no obligatoria</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En virtud de la libertad de medios</a:t>
            </a:r>
            <a:endParaRPr b="0" lang="en-US" sz="1400" spc="-1" strike="noStrike">
              <a:solidFill>
                <a:srgbClr val="ffffff"/>
              </a:solidFill>
              <a:latin typeface="Verdana"/>
            </a:endParaRPr>
          </a:p>
          <a:p>
            <a:pPr lvl="3" marL="1600200" indent="-228600" algn="just">
              <a:lnSpc>
                <a:spcPct val="80000"/>
              </a:lnSpc>
              <a:spcBef>
                <a:spcPts val="3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Verdana"/>
              </a:rPr>
              <a:t>En la práctica, es el primer medio, ya que da mayor posibilidad de entendimiento.</a:t>
            </a:r>
            <a:endParaRPr b="0" lang="en-US" sz="1200" spc="-1" strike="noStrike">
              <a:solidFill>
                <a:srgbClr val="ffffff"/>
              </a:solidFill>
              <a:latin typeface="Verdana"/>
            </a:endParaRPr>
          </a:p>
          <a:p>
            <a:pPr lvl="3" marL="1600200" indent="0" algn="just">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Verdana"/>
              </a:rPr>
              <a:t>Requisitos</a:t>
            </a:r>
            <a:endParaRPr b="0" lang="en-US" sz="18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Genuinas</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Buena Fe</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No constituyan meras formalidades para dilatar el conflicto</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3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 Buenos Oficios</a:t>
            </a:r>
            <a:endParaRPr b="0" lang="en-US" sz="3200" spc="-1" strike="noStrike">
              <a:solidFill>
                <a:srgbClr val="ccecff"/>
              </a:solidFill>
              <a:latin typeface="Arial"/>
            </a:endParaRPr>
          </a:p>
        </p:txBody>
      </p:sp>
      <p:sp>
        <p:nvSpPr>
          <p:cNvPr id="176" name="PlaceHolder 2"/>
          <p:cNvSpPr>
            <a:spLocks noGrp="1"/>
          </p:cNvSpPr>
          <p:nvPr>
            <p:ph/>
          </p:nvPr>
        </p:nvSpPr>
        <p:spPr>
          <a:xfrm>
            <a:off x="0" y="1267920"/>
            <a:ext cx="9144000" cy="518508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Un tercero busca lograr acercamiento entre las partes:</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Ofreciendo una sede</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oniendo en contacto a las partes</a:t>
            </a:r>
            <a:endParaRPr b="0" lang="en-US" sz="18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tercero NO participa directamente en las negociaciones, y menos, tiene poder de decisión</a:t>
            </a:r>
            <a:endParaRPr b="0" lang="en-US" sz="20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tercero no se involucra en las negociaciones</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i así fuere, sería una mediación</a:t>
            </a:r>
            <a:endParaRPr b="0" lang="en-US" sz="18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ntervención tercero no finaliza hasta que hay acuerdo</a:t>
            </a:r>
            <a:endParaRPr b="0" lang="en-US" sz="20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Acuerdo queda plasmado en un Tratado</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3. Mediación</a:t>
            </a:r>
            <a:endParaRPr b="0" lang="en-US" sz="3200" spc="-1" strike="noStrike">
              <a:solidFill>
                <a:srgbClr val="ccecff"/>
              </a:solidFill>
              <a:latin typeface="Arial"/>
            </a:endParaRPr>
          </a:p>
        </p:txBody>
      </p:sp>
      <p:sp>
        <p:nvSpPr>
          <p:cNvPr id="178" name="PlaceHolder 2"/>
          <p:cNvSpPr>
            <a:spLocks noGrp="1"/>
          </p:cNvSpPr>
          <p:nvPr>
            <p:ph/>
          </p:nvPr>
        </p:nvSpPr>
        <p:spPr>
          <a:xfrm>
            <a:off x="0" y="1267920"/>
            <a:ext cx="9144000" cy="53722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rtes dan a uno o varios terceros el poder para mediar</a:t>
            </a:r>
            <a:endParaRPr b="0" lang="en-US" sz="20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Ya sea por un tratado anterior al conflicto, o</a:t>
            </a:r>
            <a:endParaRPr b="0" lang="en-US" sz="18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or nota que se envía al mediador</a:t>
            </a:r>
            <a:endParaRPr b="0" lang="en-US" sz="18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tercero propone bases de solución </a:t>
            </a:r>
            <a:endParaRPr b="0" lang="en-US" sz="20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Bases son facultativas para las partes</a:t>
            </a:r>
            <a:endParaRPr b="0" lang="en-US" sz="18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Bases no pueden ser consideradas un acto inamistoso</a:t>
            </a:r>
            <a:endParaRPr b="0" lang="en-US" sz="18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Las organizaciones internacionales tienen la obligación de ofrecer sus oficios para mediar</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No finaliza hasta logrado un acuerdo</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mediador está entre las partes, pero no tiene facultades para decidir</a:t>
            </a:r>
            <a:endParaRPr b="0" lang="en-US" sz="20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i fuera así, se convertiría en arbitraje</a:t>
            </a:r>
            <a:endParaRPr b="0" lang="en-US" sz="18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Acuerdos se plasman en un tratado</a:t>
            </a:r>
            <a:endParaRPr b="0" lang="en-US" sz="2000" spc="-1" strike="noStrike">
              <a:solidFill>
                <a:srgbClr val="ffffff"/>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4. Investigación</a:t>
            </a:r>
            <a:endParaRPr b="0" lang="en-US" sz="3200" spc="-1" strike="noStrike">
              <a:solidFill>
                <a:srgbClr val="ccecff"/>
              </a:solidFill>
              <a:latin typeface="Arial"/>
            </a:endParaRPr>
          </a:p>
        </p:txBody>
      </p:sp>
      <p:sp>
        <p:nvSpPr>
          <p:cNvPr id="180" name="PlaceHolder 2"/>
          <p:cNvSpPr>
            <a:spLocks noGrp="1"/>
          </p:cNvSpPr>
          <p:nvPr>
            <p:ph/>
          </p:nvPr>
        </p:nvSpPr>
        <p:spPr>
          <a:xfrm>
            <a:off x="0" y="1268280"/>
            <a:ext cx="9144000" cy="551664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rtes involucradas encargan a una comisión la investigación de hecho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nforme de la comisión no es vinculante</a:t>
            </a:r>
            <a:endParaRPr b="0" lang="en-US" sz="20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misión no dirime el asunto de fondo, salvo que por principio de autonomía de las partes, den al informe carácter de vinculante</a:t>
            </a:r>
            <a:endParaRPr b="0" lang="en-US" sz="1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Origen histórico</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nferencias de La Haya de 1899 y 1907</a:t>
            </a:r>
            <a:endParaRPr b="0" lang="en-US" sz="20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mo creación de mecanismo alternativo al arbitraj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5. Conciliación</a:t>
            </a:r>
            <a:endParaRPr b="0" lang="en-US" sz="3200" spc="-1" strike="noStrike">
              <a:solidFill>
                <a:srgbClr val="ccecff"/>
              </a:solidFill>
              <a:latin typeface="Arial"/>
            </a:endParaRPr>
          </a:p>
        </p:txBody>
      </p:sp>
      <p:sp>
        <p:nvSpPr>
          <p:cNvPr id="182" name="PlaceHolder 2"/>
          <p:cNvSpPr>
            <a:spLocks noGrp="1"/>
          </p:cNvSpPr>
          <p:nvPr>
            <p:ph/>
          </p:nvPr>
        </p:nvSpPr>
        <p:spPr>
          <a:xfrm>
            <a:off x="0" y="1267920"/>
            <a:ext cx="9144000" cy="49690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rtes solicitan a un órgano colegiado (Comisión de Conciliación) inspección personal de todos los aspectos de la controversia (hechos y derechos)</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iferencia con la investigación, en que ésta, sólo se pronuncia sobre cuestiones de hecho</a:t>
            </a:r>
            <a:endParaRPr b="0" lang="en-US" sz="18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misión formula una propuesta de solución de carácter global y no vinculante</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iferencia con la mediación, en que en ésta, la formulación de la propuesta no es un trámite obligatorio</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iferencia con el arbitraje, ya que éste conoce sobre el hecho y el derecho, pero con carácter obligatorio</a:t>
            </a:r>
            <a:endParaRPr b="0" lang="en-US" sz="18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Más rápido que los medios jurisdiccionales</a:t>
            </a:r>
            <a:endParaRPr b="0" lang="en-US" sz="20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s de utilización bastante excepcional</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1052640"/>
            <a:ext cx="8229600" cy="502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Medios Jurídicos</a:t>
            </a:r>
            <a:br>
              <a:rPr sz="4400"/>
            </a:br>
            <a:r>
              <a:rPr b="0" lang="es-CL" sz="4400" spc="-1" strike="noStrike">
                <a:solidFill>
                  <a:srgbClr val="ccecff"/>
                </a:solidFill>
                <a:latin typeface="Arial"/>
              </a:rPr>
              <a:t>de Solución</a:t>
            </a:r>
            <a:br>
              <a:rPr sz="4400"/>
            </a:br>
            <a:r>
              <a:rPr b="0" lang="es-CL" sz="4400" spc="-1" strike="noStrike">
                <a:solidFill>
                  <a:srgbClr val="ccecff"/>
                </a:solidFill>
                <a:latin typeface="Arial"/>
              </a:rPr>
              <a:t>de las Controversias</a:t>
            </a:r>
            <a:br>
              <a:rPr sz="4400"/>
            </a:b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85" name="PlaceHolder 2"/>
          <p:cNvSpPr>
            <a:spLocks noGrp="1"/>
          </p:cNvSpPr>
          <p:nvPr>
            <p:ph/>
          </p:nvPr>
        </p:nvSpPr>
        <p:spPr>
          <a:xfrm>
            <a:off x="-360" y="1339920"/>
            <a:ext cx="8999640" cy="5184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sfera de competencia: todos los asuntos que los Estados determinen en los respectivos tratados</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egulada por la Conferencia de Paz de La Haya de 1907</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reación de la Corte Permanente de Arbitraje</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Lista de árbitros: cuatro juristas por Nación</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reación de reglas comunes </a:t>
            </a:r>
            <a:endParaRPr b="0" lang="en-US" sz="18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Medio facultativo aún cuando se sea parte de la Conferencia de La Haya</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Facultativo si requiere un acuerdo ulterior de las partes para constituir el tribunal; obligatorio, si pactada una cláusula arbitral, cualquiera de las partes demanda a la otra para resolver el conflicto</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jecución de la sentencia</a:t>
            </a:r>
            <a:endParaRPr b="0" lang="en-US" sz="20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udo tiene efecto obligatorio</a:t>
            </a:r>
            <a:endParaRPr b="0" lang="en-US" sz="1800" spc="-1" strike="noStrike">
              <a:solidFill>
                <a:srgbClr val="ffffff"/>
              </a:solidFill>
              <a:latin typeface="Verdana"/>
            </a:endParaRPr>
          </a:p>
          <a:p>
            <a:pPr lvl="3" marL="1600200" indent="-228600">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jecución queda entregada a las parte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87" name="PlaceHolder 2"/>
          <p:cNvSpPr>
            <a:spLocks noGrp="1"/>
          </p:cNvSpPr>
          <p:nvPr>
            <p:ph/>
          </p:nvPr>
        </p:nvSpPr>
        <p:spPr>
          <a:xfrm>
            <a:off x="0" y="1322280"/>
            <a:ext cx="9144000" cy="54914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Definición</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rocedimiento jurisdiccional que tiene por objeto la solución de una controversia a través de un tercero, que dicta una solución (laudo arbitral) de carácter </a:t>
            </a:r>
            <a:r>
              <a:rPr b="0" i="1" lang="es-CL" sz="2000" spc="-1" strike="noStrike">
                <a:solidFill>
                  <a:srgbClr val="ffffff"/>
                </a:solidFill>
                <a:latin typeface="Verdana"/>
              </a:rPr>
              <a:t>obligatoria, </a:t>
            </a:r>
            <a:r>
              <a:rPr b="0" lang="es-CL" sz="2000" spc="-1" strike="noStrike">
                <a:solidFill>
                  <a:srgbClr val="ffffff"/>
                </a:solidFill>
                <a:latin typeface="Verdana"/>
              </a:rPr>
              <a:t>aplicando el Derecho Internacional.</a:t>
            </a:r>
            <a:endParaRPr b="0" lang="en-US" sz="20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Ventaj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Jueces son designados por las partes</a:t>
            </a:r>
            <a:endParaRPr b="0" lang="en-US" sz="20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rtes pueden determinar las reglas del procedimiento</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ueden incluso indicarles el Derecho aplicable</a:t>
            </a:r>
            <a:endParaRPr b="0" lang="en-US" sz="18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Desventaj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ección de los árbitros pueden generar mayores conflictos</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n algunos tratados, cuando no hay consenso sobre el punto, la decisión recae en un tercero predefinido</a:t>
            </a:r>
            <a:endParaRPr b="0" lang="en-US" sz="18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roblemas idiomáticos entre las partes y los árbitros</a:t>
            </a:r>
            <a:endParaRPr b="0" lang="en-US" sz="20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nseguridad del procedimiento que depende directamente de las part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89" name="PlaceHolder 2"/>
          <p:cNvSpPr>
            <a:spLocks noGrp="1"/>
          </p:cNvSpPr>
          <p:nvPr>
            <p:ph/>
          </p:nvPr>
        </p:nvSpPr>
        <p:spPr>
          <a:xfrm>
            <a:off x="0" y="1341360"/>
            <a:ext cx="9144000" cy="54007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Mecanismos para hacerlo efectivo</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Verdana"/>
              </a:rPr>
              <a:t>Tratado general de arbitraje:</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ratado anterior al conflicto establece a éste como el medio de solución de las controversias</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Fija la competencia del tribunal</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Normalmente no caben los temas políticos</a:t>
            </a:r>
            <a:endParaRPr b="0" lang="en-US" sz="16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stablece la composición del tribunal</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Unipersonal o pluripersonal (más de tres miembros)</a:t>
            </a:r>
            <a:endParaRPr b="0" lang="en-US" sz="16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Dicta las normas generales del procedimiento</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Fase escrita u oral</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Medios de prueba, etc.</a:t>
            </a:r>
            <a:endParaRPr b="0" lang="en-US" sz="16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ñala las características de la sentencia</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Fundada en Derecho o no</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Tipo de mayoría</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Quien dirime en caso de empate</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Sujeción a algún recurso</a:t>
            </a:r>
            <a:endParaRPr b="0" lang="en-US" sz="16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recisa la duración del mecanismo</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Con plazo o indefinido</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91" name="PlaceHolder 2"/>
          <p:cNvSpPr>
            <a:spLocks noGrp="1"/>
          </p:cNvSpPr>
          <p:nvPr>
            <p:ph/>
          </p:nvPr>
        </p:nvSpPr>
        <p:spPr>
          <a:xfrm>
            <a:off x="0" y="1267920"/>
            <a:ext cx="9144000" cy="4797720"/>
          </a:xfrm>
          <a:prstGeom prst="rect">
            <a:avLst/>
          </a:prstGeom>
          <a:noFill/>
          <a:ln w="0">
            <a:noFill/>
          </a:ln>
        </p:spPr>
        <p:txBody>
          <a:bodyPr lIns="90000" rIns="90000" tIns="46800" bIns="46800" anchor="t">
            <a:normAutofit/>
          </a:bodyPr>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Verdana"/>
              </a:rPr>
              <a:t>Compromiso</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osterior al conflicto</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cuerdo ad-hoc</a:t>
            </a:r>
            <a:r>
              <a:rPr b="0" lang="es-CL" sz="1800" spc="-1" strike="noStrike">
                <a:solidFill>
                  <a:srgbClr val="ffffff"/>
                </a:solidFill>
                <a:latin typeface="Verdana"/>
              </a:rPr>
              <a:t>	</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stablece el tribunal y las reglas básicas aplicables</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uede darse por:</a:t>
            </a:r>
            <a:endParaRPr b="0" lang="en-US" sz="1800" spc="-1" strike="noStrike">
              <a:solidFill>
                <a:srgbClr val="ffffff"/>
              </a:solidFill>
              <a:latin typeface="Verdana"/>
            </a:endParaRPr>
          </a:p>
          <a:p>
            <a:pPr lvl="3" marL="1600200" indent="-228600" algn="just">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Tratado anterior que fija una cláusula arbitral</a:t>
            </a:r>
            <a:endParaRPr b="0" lang="en-US" sz="1600" spc="-1" strike="noStrike">
              <a:solidFill>
                <a:srgbClr val="ffffff"/>
              </a:solidFill>
              <a:latin typeface="Verdana"/>
            </a:endParaRPr>
          </a:p>
          <a:p>
            <a:pPr lvl="3" marL="1600200" indent="-228600" algn="just">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Acuerdo de los Estados para solucionar el conflicto vía arbitraje</a:t>
            </a:r>
            <a:endParaRPr b="0" lang="en-US" sz="16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mpromiso se extingue con el fin del proceso</a:t>
            </a:r>
            <a:endParaRPr b="0" lang="en-US" sz="1800" spc="-1" strike="noStrike">
              <a:solidFill>
                <a:srgbClr val="ffffff"/>
              </a:solidFill>
              <a:latin typeface="Verdan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Verdana"/>
              </a:rPr>
              <a:t>Cláusula compromisoria</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ntenida en un tratado sobre cualquier materia </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ermite que una parte que tenga o crea tener un conflicto lleve a la otra a una corte arbitral</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ñala como se constituye el tribunal</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Introducción</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relación entre el DIP y la Solución de las Controversias Internacionales es de una simbiosis, ya que por el principio de </a:t>
            </a:r>
            <a:r>
              <a:rPr b="0" i="1" lang="es-CL" sz="2400" spc="-1" strike="noStrike">
                <a:solidFill>
                  <a:srgbClr val="ffffff"/>
                </a:solidFill>
                <a:latin typeface="Verdana"/>
              </a:rPr>
              <a:t>Prohibición del uso o amenaza de la fuerza</a:t>
            </a:r>
            <a:r>
              <a:rPr b="0" lang="es-CL" sz="2400" spc="-1" strike="noStrike">
                <a:solidFill>
                  <a:srgbClr val="ffffff"/>
                </a:solidFill>
                <a:latin typeface="Verdana"/>
              </a:rPr>
              <a:t>, los Estados deben resolver sus conflictos a través de medios pacíficos, los cuales son estudiados por esta área del Derecho Internacional.</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Actualmente la solución de las controversias se basa en el Art. 2.3 de la Carta de la ONU: </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cc66"/>
                </a:solidFill>
                <a:latin typeface="Verdana"/>
              </a:rPr>
              <a:t>“</a:t>
            </a:r>
            <a:r>
              <a:rPr b="0" lang="es-ES_tradnl" sz="2400" spc="-1" strike="noStrike">
                <a:solidFill>
                  <a:srgbClr val="ffcc66"/>
                </a:solidFill>
                <a:latin typeface="Verdana"/>
              </a:rPr>
              <a:t>...arreglarán sus controversias internacionales por medios pacíficos de tal manera que no se pongan en peligro ni la paz y la seguridad internacionales ni la justicia”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93" name="PlaceHolder 2"/>
          <p:cNvSpPr>
            <a:spLocks noGrp="1"/>
          </p:cNvSpPr>
          <p:nvPr>
            <p:ph/>
          </p:nvPr>
        </p:nvSpPr>
        <p:spPr>
          <a:xfrm>
            <a:off x="-360" y="1341360"/>
            <a:ext cx="9109080" cy="51120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ompetencia</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mpugnación:</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ropio tribunal arbitral conoce de su competencia o incompetencia</a:t>
            </a:r>
            <a:endParaRPr b="0" lang="en-US" sz="18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ementos para fijar la competencia</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Materia</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No hay límites, salvo que materia sea contraria al </a:t>
            </a:r>
            <a:r>
              <a:rPr b="0" i="1" lang="es-CL" sz="1600" spc="-1" strike="noStrike">
                <a:solidFill>
                  <a:srgbClr val="ffffff"/>
                </a:solidFill>
                <a:latin typeface="Verdana"/>
              </a:rPr>
              <a:t>jus cogens</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artes</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Mismas con que se pactó: </a:t>
            </a:r>
            <a:r>
              <a:rPr b="0" i="1" lang="es-CL" sz="1600" spc="-1" strike="noStrike">
                <a:solidFill>
                  <a:srgbClr val="ffffff"/>
                </a:solidFill>
                <a:latin typeface="Verdana"/>
              </a:rPr>
              <a:t>Ratione Personae</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emporalidad</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Según retroactividad o irretroactividad del tratado: </a:t>
            </a:r>
            <a:r>
              <a:rPr b="0" i="1" lang="es-CL" sz="1600" spc="-1" strike="noStrike">
                <a:solidFill>
                  <a:srgbClr val="ffffff"/>
                </a:solidFill>
                <a:latin typeface="Verdana"/>
              </a:rPr>
              <a:t>Ratione Temporis</a:t>
            </a:r>
            <a:endParaRPr b="0" lang="en-US" sz="16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Recursos</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nterpretación</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nte el mismo tribunal que lo dictó</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uando a juicio de una de las partes se creó una controversia en virtud de la interpretación de la sentencia</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Determina el sentido y la forma en como se aplica</a:t>
            </a: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95" name="PlaceHolder 2"/>
          <p:cNvSpPr>
            <a:spLocks noGrp="1"/>
          </p:cNvSpPr>
          <p:nvPr>
            <p:ph/>
          </p:nvPr>
        </p:nvSpPr>
        <p:spPr>
          <a:xfrm>
            <a:off x="0" y="1267920"/>
            <a:ext cx="9144000" cy="4753080"/>
          </a:xfrm>
          <a:prstGeom prst="rect">
            <a:avLst/>
          </a:prstGeom>
          <a:noFill/>
          <a:ln w="0">
            <a:noFill/>
          </a:ln>
        </p:spPr>
        <p:txBody>
          <a:bodyPr lIns="90000" rIns="90000" tIns="46800" bIns="46800" anchor="t">
            <a:normAutofit/>
          </a:bodyPr>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evisión</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nte el mismo tribunal que lo dictó</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uando, a juicio de una de las partes, un elemento está mal considerado o planteado en la sentencia</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produce por</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rror de hecho o hecho nuevo</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Documento falso o adulterado</a:t>
            </a:r>
            <a:endParaRPr b="0" lang="en-US" sz="16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Apelación</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nte otro tribunal</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a de forma muy excepcional</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Sólo en regímenes muy acotados. Ej.: CIADI</a:t>
            </a:r>
            <a:endParaRPr b="0" lang="en-US" sz="16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Nulidad</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Institución desarrollada sólo por reglas modelos de Derecho Internacional, no por tratados.</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ausales: Nulidad de compromiso, corrupción y exceso de poder</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 </a:t>
            </a:r>
            <a:r>
              <a:rPr b="0" lang="es-CL" sz="3200" spc="-1" strike="noStrike">
                <a:solidFill>
                  <a:srgbClr val="ccecff"/>
                </a:solidFill>
                <a:latin typeface="Arial"/>
              </a:rPr>
              <a:t>2. Arreglo Judicial</a:t>
            </a:r>
            <a:endParaRPr b="0" lang="en-US" sz="3200" spc="-1" strike="noStrike">
              <a:solidFill>
                <a:srgbClr val="ccecff"/>
              </a:solidFill>
              <a:latin typeface="Arial"/>
            </a:endParaRPr>
          </a:p>
        </p:txBody>
      </p:sp>
      <p:sp>
        <p:nvSpPr>
          <p:cNvPr id="197" name="PlaceHolder 2"/>
          <p:cNvSpPr>
            <a:spLocks noGrp="1"/>
          </p:cNvSpPr>
          <p:nvPr>
            <p:ph/>
          </p:nvPr>
        </p:nvSpPr>
        <p:spPr>
          <a:xfrm>
            <a:off x="0" y="1268280"/>
            <a:ext cx="9144000" cy="482472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 generales</a:t>
            </a:r>
            <a:endParaRPr b="0" lang="en-US" sz="24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Tribunales permanentes</a:t>
            </a:r>
            <a:endParaRPr b="0" lang="en-US" sz="20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esoluciones obligatorias</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acción por parte del Consejo de Seguridad</a:t>
            </a:r>
            <a:endParaRPr b="0" lang="en-US" sz="18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Función análoga a la del arbitraje</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Diferencia más importante: </a:t>
            </a:r>
            <a:endParaRPr b="0" lang="en-US" sz="1800" spc="-1" strike="noStrike">
              <a:solidFill>
                <a:srgbClr val="ffffff"/>
              </a:solidFill>
              <a:latin typeface="Verdana"/>
            </a:endParaRPr>
          </a:p>
          <a:p>
            <a:pPr lvl="3" marL="1600200" indent="-228600" algn="just">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Tribunal constituido antes de que las partes acuerden recurrir a ese medio</a:t>
            </a:r>
            <a:endParaRPr b="0" lang="en-US" sz="16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Tribunales más importante</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Internacional de Justicia</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ribunal Internacional de Derecho del Mar</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Penal Internacional</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Interamericana de Derechos Humano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1 Corte Internacional de Justicia (CIJ)</a:t>
            </a:r>
            <a:endParaRPr b="0" lang="en-US" sz="3200" spc="-1" strike="noStrike">
              <a:solidFill>
                <a:srgbClr val="ccecff"/>
              </a:solidFill>
              <a:latin typeface="Arial"/>
            </a:endParaRPr>
          </a:p>
        </p:txBody>
      </p:sp>
      <p:sp>
        <p:nvSpPr>
          <p:cNvPr id="199" name="PlaceHolder 2"/>
          <p:cNvSpPr>
            <a:spLocks noGrp="1"/>
          </p:cNvSpPr>
          <p:nvPr>
            <p:ph/>
          </p:nvPr>
        </p:nvSpPr>
        <p:spPr>
          <a:xfrm>
            <a:off x="0" y="1125360"/>
            <a:ext cx="9144000" cy="5616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sado histórico: Corte Permanente de Justicia Internacional (1920) (Sociedad de Naciones)</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rincipal órgano jurisdiccional de la ONU</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Funcionamiento</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15 miembros electos por la Asamblea Gral. y C. Seguridad</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flejan la diversidad geográfica (no más de uno por Estado)</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ersonas de los más altos puestos en la carrera judicial o personas dotadas de gran competencia en D° Internacional</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or regla no escrita hay un juez por cada miembro permanente de la ONU</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ueden haber </a:t>
            </a:r>
            <a:r>
              <a:rPr b="0" lang="es-ES" sz="1600" spc="-1" strike="noStrike">
                <a:solidFill>
                  <a:srgbClr val="ffffff"/>
                </a:solidFill>
                <a:latin typeface="Verdana"/>
              </a:rPr>
              <a:t>además jueces “ad- hoc” cuando en la corte  no hay miembros de alguno de los países que se enfrentan</a:t>
            </a:r>
            <a:r>
              <a:rPr b="0" lang="es-ES" sz="1600" spc="-1" strike="noStrike">
                <a:solidFill>
                  <a:srgbClr val="ffffff"/>
                </a:solidFill>
                <a:latin typeface="Verdana"/>
              </a:rPr>
              <a:t> </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uede funcionar </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n pleno, quórum mínimo: 9 miembros</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n sala, sólo de manera excepcional</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u sede se encuentra en La Haya (Holanda)</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Idiomas oficiales: Inglés y Francés </a:t>
            </a:r>
            <a:endParaRPr b="0" lang="en-US" sz="18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statuto de la Corte es su norma fundamental</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utiliza como código de procedimiento</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glamento de la Corte precisa las normas sustantiva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0" y="1123920"/>
            <a:ext cx="9144000" cy="51134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ompetencia</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ntenciosa</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ólo para conflictos interestatales</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quiere que Estados hayan aceptado someterse a su conocimiento, vía:</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n un tratado general: cualquiera de las partes en el tratado puede llevar a otro Estado parte a la CIJ. Ej: Pacto de Bogotá</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Cláusula compromisoria: dentro de un tratado sobre otro tema, sirve para instaurar competencia respecto al objeto del tratado </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Compromiso: las partes de común acuerdo  deciden someter su conflicto al conocimiento de un tribunal permanente, luego de producido el conflicto</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Declaración en virtud de una cláusula facultativa: Acto unilateral de un Estado que es parte del estatuto y que declara unilateralmente aceptar la jurisdicción contenciosa de la CIJ. Puede ser formulada de tal manera que reserva la jurisdicción tanto en materia, tiempo o Estados con los cuales se someterá. Se puede pensar más aun el factor temporalidad instaurando un plazo resolutorio</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Prorroga de competencia tácita: Aquella en que el Estado demandado que no ha reconocido la jurisdicción del tribunal, se presenta sin discutir la competencia alegando el fondo del asunto </a:t>
            </a:r>
            <a:endParaRPr b="0" lang="en-US" sz="1600" spc="-1" strike="noStrike">
              <a:solidFill>
                <a:srgbClr val="ffffff"/>
              </a:solidFill>
              <a:latin typeface="Verdana"/>
            </a:endParaRPr>
          </a:p>
        </p:txBody>
      </p:sp>
      <p:sp>
        <p:nvSpPr>
          <p:cNvPr id="201" name="PlaceHolder 2"/>
          <p:cNvSpPr>
            <a:spLocks noGrp="1"/>
          </p:cNvSpPr>
          <p:nvPr>
            <p:ph type="title"/>
          </p:nvPr>
        </p:nvSpPr>
        <p:spPr>
          <a:xfrm>
            <a:off x="457200" y="43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1 Corte Internacional de Justicia (CIJ)</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0" y="1369800"/>
            <a:ext cx="9144000" cy="501156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ntenciosa</a:t>
            </a:r>
            <a:endParaRPr b="0" lang="en-US" sz="20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IJ debe aceptar la competencia, resolviendo conflictos de jurisdicción</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IJ puede adoptar </a:t>
            </a:r>
            <a:r>
              <a:rPr b="0" i="1" lang="es-CL" sz="1800" spc="-1" strike="noStrike">
                <a:solidFill>
                  <a:srgbClr val="ffffff"/>
                </a:solidFill>
                <a:latin typeface="Verdana"/>
              </a:rPr>
              <a:t>medidas provisionales o precautorias</a:t>
            </a:r>
            <a:r>
              <a:rPr b="0" lang="es-CL" sz="1800" spc="-1" strike="noStrike">
                <a:solidFill>
                  <a:srgbClr val="ffffff"/>
                </a:solidFill>
                <a:latin typeface="Verdana"/>
              </a:rPr>
              <a:t>, ya sea de oficio o a petición de partes</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debe juzgar, en principio, en Derecho, o facultado por el Art. 38 del Estatuto, </a:t>
            </a:r>
            <a:r>
              <a:rPr b="0" i="1" lang="es-CL" sz="1800" spc="-1" strike="noStrike">
                <a:solidFill>
                  <a:srgbClr val="ffffff"/>
                </a:solidFill>
                <a:latin typeface="Verdana"/>
              </a:rPr>
              <a:t>ex aequo et bono</a:t>
            </a:r>
            <a:r>
              <a:rPr b="0" lang="es-CL" sz="1800" spc="-1" strike="noStrike">
                <a:solidFill>
                  <a:srgbClr val="ffffff"/>
                </a:solidFill>
                <a:latin typeface="Verdana"/>
              </a:rPr>
              <a:t> (equidad)</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Decisión final: vinculante</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cursos</a:t>
            </a:r>
            <a:endParaRPr b="0" lang="en-US" sz="1800" spc="-1" strike="noStrike">
              <a:solidFill>
                <a:srgbClr val="ffffff"/>
              </a:solidFill>
              <a:latin typeface="Verdana"/>
            </a:endParaRPr>
          </a:p>
          <a:p>
            <a:pPr lvl="3" marL="1600200" indent="-228600">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Apelación: no es posible</a:t>
            </a:r>
            <a:endParaRPr b="0" lang="en-US" sz="1600" spc="-1" strike="noStrike">
              <a:solidFill>
                <a:srgbClr val="ffffff"/>
              </a:solidFill>
              <a:latin typeface="Verdana"/>
            </a:endParaRPr>
          </a:p>
          <a:p>
            <a:pPr lvl="3" marL="1600200" indent="-228600">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Interpretación: de manera excepcional, por la propia corte</a:t>
            </a:r>
            <a:endParaRPr b="0" lang="en-US" sz="1600" spc="-1" strike="noStrike">
              <a:solidFill>
                <a:srgbClr val="ffffff"/>
              </a:solidFill>
              <a:latin typeface="Verdana"/>
            </a:endParaRPr>
          </a:p>
          <a:p>
            <a:pPr lvl="3" marL="1600200" indent="-228600">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visión: al surgir un hecho nuevo de naturaleza decisoria, desconocido por la corte y por la parte que presenta el recurso, siempre que no haya habido negligencia en su ignorancia</a:t>
            </a:r>
            <a:endParaRPr b="0" lang="en-US" sz="16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n el caso de que una de las partes no cumpla el fallo, la parte ganadora puede acudir al Consejo de Seguridad para que éste imponga alguna medida coercitiva en los términos de la Carta de la ONU, para hacer efectiva la sentencia </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puede pronunciarse sobre una eventual </a:t>
            </a:r>
            <a:r>
              <a:rPr b="0" i="1" lang="es-CL" sz="1800" spc="-1" strike="noStrike">
                <a:solidFill>
                  <a:srgbClr val="ffffff"/>
                </a:solidFill>
                <a:latin typeface="Verdana"/>
              </a:rPr>
              <a:t>indemnización de perjuicios</a:t>
            </a:r>
            <a:endParaRPr b="0" lang="en-US" sz="1800" spc="-1" strike="noStrike">
              <a:solidFill>
                <a:srgbClr val="ffffff"/>
              </a:solidFill>
              <a:latin typeface="Verdana"/>
            </a:endParaRPr>
          </a:p>
        </p:txBody>
      </p:sp>
      <p:sp>
        <p:nvSpPr>
          <p:cNvPr id="203" name="PlaceHolder 2"/>
          <p:cNvSpPr>
            <a:spLocks noGrp="1"/>
          </p:cNvSpPr>
          <p:nvPr>
            <p:ph type="title"/>
          </p:nvPr>
        </p:nvSpPr>
        <p:spPr>
          <a:xfrm>
            <a:off x="468360" y="57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1 Corte Internacional de Justicia (CIJ)</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0" y="1341360"/>
            <a:ext cx="9144000" cy="4176720"/>
          </a:xfrm>
          <a:prstGeom prst="rect">
            <a:avLst/>
          </a:prstGeom>
          <a:noFill/>
          <a:ln w="0">
            <a:noFill/>
          </a:ln>
        </p:spPr>
        <p:txBody>
          <a:bodyPr lIns="90000" rIns="90000" tIns="46800" bIns="46800" anchor="t">
            <a:normAutofit/>
          </a:bodyPr>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nsultiva</a:t>
            </a:r>
            <a:endParaRPr b="0" lang="en-US" sz="20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resentadas por: Consejo de Seguridad, Asamblea General u órganos especiales de ONU (UNESCO, FAO, OMS, OIT, etc.)</a:t>
            </a:r>
            <a:endParaRPr b="0" lang="en-US" sz="18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soluciones en éste ámbito no son vinculantes</a:t>
            </a:r>
            <a:endParaRPr b="0" lang="en-US" sz="18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emite una opinión de carácter jurídico sobre algún asunto litigioso</a:t>
            </a:r>
            <a:endParaRPr b="0" lang="en-US" sz="18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60% de las opiniones han provenido de la Asamblea General</a:t>
            </a:r>
            <a:endParaRPr b="0" lang="en-US" sz="18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l establecer precedentes jurídicos, no se distingue entre fallos u opiniones consultivas</a:t>
            </a:r>
            <a:endParaRPr b="0" lang="en-US" sz="1800" spc="-1" strike="noStrike">
              <a:solidFill>
                <a:srgbClr val="ffffff"/>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5" name="PlaceHolder 2"/>
          <p:cNvSpPr>
            <a:spLocks noGrp="1"/>
          </p:cNvSpPr>
          <p:nvPr>
            <p:ph type="title"/>
          </p:nvPr>
        </p:nvSpPr>
        <p:spPr>
          <a:xfrm>
            <a:off x="457200" y="43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1 Corte Internacional de Justicia (CIJ)</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71280"/>
            <a:ext cx="9144000" cy="549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2 Tribunal Internacional de Derecho del Mar</a:t>
            </a:r>
            <a:endParaRPr b="0" lang="en-US" sz="3200" spc="-1" strike="noStrike">
              <a:solidFill>
                <a:srgbClr val="ccecff"/>
              </a:solidFill>
              <a:latin typeface="Arial"/>
            </a:endParaRPr>
          </a:p>
        </p:txBody>
      </p:sp>
      <p:sp>
        <p:nvSpPr>
          <p:cNvPr id="207" name="PlaceHolder 2"/>
          <p:cNvSpPr>
            <a:spLocks noGrp="1"/>
          </p:cNvSpPr>
          <p:nvPr>
            <p:ph/>
          </p:nvPr>
        </p:nvSpPr>
        <p:spPr>
          <a:xfrm>
            <a:off x="0" y="576360"/>
            <a:ext cx="9144000" cy="6237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de: Hamburgo</a:t>
            </a:r>
            <a:endParaRPr b="0" lang="en-US" sz="1800" spc="-1" strike="noStrike">
              <a:solidFill>
                <a:srgbClr val="ffffff"/>
              </a:solidFill>
              <a:latin typeface="Verdana"/>
            </a:endParaRPr>
          </a:p>
          <a:p>
            <a:pPr lvl="1" marL="743040" indent="-285840" algn="just">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hile acepta la competencia para conocer de controversias marítimas respecto de otros Estados que hayan reconocido igual competencia</a:t>
            </a:r>
            <a:endParaRPr b="0" lang="en-US" sz="1800" spc="-1" strike="noStrike">
              <a:solidFill>
                <a:srgbClr val="ffffff"/>
              </a:solidFill>
              <a:latin typeface="Verdana"/>
            </a:endParaRPr>
          </a:p>
          <a:p>
            <a:pPr lvl="1" marL="743040" indent="-285840" algn="just">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iene 10 años de antigüedad</a:t>
            </a:r>
            <a:endParaRPr b="0" lang="en-US" sz="1800" spc="-1" strike="noStrike">
              <a:solidFill>
                <a:srgbClr val="ffffff"/>
              </a:solidFill>
              <a:latin typeface="Verdana"/>
            </a:endParaRPr>
          </a:p>
          <a:p>
            <a:pPr lvl="1" marL="743040" indent="-285840" algn="just">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Importa un reforzamiento a las normas de la Convención de las Naciones Unidas sobre Derecho del Mar</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gulación de: </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Zona Económica Exclusiva (200 MM)</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lataforma Continental</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Medio ambiente marino, etc.</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gula jurisdicción, ya sea con una corte permanente (Tribunal Internacional de Derecho del Mar), o por una jurisdicción arbitral</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gula el </a:t>
            </a:r>
            <a:r>
              <a:rPr b="0" i="1" lang="es-CL" sz="1600" spc="-1" strike="noStrike">
                <a:solidFill>
                  <a:srgbClr val="ffffff"/>
                </a:solidFill>
                <a:latin typeface="Verdana"/>
              </a:rPr>
              <a:t>Patrimonio común de la humanidad</a:t>
            </a:r>
            <a:r>
              <a:rPr b="0" lang="es-CL" sz="1600" spc="-1" strike="noStrike">
                <a:solidFill>
                  <a:srgbClr val="ffffff"/>
                </a:solidFill>
                <a:latin typeface="Verdana"/>
              </a:rPr>
              <a:t>, que son los minerales que están en el fondo marino</a:t>
            </a:r>
            <a:endParaRPr b="0" lang="en-US" sz="1600" spc="-1" strike="noStrike">
              <a:solidFill>
                <a:srgbClr val="ffffff"/>
              </a:solidFill>
              <a:latin typeface="Verdana"/>
            </a:endParaRPr>
          </a:p>
          <a:p>
            <a:pPr lvl="4" marL="2057400" indent="-228600" algn="just">
              <a:lnSpc>
                <a:spcPct val="80000"/>
              </a:lnSpc>
              <a:spcBef>
                <a:spcPts val="400"/>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Hay mecanismos especiales de solución de controversias en este aspecto</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La Convención sobre D° del Mar acepta que algunas controversias no sean llevadas a tribunales internacionales, porque forman parte del ámbito interno de los Estados, es decir algunas medidas que adopten los estados en </a:t>
            </a:r>
            <a:r>
              <a:rPr b="1" lang="es-ES" sz="1600" spc="-1" strike="noStrike">
                <a:solidFill>
                  <a:srgbClr val="ffffff"/>
                </a:solidFill>
                <a:latin typeface="Verdana"/>
              </a:rPr>
              <a:t>sus</a:t>
            </a:r>
            <a:r>
              <a:rPr b="0" lang="es-ES" sz="1600" spc="-1" strike="noStrike">
                <a:solidFill>
                  <a:srgbClr val="ffffff"/>
                </a:solidFill>
                <a:latin typeface="Verdana"/>
              </a:rPr>
              <a:t> espacios marítimos y las controversias en las zonas propias de los Estados, no sean llevadas a un tribunal internacional (reglas de respeto de la soberanía de los Estados). </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Además, hay competencia facultativa, las cuales son </a:t>
            </a:r>
            <a:r>
              <a:rPr b="0" lang="es-ES" sz="1600" spc="-1" strike="noStrike">
                <a:solidFill>
                  <a:srgbClr val="ffffff"/>
                </a:solidFill>
                <a:latin typeface="Verdana"/>
              </a:rPr>
              <a:t>aquellas que los Estados pueden admitir como controversia  que puede ser llevada ante un tribunal. Ejemplo, es facultativo excluir las actividades militare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ecff"/>
                </a:solidFill>
                <a:latin typeface="Arial"/>
              </a:rPr>
              <a:t>Medios de Solución Pacífica de Controversias.</a:t>
            </a:r>
            <a:endParaRPr b="0" lang="en-US" sz="4000" spc="-1" strike="noStrike">
              <a:solidFill>
                <a:srgbClr val="ccecff"/>
              </a:solidFill>
              <a:latin typeface="Arial"/>
            </a:endParaRPr>
          </a:p>
        </p:txBody>
      </p:sp>
      <p:sp>
        <p:nvSpPr>
          <p:cNvPr id="161"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Los medios están señalados en el Art.. 33 de la Carta ONU: </a:t>
            </a: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Verdana"/>
              </a:rPr>
              <a:t>  “… </a:t>
            </a:r>
            <a:r>
              <a:rPr b="0" lang="es-ES_tradnl" sz="2800" spc="-1" strike="noStrike">
                <a:solidFill>
                  <a:srgbClr val="ffcc66"/>
                </a:solidFill>
                <a:latin typeface="Verdana"/>
              </a:rPr>
              <a:t>susceptible de poner en peligro la paz y la  seguridad internacionales tratarán de buscarle solución, ante todo mediante la negociación, la investigación, la mediación, la conciliación, el arbitraje, el arreglo judicial, el recurso a organismos o acuerdos regionales u otros medios pacíficos a su elección.”</a:t>
            </a:r>
            <a:r>
              <a:rPr b="0" lang="es-ES_tradnl" sz="2800" spc="-1" strike="noStrike">
                <a:solidFill>
                  <a:srgbClr val="ffcc66"/>
                </a:solidFill>
                <a:latin typeface="Verdana"/>
              </a:rPr>
              <a:t> </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De la lectura de la disposición se desprende el principio general de </a:t>
            </a:r>
            <a:r>
              <a:rPr b="0" i="1" lang="es-CL" sz="2800" spc="-1" strike="noStrike">
                <a:solidFill>
                  <a:srgbClr val="ffffff"/>
                </a:solidFill>
                <a:latin typeface="Verdana"/>
              </a:rPr>
              <a:t>Libre elección de los Medio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Definición de Controversia</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principal definición la encontramos en la CPJI, Asunto Mavrommatis de 1924:</a:t>
            </a:r>
            <a:endParaRPr b="0" lang="en-US" sz="2400" spc="-1" strike="noStrike">
              <a:solidFill>
                <a:srgbClr val="ffffff"/>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cc66"/>
                </a:solidFill>
                <a:latin typeface="Verdana"/>
              </a:rPr>
              <a:t>“ </a:t>
            </a:r>
            <a:r>
              <a:rPr b="0" lang="es-CL" sz="2400" spc="-1" strike="noStrike">
                <a:solidFill>
                  <a:srgbClr val="ffcc66"/>
                </a:solidFill>
                <a:latin typeface="Verdana"/>
              </a:rPr>
              <a:t>una controversia es un desacuerdo sobre un punto de derecho o de hecho, una contradicción, una oposición de tesis jurídicas o de intereses entre dos personas.” </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De manera más reciente, la CIJ en la sentencia de 1998 sobre el Asunto de la frontera terrestre y marítima entre Camerún y Nigeria declaró: </a:t>
            </a:r>
            <a:endParaRPr b="0" lang="en-US" sz="2400" spc="-1" strike="noStrike">
              <a:solidFill>
                <a:srgbClr val="ffffff"/>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cc66"/>
                </a:solidFill>
                <a:latin typeface="Verdana"/>
              </a:rPr>
              <a:t>“</a:t>
            </a:r>
            <a:r>
              <a:rPr b="0" lang="es-CL" sz="2400" spc="-1" strike="noStrike">
                <a:solidFill>
                  <a:srgbClr val="ffcc66"/>
                </a:solidFill>
                <a:latin typeface="Verdana"/>
              </a:rPr>
              <a:t>para establecer la existencia de una controversia hay que demostrar que la reclamación de una parte se enfrenta al rechazo manifiesto de la otra parte y, además que la existencia de dicha controversia se determine de forma objetiv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Clases de controversias.</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principal distinción que hace la doctrina y la jurisprudencia apunta a las controversias </a:t>
            </a:r>
            <a:r>
              <a:rPr b="0" i="1" lang="es-CL" sz="2400" spc="-1" strike="noStrike">
                <a:solidFill>
                  <a:srgbClr val="ffffff"/>
                </a:solidFill>
                <a:latin typeface="Verdana"/>
              </a:rPr>
              <a:t>políticas</a:t>
            </a:r>
            <a:r>
              <a:rPr b="0" lang="es-CL" sz="2400" spc="-1" strike="noStrike">
                <a:solidFill>
                  <a:srgbClr val="ffffff"/>
                </a:solidFill>
                <a:latin typeface="Verdana"/>
              </a:rPr>
              <a:t> y las </a:t>
            </a:r>
            <a:r>
              <a:rPr b="0" i="1" lang="es-CL" sz="2400" spc="-1" strike="noStrike">
                <a:solidFill>
                  <a:srgbClr val="ffffff"/>
                </a:solidFill>
                <a:latin typeface="Verdana"/>
              </a:rPr>
              <a:t>jurídicas</a:t>
            </a:r>
            <a:r>
              <a:rPr b="0" lang="es-CL" sz="2400" spc="-1" strike="noStrike">
                <a:solidFill>
                  <a:srgbClr val="ffffff"/>
                </a:solidFill>
                <a:latin typeface="Verdana"/>
              </a:rPr>
              <a:t>.</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mayor distinción radica en los puntos en conflicto y en la forma de solución. Así, las </a:t>
            </a:r>
            <a:r>
              <a:rPr b="0" i="1" lang="es-CL" sz="2400" spc="-1" strike="noStrike">
                <a:solidFill>
                  <a:srgbClr val="ffffff"/>
                </a:solidFill>
                <a:latin typeface="Verdana"/>
              </a:rPr>
              <a:t>jurídicas</a:t>
            </a:r>
            <a:r>
              <a:rPr b="0" lang="es-CL" sz="2400" spc="-1" strike="noStrike">
                <a:solidFill>
                  <a:srgbClr val="ffffff"/>
                </a:solidFill>
                <a:latin typeface="Verdana"/>
              </a:rPr>
              <a:t> se refieren a la forma de aplicación del derecho vigente, por lo que se resuelven aplicando el derecho vigente. Las </a:t>
            </a:r>
            <a:r>
              <a:rPr b="0" i="1" lang="es-CL" sz="2400" spc="-1" strike="noStrike">
                <a:solidFill>
                  <a:srgbClr val="ffffff"/>
                </a:solidFill>
                <a:latin typeface="Verdana"/>
              </a:rPr>
              <a:t>políticas</a:t>
            </a:r>
            <a:r>
              <a:rPr b="0" lang="es-CL" sz="2400" spc="-1" strike="noStrike">
                <a:solidFill>
                  <a:srgbClr val="ffffff"/>
                </a:solidFill>
                <a:latin typeface="Verdana"/>
              </a:rPr>
              <a:t> son aquellas basadas en una pretensión cuya solución requiere la modificación del derecho vigente, por lo que se solucionan al alcanzar un nuevo acuerdo específico sobre la materia litigios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Evolución de la forma de solución de las controversias</a:t>
            </a:r>
            <a:endParaRPr b="0" lang="en-US" sz="3200" spc="-1" strike="noStrike">
              <a:solidFill>
                <a:srgbClr val="ccecff"/>
              </a:solidFill>
              <a:latin typeface="Arial"/>
            </a:endParaRPr>
          </a:p>
        </p:txBody>
      </p:sp>
      <p:sp>
        <p:nvSpPr>
          <p:cNvPr id="167" name="PlaceHolder 2"/>
          <p:cNvSpPr>
            <a:spLocks noGrp="1"/>
          </p:cNvSpPr>
          <p:nvPr>
            <p:ph/>
          </p:nvPr>
        </p:nvSpPr>
        <p:spPr>
          <a:xfrm>
            <a:off x="250920" y="1196640"/>
            <a:ext cx="8642160" cy="56610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nferencias de Paz: </a:t>
            </a:r>
            <a:r>
              <a:rPr b="0" lang="es-CL" sz="2000" spc="-1" strike="noStrike">
                <a:solidFill>
                  <a:srgbClr val="ffffff"/>
                </a:solidFill>
                <a:latin typeface="Verdana"/>
              </a:rPr>
              <a:t>Pre I Guerra Mundial</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La Haya 1899 y 1907: Surgen tribunales internacionales (aún vigentes), que regulan la guerra como el arbitraje.</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nvención sobre solución pacífica de 1907 incorpora una cláusula para </a:t>
            </a:r>
            <a:r>
              <a:rPr b="0" i="1" lang="es-CL" sz="1800" spc="-1" strike="noStrike">
                <a:solidFill>
                  <a:srgbClr val="ffffff"/>
                </a:solidFill>
                <a:latin typeface="Verdana"/>
              </a:rPr>
              <a:t>“evitar en lo posible</a:t>
            </a:r>
            <a:r>
              <a:rPr b="0" lang="es-CL" sz="1800" spc="-1" strike="noStrike">
                <a:solidFill>
                  <a:srgbClr val="ffffff"/>
                </a:solidFill>
                <a:latin typeface="Verdana"/>
              </a:rPr>
              <a:t> el uso de la fuerza”. Por lo que no se está renunciando totalmente a ésta.</a:t>
            </a:r>
            <a:endParaRPr b="0" lang="en-US" sz="18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Sociedad de Naciones: </a:t>
            </a:r>
            <a:r>
              <a:rPr b="0" lang="es-CL" sz="2000" spc="-1" strike="noStrike">
                <a:solidFill>
                  <a:srgbClr val="ffffff"/>
                </a:solidFill>
                <a:latin typeface="Verdana"/>
              </a:rPr>
              <a:t>Históricamente no tuvo éxito.</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os estados someterán sus controversias a arbitraje y otros medios de solución pacífica, absteniéndose de usar la fuerza durante un periodo de latencia de la controversia (3 meses), y sólo podrán usarla luego de conocido el laudo arbitral</a:t>
            </a:r>
            <a:endParaRPr b="0" lang="en-US" sz="18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Pacto Briand Kellog: </a:t>
            </a:r>
            <a:r>
              <a:rPr b="0" lang="es-CL" sz="2000" spc="-1" strike="noStrike">
                <a:solidFill>
                  <a:srgbClr val="ffffff"/>
                </a:solidFill>
                <a:latin typeface="Verdana"/>
              </a:rPr>
              <a:t>Pre II Guerra Mundial</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Uso de la fuerza sólo a título de legítima defenza</a:t>
            </a:r>
            <a:endParaRPr b="0" lang="en-US" sz="18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Sistema de seguridad colectiva de la ONU: </a:t>
            </a:r>
            <a:r>
              <a:rPr b="0" lang="es-CL" sz="2000" spc="-1" strike="noStrike">
                <a:solidFill>
                  <a:srgbClr val="ffffff"/>
                </a:solidFill>
                <a:latin typeface="Verdana"/>
              </a:rPr>
              <a:t>Vencedores II Guerra Mundial</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gulación del empleo de la fuerza :limitación al uso, fabricación y transformación de las armas convencionales y de destrucción masiva.</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operación de los Estados para resolver sus controversias de manera pacífic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44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Principios fundantes de la solución de las controversias de la ONU.</a:t>
            </a:r>
            <a:endParaRPr b="0" lang="en-US" sz="3200" spc="-1" strike="noStrike">
              <a:solidFill>
                <a:srgbClr val="ccecff"/>
              </a:solidFill>
              <a:latin typeface="Arial"/>
            </a:endParaRPr>
          </a:p>
        </p:txBody>
      </p:sp>
      <p:sp>
        <p:nvSpPr>
          <p:cNvPr id="169"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Prohibición de la amenaza o el uso de la fuerza para resolver las controversi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Supervisión por parte de los principales órganos de la ONU: Asamblea General, Consejo de seguridad, y los propios Estados.</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xcepciones: Art. 7 y 51 Carta ONU</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ebate la legitimidad de la defensa propia preventiva.</a:t>
            </a:r>
            <a:endParaRPr b="0" lang="en-US" sz="18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Obligación de recurrir a medios pacíficos para resolver las controversi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objetivo principal es no poner en peligro la paz, libertad y justicia.</a:t>
            </a:r>
            <a:endParaRPr b="0" lang="en-US" sz="20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ibertad de elección de los medio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Debido a la falta de preeminencia de uno por sobre otro</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 nivel regional puede darse un orden de prelación. </a:t>
            </a:r>
            <a:endParaRPr b="0" lang="en-US" sz="1800" spc="-1" strike="noStrike">
              <a:solidFill>
                <a:srgbClr val="ffffff"/>
              </a:solidFill>
              <a:latin typeface="Verdana"/>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Ej. Pacto de Bogotá de 1943</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44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Medios de Solución de Diferencias.</a:t>
            </a:r>
            <a:endParaRPr b="0" lang="en-US" sz="3200" spc="-1" strike="noStrike">
              <a:solidFill>
                <a:srgbClr val="ccecff"/>
              </a:solidFill>
              <a:latin typeface="Arial"/>
            </a:endParaRPr>
          </a:p>
        </p:txBody>
      </p:sp>
      <p:sp>
        <p:nvSpPr>
          <p:cNvPr id="171"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Medios diplomáticos o políticos: </a:t>
            </a:r>
            <a:endParaRPr b="0" lang="en-US" sz="24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Negociaciones Directas</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Buenos Oficios</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Mediación</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Investigación</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nciliación</a:t>
            </a:r>
            <a:endParaRPr b="0" lang="en-US" sz="1800" spc="-1" strike="noStrike">
              <a:solidFill>
                <a:srgbClr val="ffffff"/>
              </a:solidFill>
              <a:latin typeface="Verdana"/>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Buscan facilitar un acuerdo, sin mediar una solución de fondo</a:t>
            </a:r>
            <a:endParaRPr b="0" lang="en-US" sz="18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Medios Jurídicos:</a:t>
            </a:r>
            <a:endParaRPr b="0" lang="en-US" sz="24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rbitraje</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rreglo judicial</a:t>
            </a:r>
            <a:endParaRPr b="0" lang="en-US" sz="1800" spc="-1" strike="noStrike">
              <a:solidFill>
                <a:srgbClr val="ffffff"/>
              </a:solidFill>
              <a:latin typeface="Verdana"/>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Soluciones vinculantes para las partes</a:t>
            </a:r>
            <a:endParaRPr b="0" lang="en-US" sz="18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Medios Violentos:</a:t>
            </a:r>
            <a:endParaRPr b="0" lang="en-US" sz="2400" spc="-1" strike="noStrike">
              <a:solidFill>
                <a:srgbClr val="ffffff"/>
              </a:solidFill>
              <a:latin typeface="Verdana"/>
            </a:endParaRPr>
          </a:p>
          <a:p>
            <a:pPr lvl="1" marL="990720" indent="-533520">
              <a:lnSpc>
                <a:spcPct val="90000"/>
              </a:lnSpc>
              <a:spcBef>
                <a:spcPts val="49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Ultimátum</a:t>
            </a:r>
            <a:endParaRPr b="0" lang="en-US" sz="2000" spc="-1" strike="noStrike">
              <a:solidFill>
                <a:srgbClr val="ffffff"/>
              </a:solidFill>
              <a:latin typeface="Verdana"/>
            </a:endParaRPr>
          </a:p>
          <a:p>
            <a:pPr lvl="1" marL="990720" indent="-533520">
              <a:lnSpc>
                <a:spcPct val="90000"/>
              </a:lnSpc>
              <a:spcBef>
                <a:spcPts val="49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uptura de relaciones diplomáticas</a:t>
            </a:r>
            <a:endParaRPr b="0" lang="en-US" sz="2000" spc="-1" strike="noStrike">
              <a:solidFill>
                <a:srgbClr val="ffffff"/>
              </a:solidFill>
              <a:latin typeface="Verdana"/>
            </a:endParaRPr>
          </a:p>
          <a:p>
            <a:pPr lvl="1" marL="990720" indent="-533520">
              <a:lnSpc>
                <a:spcPct val="90000"/>
              </a:lnSpc>
              <a:spcBef>
                <a:spcPts val="49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etorsión</a:t>
            </a:r>
            <a:endParaRPr b="0" lang="en-US" sz="2000" spc="-1" strike="noStrike">
              <a:solidFill>
                <a:srgbClr val="ffffff"/>
              </a:solidFill>
              <a:latin typeface="Verdana"/>
            </a:endParaRPr>
          </a:p>
          <a:p>
            <a:pPr lvl="1" marL="990720" indent="-533520">
              <a:lnSpc>
                <a:spcPct val="90000"/>
              </a:lnSpc>
              <a:spcBef>
                <a:spcPts val="49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Guerra</a:t>
            </a:r>
            <a:endParaRPr b="0" lang="en-US" sz="2000" spc="-1" strike="noStrike">
              <a:solidFill>
                <a:srgbClr val="ffffff"/>
              </a:solidFill>
              <a:latin typeface="Verdan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1052640"/>
            <a:ext cx="8229600" cy="502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Medios Diplomáticos o Políticos</a:t>
            </a:r>
            <a:br>
              <a:rPr sz="4400"/>
            </a:br>
            <a:r>
              <a:rPr b="0" lang="es-CL" sz="4400" spc="-1" strike="noStrike">
                <a:solidFill>
                  <a:srgbClr val="ccecff"/>
                </a:solidFill>
                <a:latin typeface="Arial"/>
              </a:rPr>
              <a:t>de Solución</a:t>
            </a:r>
            <a:br>
              <a:rPr sz="4400"/>
            </a:br>
            <a:r>
              <a:rPr b="0" lang="es-CL" sz="4400" spc="-1" strike="noStrike">
                <a:solidFill>
                  <a:srgbClr val="ccecff"/>
                </a:solidFill>
                <a:latin typeface="Arial"/>
              </a:rPr>
              <a:t>de las Controversias</a:t>
            </a:r>
            <a:br>
              <a:rPr sz="4400"/>
            </a:b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7T14:38:11Z</dcterms:created>
  <dc:creator>Julio Jáuregui Medina</dc:creator>
  <dc:description/>
  <dc:language>en-US</dc:language>
  <cp:lastModifiedBy>lucarna03</cp:lastModifiedBy>
  <dcterms:modified xsi:type="dcterms:W3CDTF">2008-06-17T13:46:11Z</dcterms:modified>
  <cp:revision>5</cp:revision>
  <dc:subject/>
  <dc:title>Solución de Controversias Internacionales.</dc:title>
</cp:coreProperties>
</file>