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FFCA-F035-48FE-87FA-7E51D799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074-D472-47FD-BDA5-A2E4447E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9CE-E9E5-4DF1-B30D-37FC1941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971-F280-4AD6-AFBC-DCF8188D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A660C-5C51-4FED-945A-C4BA0646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84A8E-4DAB-4869-B703-CA9D5FC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4D18-1A48-49FA-8F3E-7C525A59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319BC-48E2-4366-BC74-648E393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9CD0-D002-42B8-9039-9809801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ECB8-ADAC-4DC4-813A-B37A9415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CF4DC-2156-4919-A853-9B45DD6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7EF-01B1-471E-BB40-DA69434D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A8742-2223-49FE-98B1-B1B4146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7382D-B828-48EB-8FC6-859BACB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A5E3-6583-4628-90E4-9B351575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9ECC8-C634-4495-A4B7-8B37D9B3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FF5A-5B0D-4C1B-83DC-EA4F78A8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364-BD24-4C48-A1B3-7F278BA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83D-C0DB-4EE8-B097-6167E3A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062-11DF-4D51-B529-92D762AB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667-379B-4184-AA96-C4BB1CC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AD3-AB7D-4BC8-AC44-C963B84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15D-473B-4133-96B2-C6684E9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D6B-3482-4BAD-A537-249F7F5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139-CA88-4D2B-BD01-D25037F2AB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41E-E188-4C6E-8120-CAEA9DDA07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025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e3e3ff"/>
                </a:solidFill>
                <a:latin typeface="Arial"/>
              </a:rPr>
              <a:t>Eximentes de Ilicitud Internaciona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65640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ora: Gilda Cicci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udante: Miriam Gutiér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3e3ff"/>
                </a:solidFill>
                <a:latin typeface="Arial"/>
              </a:rPr>
              <a:t>Eximentes de ilicitu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USAS QUE EXCLUYEN LA ILICIT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istencia de un comportamiento contrario a una obligación internacional, permite afirmar la existencia de un comportamiento ilícito; pero puede haber circunstancias que hagan inoperante dicha obligación por lo que no se atenúa ni agrava la responsabilidad, sino que se excluye al no existir ya dich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Hay 6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onsentimiento de un Estado válidamente prestado a la comisión por otro Estado de un comportamiento contrario a una obligación internacional de éste (sólo se excluye la responsabilidad al Estado al que se ha dado el consentimiento). El límite a esta causa lo da el “ius cogen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contramedidas, siempre que se trate de actos que, a pesar de ser ilícitos, se consideren legítimos según el Derecho internacional. (Ej.: ruptura de las relaciones diplomátic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   La fuerza mayor y el caso fortuito: casos que impiden al Estado actuar en conformidad a una obligación internacional. (Ej.: impago de una deuda extern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3e3ff"/>
                </a:solidFill>
                <a:latin typeface="Arial"/>
              </a:rPr>
              <a:t>Cont. Circunstancias excluyen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ligro externo vinculado con la protección de las personas confiadas al cuidado del Estado, sean nacionales o no. Consiste en que el Estado no tenga otra alternativa que incumplir una obligación para salvar a esas personas. La condición es que el Estado no haya contribuido con su actitud a generar esa situación de peli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tado de necesidad. Se puede invocar estado de necesidad si el acto, inicialmente ilícito, ha sido el único medio para salvaguardar el interés esencial del Estado contra un peligro grave e inminente. Condición excluyente: que con ese comportamiento no se afecte de manera grave el interés del Estado con el que se tiene la obligación. Problema básico: saber si cabría el uso de fuerza y en qué med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Legítima defensa. E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ículo 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ta de las Naciones Uni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mpara la respuesta armada ante una agresión en ejercicio de la legítima defensa. Condición: la legítima defensa cesa en el momento en que la Organización, en concreto el Consejo de Seguridad, se hace cargo de la situ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9:16:45Z</dcterms:created>
  <dc:creator>daniel contreras soto</dc:creator>
  <dc:description/>
  <dc:language>en-US</dc:language>
  <cp:lastModifiedBy>daniel contreras soto</cp:lastModifiedBy>
  <dcterms:modified xsi:type="dcterms:W3CDTF">2008-05-19T19:25:59Z</dcterms:modified>
  <cp:revision>2</cp:revision>
  <dc:subject/>
  <dc:title>Eximentes de Ilicitud Internacional</dc:title>
</cp:coreProperties>
</file>