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370-8B95-4802-9EA9-8AA72665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8CF-E9F8-4090-8FBA-976E38CE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CA2-8B1B-4234-9C63-C510A864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3BF-64B4-41C9-B2C7-7E7DAA5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4310-0D58-4A8E-923F-92CA0209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F20F0-A8C5-43A6-8013-E298AE27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BE104-C2C6-48B5-B786-0045677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D84F-4E6D-4099-81C8-0471DB1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0312-1065-41D4-A021-A531F5C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FF262-A33F-459F-9A1F-FD11F2C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A64BE-B540-44F7-AE90-D37CD87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EE4-CBC7-44FA-85EA-F563B15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C4262-23AA-4D5C-B2EF-057CD7F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380F1-2406-408E-BE8B-A80D62E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7B62-9544-4397-B733-5ED55C1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E7BC3-58EA-4D21-A254-519339AA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5DB4-C04B-4D6C-8193-81067760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087-4C36-4EEB-9786-01E41C3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18D-CD9C-4760-9DE7-302729A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137-1741-4719-AAFD-668388B3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65E-386C-4F95-A2DB-E32A28E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30E-B158-493C-8613-31328C4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322-8C0F-4D44-A6DF-10C6515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7D9-D049-4119-A73D-5F43666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06A7-68C7-40AA-A27F-96B949E3D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A93D-B6A9-41F6-B631-E3DABE98D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02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e3e3ff"/>
                </a:solidFill>
                <a:latin typeface="Arial"/>
              </a:rPr>
              <a:t>Eximentes de Ilicitud Internaciona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6564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ora: Gilda Cicci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nte: Miriam Gutiér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3e3ff"/>
                </a:solidFill>
                <a:latin typeface="Arial"/>
              </a:rPr>
              <a:t>Eximentes de ilicitu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USAS QUE EXCLUYEN LA ILICIT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istencia de un comportamiento contrario a una obligación internacional, permite afirmar la existencia de un comportamiento ilícito; pero puede haber circunstancias que hagan inoperante dicha obligación por lo que no se atenúa ni agrava la responsabilidad, sino que se excluye al no existir ya dich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Hay 6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nsentimiento de un Estado válidamente prestado a la comisión por otro Estado de un comportamiento contrario a una obligación internacional de éste (sólo se excluye la responsabilidad al Estado al que se ha dado el consentimiento). El límite a esta causa lo da el “ius cogen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contramedidas, siempre que se trate de actos que, a pesar de ser ilícitos, se consideren legítimos según el Derecho internacional. (Ej.: ruptura de las relaciones diplomátic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 La fuerza mayor y el caso fortuito: casos que impiden al Estado actuar en conformidad a una obligación internacional. (Ej.: impago de una deuda exter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Cont.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ligro externo vinculado con la protección de las personas confiadas al cuidado del Estado, sean nacionales o no. Consiste en que el Estado no tenga otra alternativa que incumplir una obligación para salvar a esas personas. La condición es que el Estado no haya contribuido con su actitud a generar esa situación de peli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tado de necesidad. Se puede invocar estado de necesidad si el acto, inicialmente ilícito, ha sido el único medio para salvaguardar el interés esencial del Estado contra un peligro grave e inminente. Condición excluyente: que con ese comportamiento no se afecte de manera grave el interés del Estado con el que se tiene la obligación. Problema básico: saber si cabría el uso de fuerza y en qué med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Legítima defensa. 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ículo 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ta de las Naciones Uni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mpara la respuesta armada ante una agresión en ejercicio de la legítima defensa. Condición: la legítima defensa cesa en el momento en que la Organización, en concreto el Consejo de Seguridad, se hace cargo de la situ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9:16:45Z</dcterms:created>
  <dc:creator>daniel contreras soto</dc:creator>
  <dc:description/>
  <dc:language>en-US</dc:language>
  <cp:lastModifiedBy>daniel contreras soto</cp:lastModifiedBy>
  <dcterms:modified xsi:type="dcterms:W3CDTF">2008-05-19T19:25:59Z</dcterms:modified>
  <cp:revision>2</cp:revision>
  <dc:subject/>
  <dc:title>Eximentes de Ilicitud Internacional</dc:title>
</cp:coreProperties>
</file>