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A07-4211-42D7-8A6A-9F6056A3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50B-0563-4177-B9FC-EB941615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13A-576C-4F13-9679-99117B37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B4F-1579-4FF1-88A3-AE90B3B8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E8294-5263-4E66-B1B7-C8A332CB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51CB3-7991-4CB2-980A-A17CF3F7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AB323-4226-4CC9-A729-5A94FA77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DD97E-232C-435D-86A1-68109424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085A1-7293-4CF7-B488-CD33E9E3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C9E6B-69AA-4856-8ED1-CE0D9883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E2C72-329F-49A4-9197-6F97B3A8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B29-CE6C-430E-B3F8-AC77E2C3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BBD53-4A73-4FD8-AF15-33322BDF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11390-F84D-46FB-85A2-652950A1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F66E7-1B1E-4894-8A2C-23305780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951FF-6AD4-45F7-A955-F8102CDB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49BAF-CC31-4380-87F3-B6358B6C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788-99E0-4133-BEAE-1C3AE1EB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F51-B867-478E-8810-1D57FBFE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28F-4F65-4B57-998D-F74E4EF7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4B4-AC7A-4BCE-B945-F52FAC5E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735-BE5B-4CD2-AD58-5B8D00C3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777-E435-4CD1-A7B1-0A5DBF0E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A30-BF88-46CF-8B9C-D1E3B0A0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A1FD-AA2A-4F2F-A0F6-10B695F287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A9FE-4812-49A2-9A5E-287C916525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02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e3e3ff"/>
                </a:solidFill>
                <a:latin typeface="Arial"/>
              </a:rPr>
              <a:t>Eximentes de Ilicitud Internacional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65640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ora: Gilda Cicci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yudante: Miriam Gutiérr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o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3e3ff"/>
                </a:solidFill>
                <a:latin typeface="Arial"/>
              </a:rPr>
              <a:t>Eximentes de ilicitu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USAS QUE EXCLUYEN LA ILICIT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xistencia de un comportamiento contrario a una obligación internacional, permite afirmar la existencia de un comportamiento ilícito; pero puede haber circunstancias que hagan inoperante dicha obligación por lo que no se atenúa ni agrava la responsabilidad, sino que se excluye al no existir ya dicha oblig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Hay 6 circunstancias excluyen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consentimiento de un Estado válidamente prestado a la comisión por otro Estado de un comportamiento contrario a una obligación internacional de éste (sólo se excluye la responsabilidad al Estado al que se ha dado el consentimiento). El límite a esta causa lo da el “ius cogen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 contramedidas, siempre que se trate de actos que, a pesar de ser ilícitos, se consideren legítimos según el Derecho internacional. (Ej.: ruptura de las relaciones diplomátic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   La fuerza mayor y el caso fortuito: casos que impiden al Estado actuar en conformidad a una obligación internacional. (Ej.: impago de una deuda extern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3e3ff"/>
                </a:solidFill>
                <a:latin typeface="Arial"/>
              </a:rPr>
              <a:t>Cont. Circunstancias excluyen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peligro externo vinculado con la protección de las personas confiadas al cuidado del Estado, sean nacionales o no. Consiste en que el Estado no tenga otra alternativa que incumplir una obligación para salvar a esas personas. La condición es que el Estado no haya contribuido con su actitud a generar esa situación de pelig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estado de necesidad. Se puede invocar estado de necesidad si el acto, inicialmente ilícito, ha sido el único medio para salvaguardar el interés esencial del Estado contra un peligro grave e inminente. Condición excluyente: que con ese comportamiento no se afecte de manera grave el interés del Estado con el que se tiene la obligación. Problema básico: saber si cabría el uso de fuerza y en qué med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Legítima defensa. E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tículo 5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l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ta de las Naciones Unid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mpara la respuesta armada ante una agresión en ejercicio de la legítima defensa. Condición: la legítima defensa cesa en el momento en que la Organización, en concreto el Consejo de Seguridad, se hace cargo de la situ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9:16:45Z</dcterms:created>
  <dc:creator>daniel contreras soto</dc:creator>
  <dc:description/>
  <dc:language>en-US</dc:language>
  <cp:lastModifiedBy>daniel contreras soto</cp:lastModifiedBy>
  <dcterms:modified xsi:type="dcterms:W3CDTF">2008-05-19T19:25:59Z</dcterms:modified>
  <cp:revision>2</cp:revision>
  <dc:subject/>
  <dc:title>Eximentes de Ilicitud Internacional</dc:title>
</cp:coreProperties>
</file>