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AF49C-6EC6-4654-8C1A-55E705A0C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A89EA-0032-422D-9947-408C8E5C5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69763-531E-4299-9906-B554DF08A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E9358-A213-42C0-8873-1462D0E97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89E198-A3AD-4D8B-9FA1-EBC9091D2A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F8C01-42BC-4071-92FB-51108A9F2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8FCF6-A175-4C2E-A27B-53AA47C03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C261E7-5311-4511-B595-14982C749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8F4AD-341F-4410-B8E7-26EF65CC8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BB219-02F9-4DD9-BD5C-0E5834BD8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0A938-9B08-4634-8867-6D887CC03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E0903-4DAC-49B4-B862-E0C8073F6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616E9-4FE4-4845-BEAA-EA49C17FB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0CE43-812F-4969-BBB0-F09C686C0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0009C-C0B2-4107-95DB-CE8E396E95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A10644-1DDD-4A50-8402-1850F639F4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D81559-A627-461B-B1EC-C876400056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C2F5A-99CE-49D7-9E65-A72562677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D3E46-2F88-4949-B472-8AA06EBE3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9BFE1-2436-4C99-93DB-739A2D101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2D376-20A6-4252-B53C-6335D9B6F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8B9B8-0647-4DB6-8D92-179F9BDF4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F9CB6-A6F2-4390-A26D-409A57075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9C7FE-D19D-4390-8C62-2E3E3A066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2DA97-2BF8-4049-AA59-4F1E9CD6B99C}"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4408B-C954-42BF-B032-4DD3402EF5E4}"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480" y="1700280"/>
            <a:ext cx="6878520" cy="2719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cc66"/>
                </a:solidFill>
                <a:latin typeface="Arial"/>
                <a:ea typeface="Times New Roman"/>
              </a:rPr>
              <a:t> </a:t>
            </a:r>
            <a:endParaRPr b="0" lang="en-US" sz="4800" spc="-1" strike="noStrike">
              <a:solidFill>
                <a:srgbClr val="ffcc66"/>
              </a:solidFill>
              <a:latin typeface="Arial"/>
            </a:endParaRPr>
          </a:p>
        </p:txBody>
      </p:sp>
      <p:sp>
        <p:nvSpPr>
          <p:cNvPr id="89" name="PlaceHolder 2"/>
          <p:cNvSpPr>
            <a:spLocks noGrp="1"/>
          </p:cNvSpPr>
          <p:nvPr>
            <p:ph type="subTitle"/>
          </p:nvPr>
        </p:nvSpPr>
        <p:spPr>
          <a:xfrm>
            <a:off x="468000" y="549000"/>
            <a:ext cx="8280360" cy="5327640"/>
          </a:xfrm>
          <a:prstGeom prst="rect">
            <a:avLst/>
          </a:prstGeom>
          <a:noFill/>
          <a:ln w="0">
            <a:noFill/>
          </a:ln>
        </p:spPr>
        <p:txBody>
          <a:bodyPr lIns="92160" rIns="92160" tIns="46080" bIns="46080" anchor="ctr">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cc66"/>
                </a:solidFill>
                <a:latin typeface="Arial"/>
                <a:ea typeface="Arial"/>
              </a:rPr>
              <a:t>Responsabilidad Internacional de los Estados</a:t>
            </a:r>
            <a:endParaRPr b="0" lang="en-US" sz="4400" spc="-1" strike="noStrike">
              <a:solidFill>
                <a:srgbClr val="ffffff"/>
              </a:solidFill>
              <a:latin typeface="Times New Roman"/>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Profesora: Gilda Cicci S.</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Ayudante : Miriam Gutiérrez</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Mayo 2008</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0" name=""/>
          <p:cNvSpPr/>
          <p:nvPr/>
        </p:nvSpPr>
        <p:spPr>
          <a:xfrm>
            <a:off x="0" y="0"/>
            <a:ext cx="9144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Culpa</a:t>
            </a:r>
            <a:endParaRPr b="0" lang="en-US" sz="4400" spc="-1" strike="noStrike">
              <a:solidFill>
                <a:srgbClr val="ffcc66"/>
              </a:solidFill>
              <a:latin typeface="Arial"/>
            </a:endParaRPr>
          </a:p>
        </p:txBody>
      </p:sp>
      <p:sp>
        <p:nvSpPr>
          <p:cNvPr id="108" name="PlaceHolder 2"/>
          <p:cNvSpPr>
            <a:spLocks noGrp="1"/>
          </p:cNvSpPr>
          <p:nvPr>
            <p:ph/>
          </p:nvPr>
        </p:nvSpPr>
        <p:spPr>
          <a:xfrm>
            <a:off x="179280" y="1628640"/>
            <a:ext cx="8785440" cy="52293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Arial"/>
              </a:rPr>
              <a:t>Lo  relevante no es la actitud psicológica de los individuos que actúan como órganos del Estado, sino la conducta objetiva del Estado: el Estado es responsable por la violación de cualquiera de sus obligaciones sin necesidad de identificar una falla psicológica en ninguno de sus agentes. un funcionario ejecutivo puede infringir un deber Internacional del Estado sin culpa alguna de su parte, por el  hecho de cumplir una norma de derecho interno que viole el Derecho Internacional.</a:t>
            </a:r>
            <a:r>
              <a:rPr b="0" lang="es-ES_tradnl" sz="3200" spc="-1" strike="noStrike">
                <a:solidFill>
                  <a:srgbClr val="ffffff"/>
                </a:solidFill>
                <a:latin typeface="Arial"/>
                <a:ea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Concepto de culpa</a:t>
            </a:r>
            <a:endParaRPr b="0" lang="en-US" sz="4400" spc="-1" strike="noStrike">
              <a:solidFill>
                <a:srgbClr val="ffcc66"/>
              </a:solidFill>
              <a:latin typeface="Arial"/>
            </a:endParaRPr>
          </a:p>
        </p:txBody>
      </p:sp>
      <p:sp>
        <p:nvSpPr>
          <p:cNvPr id="110" name="PlaceHolder 2"/>
          <p:cNvSpPr>
            <a:spLocks noGrp="1"/>
          </p:cNvSpPr>
          <p:nvPr>
            <p:ph/>
          </p:nvPr>
        </p:nvSpPr>
        <p:spPr>
          <a:xfrm>
            <a:off x="826920" y="1413000"/>
            <a:ext cx="7631280" cy="46828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Algunos autores consideran el concepto de "culpa" como equivalente a la violación objetiva de una obligación internacional en vez de corresponder a un elemento subjetivo de malicia o negligencia. </a:t>
            </a:r>
            <a:endParaRPr b="0" lang="en-US" sz="2400" spc="-1" strike="noStrike">
              <a:solidFill>
                <a:srgbClr val="ffffff"/>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l concepto de la culpa como una violación de una obligación preexistente es, superfluo, porque reitera el primer elemento constitutivo a que hemos hecho referencia.   conduce a conclusiones erróneas,  es muy difícil aislar a la culpa de las connotaciones subjetivas que adquirió en el derecho romano.</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Arial"/>
              </a:rPr>
              <a:t>Dificultad</a:t>
            </a:r>
            <a:endParaRPr b="0" lang="en-US" sz="4000" spc="-1" strike="noStrike">
              <a:solidFill>
                <a:srgbClr val="ffcc66"/>
              </a:solidFill>
              <a:latin typeface="Arial"/>
            </a:endParaRPr>
          </a:p>
        </p:txBody>
      </p:sp>
      <p:sp>
        <p:nvSpPr>
          <p:cNvPr id="112" name="PlaceHolder 2"/>
          <p:cNvSpPr>
            <a:spLocks noGrp="1"/>
          </p:cNvSpPr>
          <p:nvPr>
            <p:ph/>
          </p:nvPr>
        </p:nvSpPr>
        <p:spPr>
          <a:xfrm>
            <a:off x="684360" y="1699920"/>
            <a:ext cx="7773840" cy="5157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Exigir la culpa como una condición general adicional de la responsabilidad internacional limita considerablemente la posibilidad de considerar a un Estado responsable de la violación de una obligación internacional.  La prueba de la intención ilícita o de la negligencia es muy difícil de producir, y la dificultad es particularmente mayor cuando este elemento subjetivo tiene que atribuirse al individuo o grupo de individuos que actuaron o dejaron de actuar en nombre del Estado.</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94920" y="188640"/>
            <a:ext cx="8497800" cy="1563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Arial"/>
              </a:rPr>
              <a:t>Determinación de Responsabilidad</a:t>
            </a:r>
            <a:endParaRPr b="0" lang="en-US" sz="4000" spc="-1" strike="noStrike">
              <a:solidFill>
                <a:srgbClr val="ffcc66"/>
              </a:solidFill>
              <a:latin typeface="Arial"/>
            </a:endParaRPr>
          </a:p>
        </p:txBody>
      </p:sp>
      <p:sp>
        <p:nvSpPr>
          <p:cNvPr id="114" name="PlaceHolder 2"/>
          <p:cNvSpPr>
            <a:spLocks noGrp="1"/>
          </p:cNvSpPr>
          <p:nvPr>
            <p:ph/>
          </p:nvPr>
        </p:nvSpPr>
        <p:spPr>
          <a:xfrm>
            <a:off x="755640" y="1700280"/>
            <a:ext cx="7702560" cy="43956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Para determinar la responsabilidad internacional, los tribunales de arbitraje generalmente no investigan el estado mental que ha motivado al individuo que causó el daño.</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Un Estado es  considerado responsable, por errores de juicio de sus agentes, aun si dichos errores se han cometido bona fide y están libres de cualquier elemento de malicia o negligencia culpable. En otros laudos, el tribunal hizo uso de la palabra "culpa", pero ésta fue considerada sinónima de la expresión "omisión de deber" o acto ilícito.</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Conclusión de la culpa</a:t>
            </a:r>
            <a:endParaRPr b="0" lang="en-US" sz="4400" spc="-1" strike="noStrike">
              <a:solidFill>
                <a:srgbClr val="ffcc66"/>
              </a:solidFill>
              <a:latin typeface="Arial"/>
            </a:endParaRPr>
          </a:p>
        </p:txBody>
      </p:sp>
      <p:sp>
        <p:nvSpPr>
          <p:cNvPr id="116" name="PlaceHolder 2"/>
          <p:cNvSpPr>
            <a:spLocks noGrp="1"/>
          </p:cNvSpPr>
          <p:nvPr>
            <p:ph/>
          </p:nvPr>
        </p:nvSpPr>
        <p:spPr>
          <a:xfrm>
            <a:off x="755640" y="1844280"/>
            <a:ext cx="7702560" cy="4251240"/>
          </a:xfrm>
          <a:prstGeom prst="rect">
            <a:avLst/>
          </a:prstGeom>
          <a:noFill/>
          <a:ln w="0">
            <a:noFill/>
          </a:ln>
        </p:spPr>
        <p:txBody>
          <a:bodyPr lIns="90000" rIns="90000" tIns="46800" bIns="46800" anchor="t">
            <a:normAutofit fontScale="96000"/>
          </a:bodyPr>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La culpabilidad o "culpa", aun cuando no se aplique a actos positivos, es un requisito previo a la violación del derecho internacional por omisión. </a:t>
            </a: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Si un Estado es responsable en estos casos, lo es sólo porque ha dejado de cumplir con el deber internacional de usar la "diligencia debida" dentro de los medios a su disposición, para impedir dichos actos.  La "diligencia debida" no es un elemento subjetivo, sino el contenido mismo de la obligación preexistente por cuya violación es responsable el Estado.</a:t>
            </a:r>
            <a:endParaRPr b="0" lang="en-US" sz="2400" spc="-1" strike="noStrike">
              <a:solidFill>
                <a:srgbClr val="ffffff"/>
              </a:solidFill>
              <a:latin typeface="Times New Roman"/>
            </a:endParaRPr>
          </a:p>
          <a:p>
            <a:pPr marL="329040" indent="-32904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60280"/>
            <a:ext cx="7631280" cy="122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ffcc66"/>
                </a:solidFill>
                <a:latin typeface="Arial"/>
                <a:ea typeface="Times New Roman"/>
              </a:rPr>
              <a:t>Jurisprudencia Corte Internacional</a:t>
            </a:r>
            <a:br>
              <a:rPr sz="3600"/>
            </a:br>
            <a:endParaRPr b="0" lang="en-US" sz="3600" spc="-1" strike="noStrike">
              <a:solidFill>
                <a:srgbClr val="ffcc66"/>
              </a:solidFill>
              <a:latin typeface="Arial"/>
            </a:endParaRPr>
          </a:p>
        </p:txBody>
      </p:sp>
      <p:sp>
        <p:nvSpPr>
          <p:cNvPr id="118" name="PlaceHolder 2"/>
          <p:cNvSpPr>
            <a:spLocks noGrp="1"/>
          </p:cNvSpPr>
          <p:nvPr>
            <p:ph/>
          </p:nvPr>
        </p:nvSpPr>
        <p:spPr>
          <a:xfrm>
            <a:off x="684360" y="1628280"/>
            <a:ext cx="7772400" cy="446724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Sentencia caso Corfu Channel ha sido interpretada como una aplicación de la teoría de la culpa, la  Corte fundó su decisión en "la conclusión de que la siembra del campo de minas que causó las explosiones, no pudo haberse efectuado sin el conocimiento del gobierno de Albania".</a:t>
            </a:r>
            <a:endParaRPr b="0" lang="en-US" sz="2800" spc="-1" strike="noStrike">
              <a:solidFill>
                <a:srgbClr val="ffffff"/>
              </a:solidFill>
              <a:latin typeface="Times New Roman"/>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n este caso la Corte no intentó determinar si la responsabilidad internacional tuvo su origen en la "culpa" o en el "riesgo", y no hizo referencia alguna a la culp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Considerando de la Corte</a:t>
            </a:r>
            <a:endParaRPr b="0" lang="en-US" sz="4400" spc="-1" strike="noStrike">
              <a:solidFill>
                <a:srgbClr val="ffcc66"/>
              </a:solidFill>
              <a:latin typeface="Arial"/>
            </a:endParaRPr>
          </a:p>
        </p:txBody>
      </p:sp>
      <p:sp>
        <p:nvSpPr>
          <p:cNvPr id="120" name="PlaceHolder 2"/>
          <p:cNvSpPr>
            <a:spLocks noGrp="1"/>
          </p:cNvSpPr>
          <p:nvPr>
            <p:ph/>
          </p:nvPr>
        </p:nvSpPr>
        <p:spPr>
          <a:xfrm>
            <a:off x="0" y="1844640"/>
            <a:ext cx="8820000" cy="484200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La Corte buscó determinar la responsabilidad internacional ver si había existido la violación de una obligación preexistente. La conclusión  que Albania tenía conocimiento de la existencia del campo de minas no implicó la aceptación de la doctrina de la "culpa' sino el rechazo de la teoría del "riesgo" o de la responsabilidad absoluta.  El conocimiento invocado por la Corte fue necesario para determinar que una obligación preexistente había sido violada, puesto que sólo el Estado que sabe que en sus aguas territoriales se ha establecido un campo minado podía estar obligado a notificar tal hecho a los otros Estados.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89000"/>
            <a:ext cx="7772400" cy="122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Sentencia de la Corte</a:t>
            </a:r>
            <a:endParaRPr b="0" lang="en-US" sz="4400" spc="-1" strike="noStrike">
              <a:solidFill>
                <a:srgbClr val="ffcc66"/>
              </a:solidFill>
              <a:latin typeface="Arial"/>
            </a:endParaRPr>
          </a:p>
        </p:txBody>
      </p:sp>
      <p:sp>
        <p:nvSpPr>
          <p:cNvPr id="122" name="PlaceHolder 2"/>
          <p:cNvSpPr>
            <a:spLocks noGrp="1"/>
          </p:cNvSpPr>
          <p:nvPr>
            <p:ph/>
          </p:nvPr>
        </p:nvSpPr>
        <p:spPr>
          <a:xfrm>
            <a:off x="0" y="1557360"/>
            <a:ext cx="8964720" cy="50846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Después de determinar la existencia de una obligación jurídica basada en ciertos principios generales y bien reconocidos, la Corte, siguiendo  tradición de tribunales de arbitraje, examinó los medios de que disponían las autoridades de Albania para cumplir su obligación.  Llegó a  la conclusión de que era posible que dichas autoridades previnieran a las embarcaciones.  Albania fue  declarada responsable de la violación objetiva de un deber internacional y, no fue necesaria ninguna investigación  a la posición subjetiva de cualquier órgano individual o agente del gobierno de Albania.</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Aspecto sentencia:  estrecha relación que reconoce entre el problema sustantivo de la responsabilidad y la cuestión de la prueba.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11280" y="4042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Teoría del Riesgo</a:t>
            </a:r>
            <a:endParaRPr b="0" lang="en-US" sz="4400" spc="-1" strike="noStrike">
              <a:solidFill>
                <a:srgbClr val="ffcc66"/>
              </a:solidFill>
              <a:latin typeface="Arial"/>
            </a:endParaRPr>
          </a:p>
        </p:txBody>
      </p:sp>
      <p:sp>
        <p:nvSpPr>
          <p:cNvPr id="124" name="PlaceHolder 2"/>
          <p:cNvSpPr>
            <a:spLocks noGrp="1"/>
          </p:cNvSpPr>
          <p:nvPr>
            <p:ph/>
          </p:nvPr>
        </p:nvSpPr>
        <p:spPr>
          <a:xfrm>
            <a:off x="323640" y="1483920"/>
            <a:ext cx="8569080" cy="5157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En el Derecho Internacional, la teoría del riesgo se aplica en los casos que han sido definidos por las Convenciones Internacionales primer ejemplo en la Convención de Roma de 1952 con respecto a los daños causados por aeronaves extranjeras a personas en tierra. Ha habido un reconocimiento de la responsabilidad absoluta, o de la responsabilidad por riesgo, en relación con daños resultantes de usos pacíficos de la energía nuclear por ejemplo, las propiedades radioactivas del combustible o los desechos de las instalaciones nuclear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Definición en la Convención</a:t>
            </a:r>
            <a:endParaRPr b="0" lang="en-US" sz="4400" spc="-1" strike="noStrike">
              <a:solidFill>
                <a:srgbClr val="ffcc66"/>
              </a:solidFill>
              <a:latin typeface="Arial"/>
            </a:endParaRPr>
          </a:p>
        </p:txBody>
      </p:sp>
      <p:sp>
        <p:nvSpPr>
          <p:cNvPr id="126" name="PlaceHolder 2"/>
          <p:cNvSpPr>
            <a:spLocks noGrp="1"/>
          </p:cNvSpPr>
          <p:nvPr>
            <p:ph/>
          </p:nvPr>
        </p:nvSpPr>
        <p:spPr>
          <a:xfrm>
            <a:off x="250560" y="1773000"/>
            <a:ext cx="8713800" cy="48956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La responsabilidad definida en la Convención Suplementaria del 31 de enero de 1963 sobre Responsabilidad Frente a Terceros por Daño Nuclear, en la Convención de París del 29 de julio de 1960, sobre la misma materia, entre los miembros de la OECE; y en la Convención de Brúcelas del 25 de mayo de 1962, relativa a la Responsabilidad de los Operadores de Naves Nucleares.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Estas aplicaciones del principio no se refieren,  a la responsabilidad del Estado, sino a la responsabilidad civil de acuerdo con el derecho interno aplicable.   el hecho  que los Estados hayan convenido en aplicar este principio en las convenciones tiene que afectar las reglas de la responsabilidad internacional en estos campo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0"/>
            <a:ext cx="7918560" cy="1752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cc66"/>
                </a:solidFill>
                <a:latin typeface="Arial"/>
              </a:rPr>
              <a:t>Responsabilidad Internacional del   Estado por hechos ilícitos</a:t>
            </a:r>
            <a:endParaRPr b="0" lang="en-US" sz="40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La Responsabilidad Internacional se origina en  conductas violatorias de normas de      derecho internacional, de los sujeto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Arial"/>
              </a:rPr>
              <a:t>Responsabilidad por pruebas nucleares</a:t>
            </a:r>
            <a:endParaRPr b="0" lang="en-US" sz="4000" spc="-1" strike="noStrike">
              <a:solidFill>
                <a:srgbClr val="ffcc66"/>
              </a:solidFill>
              <a:latin typeface="Arial"/>
            </a:endParaRPr>
          </a:p>
        </p:txBody>
      </p:sp>
      <p:sp>
        <p:nvSpPr>
          <p:cNvPr id="128" name="PlaceHolder 2"/>
          <p:cNvSpPr>
            <a:spLocks noGrp="1"/>
          </p:cNvSpPr>
          <p:nvPr>
            <p:ph/>
          </p:nvPr>
        </p:nvSpPr>
        <p:spPr>
          <a:xfrm>
            <a:off x="250560" y="1844640"/>
            <a:ext cx="8893080" cy="50133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Otro ejemplo es el efecto de las radiaciones atómicas resultantes de las pruebas que cabe en los principios generales de la responsabilidad del Estado por actos ilícitos. El Estado no tiene el derecho de llevar a cabo pruebas nucleares en su territorio o en alta mar que causen daños en o a los Estados extranjeros.  Si una prueba nuclear produce precipitación radiactiva fuera de los límites territoriales del Estado que la realiza, ese Estado debe ser absolutamente responsable, de acuerdo con las reglas generales de la responsabilidad del Estado.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El daño</a:t>
            </a:r>
            <a:endParaRPr b="0" lang="en-US" sz="4400" spc="-1" strike="noStrike">
              <a:solidFill>
                <a:srgbClr val="ffcc66"/>
              </a:solidFill>
              <a:latin typeface="Arial"/>
            </a:endParaRPr>
          </a:p>
        </p:txBody>
      </p:sp>
      <p:sp>
        <p:nvSpPr>
          <p:cNvPr id="130" name="PlaceHolder 2"/>
          <p:cNvSpPr>
            <a:spLocks noGrp="1"/>
          </p:cNvSpPr>
          <p:nvPr>
            <p:ph/>
          </p:nvPr>
        </p:nvSpPr>
        <p:spPr>
          <a:xfrm>
            <a:off x="684360" y="1844280"/>
            <a:ext cx="7773840" cy="4251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r>
              <a:rPr b="0" lang="es-ES" sz="2400" spc="-1" strike="noStrike">
                <a:solidFill>
                  <a:srgbClr val="ffffff"/>
                </a:solidFill>
                <a:latin typeface="Arial"/>
                <a:ea typeface="Arial"/>
              </a:rPr>
              <a:t>El daño, además de material puede ser moral, y también debe ser indemnizado. Es común la concurrencia de ambos tipos de daño en un sólo hecho ilícito. Sin embargo, a veces sólo hay daño moral (por ejemplo: una ofensa a la soberanía, el caso de la lancha de guerra que cruza a toda velocidad por aguas de otro Estado). Sobre el daño moral, tanto concurrente con uno material, como por uno aislado, se ha producido el nacimiento de un nuevo criterio de  compensació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La satisfacción</a:t>
            </a:r>
            <a:endParaRPr b="0" lang="en-US" sz="4400" spc="-1" strike="noStrike">
              <a:solidFill>
                <a:srgbClr val="ffcc66"/>
              </a:solidFill>
              <a:latin typeface="Arial"/>
            </a:endParaRPr>
          </a:p>
        </p:txBody>
      </p:sp>
      <p:sp>
        <p:nvSpPr>
          <p:cNvPr id="132" name="PlaceHolder 2"/>
          <p:cNvSpPr>
            <a:spLocks noGrp="1"/>
          </p:cNvSpPr>
          <p:nvPr>
            <p:ph/>
          </p:nvPr>
        </p:nvSpPr>
        <p:spPr>
          <a:xfrm>
            <a:off x="610920" y="1844280"/>
            <a:ext cx="7846920" cy="425124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2800" spc="-1" strike="noStrike">
                <a:solidFill>
                  <a:srgbClr val="ffffff"/>
                </a:solidFill>
                <a:latin typeface="Arial"/>
                <a:ea typeface="Arial"/>
              </a:rPr>
              <a:t>Quien ofende debe realizar un acto que otorgue satisfacción a la víctima. Una manera efectiva de otorgar satisfacción es mediante sentencia condenatoria por tribunal o arbitraje, que contiene en sí un elemento propio del habitual manejo diplomático en que se otorgan explicaciones y excusa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Indemnización</a:t>
            </a:r>
            <a:endParaRPr b="0" lang="en-US" sz="4400" spc="-1" strike="noStrike">
              <a:solidFill>
                <a:srgbClr val="ffcc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2800" spc="-1" strike="noStrike">
                <a:solidFill>
                  <a:srgbClr val="ffffff"/>
                </a:solidFill>
                <a:latin typeface="Arial"/>
                <a:ea typeface="Arial"/>
              </a:rPr>
              <a:t>La estimación de una indemnización es una tarea que excede del ámbito jurídico y concurrirán siempre criterios económicos para facilitarla. Se puede llegar a indemnizar a suma alzada cuando los medios de estimación normales fracasan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Elementos esenciales</a:t>
            </a:r>
            <a:endParaRPr b="0" lang="en-US" sz="4400" spc="-1" strike="noStrike">
              <a:solidFill>
                <a:srgbClr val="ffcc66"/>
              </a:solidFill>
              <a:latin typeface="Arial"/>
            </a:endParaRPr>
          </a:p>
        </p:txBody>
      </p:sp>
      <p:sp>
        <p:nvSpPr>
          <p:cNvPr id="94" name="PlaceHolder 2"/>
          <p:cNvSpPr>
            <a:spLocks noGrp="1"/>
          </p:cNvSpPr>
          <p:nvPr>
            <p:ph/>
          </p:nvPr>
        </p:nvSpPr>
        <p:spPr>
          <a:xfrm>
            <a:off x="610920" y="1628280"/>
            <a:ext cx="7846920" cy="4467240"/>
          </a:xfrm>
          <a:prstGeom prst="rect">
            <a:avLst/>
          </a:prstGeom>
          <a:noFill/>
          <a:ln w="0">
            <a:noFill/>
          </a:ln>
        </p:spPr>
        <p:txBody>
          <a:bodyPr lIns="90000" rIns="90000" tIns="46800" bIns="46800" anchor="t">
            <a:normAutofit/>
          </a:bodyPr>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1.   Existencia de un acto u omisión que viola una obligación establecida por una regla de derecho internacional vigente entre el Estado responsable del acto u omisión y el Estado perjudicado por dicho acto u omisión</a:t>
            </a:r>
            <a:endParaRPr b="0" lang="en-US" sz="2000" spc="-1" strike="noStrike">
              <a:solidFill>
                <a:srgbClr val="ffffff"/>
              </a:solidFill>
              <a:latin typeface="Times New Roman"/>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2.   El acto ilícito debe ser imputable al Estado como persona jurídica.</a:t>
            </a:r>
            <a:endParaRPr b="0" lang="en-US" sz="2000" spc="-1" strike="noStrike">
              <a:solidFill>
                <a:srgbClr val="ffffff"/>
              </a:solidFill>
              <a:latin typeface="Times New Roman"/>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3.  Debe haberse producido un perjuicio o un daño como consecuencia del acto ilícito. En las relaciones interestatales el concepto del daño no tiene un carácter esencialmente material o patrimonial. </a:t>
            </a:r>
            <a:endParaRPr b="0" lang="en-US" sz="2000" spc="-1" strike="noStrike">
              <a:solidFill>
                <a:srgbClr val="ffffff"/>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Responsabilidad</a:t>
            </a:r>
            <a:endParaRPr b="0" lang="en-US" sz="44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La responsabilidad internacional de un Estado puede provenir de conductas violatorias de personas, bienes o  derechos de otro Estado, si éstos están protegidos por normas internacionales. </a:t>
            </a:r>
            <a:endParaRPr b="0" lang="en-US" sz="2400" spc="-1" strike="noStrike">
              <a:solidFill>
                <a:srgbClr val="ffffff"/>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Siempre que se viola, por acción o por omisión, un deber establecido  en cualquier regla de derecho internacional, automáticamente surge una relación jurídica nueva.  entre el sujeto al cual el acto es imputable, que debe "responder" mediante una reparación adecuada, y el sujeto que tiene derecho de reclamar la reparación por el incumplimiento de la obligació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cc66"/>
                </a:solidFill>
                <a:latin typeface="Arial"/>
              </a:rPr>
              <a:t>Responsabilidad por daño a un extranjero</a:t>
            </a:r>
            <a:endParaRPr b="0" lang="en-US" sz="4000" spc="-1" strike="noStrike">
              <a:solidFill>
                <a:srgbClr val="ffcc66"/>
              </a:solidFill>
              <a:latin typeface="Arial"/>
            </a:endParaRPr>
          </a:p>
        </p:txBody>
      </p:sp>
      <p:sp>
        <p:nvSpPr>
          <p:cNvPr id="98" name="PlaceHolder 2"/>
          <p:cNvSpPr>
            <a:spLocks noGrp="1"/>
          </p:cNvSpPr>
          <p:nvPr>
            <p:ph/>
          </p:nvPr>
        </p:nvSpPr>
        <p:spPr>
          <a:xfrm>
            <a:off x="900000" y="2133720"/>
            <a:ext cx="7848720" cy="396216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La responsabilidad internacional puede configurarse por la lesión directa de los derechos de un Estado y también por un acto u omisión ilegal que causa daños a un extranjero.  </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En este último caso, la responsabilidad es ante el Estado del cual el extranjero es nacional.</a:t>
            </a:r>
            <a:endParaRPr b="0" lang="en-US" sz="24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El daño</a:t>
            </a:r>
            <a:endParaRPr b="0" lang="en-US" sz="4400" spc="-1" strike="noStrike">
              <a:solidFill>
                <a:srgbClr val="ffcc66"/>
              </a:solidFill>
              <a:latin typeface="Arial"/>
            </a:endParaRPr>
          </a:p>
        </p:txBody>
      </p:sp>
      <p:sp>
        <p:nvSpPr>
          <p:cNvPr id="100" name="PlaceHolder 2"/>
          <p:cNvSpPr>
            <a:spLocks noGrp="1"/>
          </p:cNvSpPr>
          <p:nvPr>
            <p:ph/>
          </p:nvPr>
        </p:nvSpPr>
        <p:spPr>
          <a:xfrm>
            <a:off x="685440" y="1628280"/>
            <a:ext cx="8062920" cy="4467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2800" spc="-1" strike="noStrike">
                <a:solidFill>
                  <a:srgbClr val="ffffff"/>
                </a:solidFill>
                <a:latin typeface="Arial"/>
                <a:ea typeface="Arial"/>
              </a:rPr>
              <a:t>El daño, además de material puede ser moral, y también debe ser indemnizado. Es común la concurrencia de ambos tipos de daño en un sólo hecho ilícito. Sin embargo, a veces sólo hay daño moral (por ejemplo: una ofensa a la soberanía, el caso de la lancha de guerra que cruza a toda velocidad por aguas de otro Estado). Sobre el daño moral, tanto concurrente con uno material, como por uno aislado, se ha producido el nacimiento de un nuevo criterio de  compensación.</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Corte de Justicia Internacional</a:t>
            </a:r>
            <a:endParaRPr b="0" lang="en-US" sz="4400" spc="-1" strike="noStrike">
              <a:solidFill>
                <a:srgbClr val="ffcc66"/>
              </a:solidFill>
              <a:latin typeface="Arial"/>
            </a:endParaRPr>
          </a:p>
        </p:txBody>
      </p:sp>
      <p:sp>
        <p:nvSpPr>
          <p:cNvPr id="102" name="PlaceHolder 2"/>
          <p:cNvSpPr>
            <a:spLocks noGrp="1"/>
          </p:cNvSpPr>
          <p:nvPr>
            <p:ph/>
          </p:nvPr>
        </p:nvSpPr>
        <p:spPr>
          <a:xfrm>
            <a:off x="684360" y="2060280"/>
            <a:ext cx="7773840" cy="40352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La Corte Permanente de justicia Internacional ha declarado: "es un principio de derecho internacional, y aun un concepto general del derecho, que cualquier incumplimiento de un compromiso impone la obligación de efectuar una reparación".  Esta obligación es una consecuencia inmediata y automática de la violación de un deber internacional.  La Corte Internacional de justicia expresó que tan pronto como la cuestión de la responsabilidad del Estado, de acuerdo con el derecho internacional "se contesta en sentido afirmativo, resulta que se debe una compensación como consecuencia de la afirmación de la responsabilidad".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Jurisprudencia</a:t>
            </a:r>
            <a:endParaRPr b="0" lang="en-US" sz="4400" spc="-1" strike="noStrike">
              <a:solidFill>
                <a:srgbClr val="ffcc66"/>
              </a:solidFill>
              <a:latin typeface="Arial"/>
            </a:endParaRPr>
          </a:p>
        </p:txBody>
      </p:sp>
      <p:sp>
        <p:nvSpPr>
          <p:cNvPr id="104" name="PlaceHolder 2"/>
          <p:cNvSpPr>
            <a:spLocks noGrp="1"/>
          </p:cNvSpPr>
          <p:nvPr>
            <p:ph/>
          </p:nvPr>
        </p:nvSpPr>
        <p:spPr>
          <a:xfrm>
            <a:off x="394920" y="1981080"/>
            <a:ext cx="8209080" cy="4400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La riqueza de la jurisprudencia y la doctrina con respecto a la responsabilidad del Estado por daños ocasionados a extranjeros es de mucho mayor importancia que los precedentes que se refieren a datos directos en los derechos de un Estado.  Sin embargo, para tener una visión amplia del tema, es necesario conocer ambas fuentes de responsabilidad del Estado.</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Imputabilidad</a:t>
            </a:r>
            <a:endParaRPr b="0" lang="en-US" sz="4400" spc="-1" strike="noStrike">
              <a:solidFill>
                <a:srgbClr val="ffcc66"/>
              </a:solidFill>
              <a:latin typeface="Arial"/>
            </a:endParaRPr>
          </a:p>
        </p:txBody>
      </p:sp>
      <p:sp>
        <p:nvSpPr>
          <p:cNvPr id="106" name="PlaceHolder 2"/>
          <p:cNvSpPr>
            <a:spLocks noGrp="1"/>
          </p:cNvSpPr>
          <p:nvPr>
            <p:ph/>
          </p:nvPr>
        </p:nvSpPr>
        <p:spPr>
          <a:xfrm>
            <a:off x="826920" y="1699920"/>
            <a:ext cx="7847280" cy="4467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r>
              <a:rPr b="0" lang="es-ES" sz="2400" spc="-1" strike="noStrike">
                <a:solidFill>
                  <a:srgbClr val="ffffff"/>
                </a:solidFill>
                <a:latin typeface="Arial"/>
                <a:ea typeface="Arial"/>
              </a:rPr>
              <a:t>Cualquier órgano del Estado compromete  la responsabilidad de éste por los actos u omisiones cometidos por funcionarios o por particular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Respecto al funcionario incompetente, la regla es que sus actos comprometan al Estado al que pertenece, a menos que su incompetencia sea manifiesta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3T03:07:30Z</dcterms:created>
  <dc:creator>GILDA CICCI SALAZAR</dc:creator>
  <dc:description/>
  <dc:language>en-US</dc:language>
  <cp:lastModifiedBy>Miriam</cp:lastModifiedBy>
  <dcterms:modified xsi:type="dcterms:W3CDTF">2008-05-19T02:28:10Z</dcterms:modified>
  <cp:revision>58</cp:revision>
  <dc:subject/>
  <dc:title>        </dc:title>
</cp:coreProperties>
</file>