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CF6-3D06-41E8-9F12-F51DED7D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BFE9-34FD-4795-80F9-4DDE82D8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BC4F-1DE5-4CD3-962C-BF28E710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A26-F146-4D08-8C7D-596E8496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BCDC-3E97-4CCC-B5A5-80E05746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9FDB-8597-4988-AE5F-0617BBFC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515F-C0E4-4416-900E-23CA7CAB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59E6-6DFF-4BC8-AE0D-C7A3EDCC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D6E2-AF8B-40B8-AF46-B4CE431E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DD4F-D1CF-4689-8817-27FF4312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97DE-E82B-442E-B14A-5FA094C6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BE8-F912-470D-9108-A8CB842C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E475-B05D-4EC7-BBF2-D9D66D3E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4833-7E42-4803-A826-D0C117B9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0156-5E75-42B9-8240-BC5645FD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4D18-4D2A-41C4-89F6-7FAD4261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2CED-0DF4-460E-B0A4-66222A1A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0FEC-9673-4113-BE71-F21A0566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2C9-5ED1-4668-B591-6DAFA9BE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F55-5A1D-4398-BE50-64876591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BA88-8249-4FB8-A920-0713291C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E286-7EC4-498A-BC90-881CF2D3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2826-54F4-49C4-8541-8B4707BB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3067-2684-4D61-BC88-539375BD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E558-FFD2-42BD-8C56-3ED4DFCE38C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BA51-53DB-4B40-852E-F1F8807DBE7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ENMIENDA Y MODIFICACION DE TRATADO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ora Gilda Cicci 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OTIFICAC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DEBE NOTIFICAR A LOS DEMAS EST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1.- LA INTEN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- Y EL CONTENIDO DE LA MOD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LOS DEMAS ESTADOS PUEDEN SEÑALAR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QUE LA MODIFICACIÓ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1.-AFECTA SUS DERECH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2.-QUE HACE MAS ONEROSAS LAS OBLIG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3.- QUE ATENTA CONTRA EL OBJETO Y FIN DEL TRA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 OPONEN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 ORIGINA UNA CONTROVERSIA ENTRE LOS ESTADOS QUE PRETENDEN MODIFICAR EL TRA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ENTRE ELLOS Y LOS DEMAS  ESTADOS  QUE SOSTIENEN QUE AFECTA SUS DERECH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LTERA  SUS OBLIG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 IMPIDE  EL OBJETO Y FIN DEL TRA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TEMA  PLANTEADO POR  CDI EN  EL PROYECTO DE ARTS EN LA C. DE VIENA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RT   DEL PROYECTO SEÑALAB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UN TRATADO PUEDE MODIFICARSE MEDIANTE LA PRÁCTICA ULTERIOR DE LOS ESTADOS PAR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 (SE ANALIZO CONCEPTO DE PRACTICA ULTERIOR  EN LA  INTERPRETACION DE  UN TRAT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SE CONSIDERA LA PRACTICA ULTERI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DI :  PARA MODIFICAR UN TRATADO SE PUEDE USAR   LA PRÁCTICA ULTERI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ESTADOS SE OPUSIERON —ENTRE ELLOS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PORQUE IMPLICABA MODIFICAR UN TRA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SALTÁNDOSE LOS CONTROLES CONSTITUCIONALES DE CADA UNO DE LOS ESTADO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tinua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MODIFICACIÓN LA REALIZABA EL EJECUTIV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Y LA MODIFICACIÓN PODÍA INCIDIR EN MATERIAS DE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 SE PODÍA MODIFICAR UN TRATADO POR LA PRÁCTICA ULTERI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 EXCLUYÓ LA NORMA DE LA CONVEN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RGUMENTOS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1.- SE SALTAN  CONTROL CONSTITUCIONAL  AL QUE ESTAN SUJE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TRATADOS EN EL ORDEN INTER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2.- PIERDE ESTABILIDAD EL TRATADO COMO INSTRUM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QUE REGULA LAS RELACIONES INTERNACION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RQUE SE EMPIEZA A MODIFICAR CON LA PRACTIC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ARGUMENTO CHILENO PARA  OPONERSE</a:t>
            </a:r>
            <a:r>
              <a:rPr b="0" lang="es-E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A ESA NORMA EN LA CONVENCION DE VIEN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.-PILARES POLITICA EXTERIOR  JURÍDICA CHILEN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.-ES EL PRINCIPIO DE LA INTANGIBILIDAD DE LOS TRA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3.-FRONTERAS CHILENAS   ESTABLECIDAS POR TRA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HILE SE OPUSO Y LA NORMA SE EXCLUYÓ DE LA C DE VI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VENCIÓN DE VIEN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OS CONCEPT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MIENDA Y MOD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rtículos 39, 40 y 4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NMIEND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mienda: alteración en los términos de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tado con efectos generales para to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 part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258920" y="3341160"/>
            <a:ext cx="666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DIFICA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MBIO EN EL CONTENIDO DE UN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NO CON EFECTOS GENERALE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INO CON EFECTOS PARA 2 O MAS ESTADOS QUE DECID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QUE EN SUS RELACIONES RECIPROCAS  UN TRATADO MULTILATERAL SE  APLICA ENTRE ELLOS DE MANERA DIFERENTE AL CONTENIDO D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ORMA GENER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ANDO  SE RELACIONEN CON CADA  PARTE EN 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OLO ENTRE  ELLOS SE ALTERA EL CONTENIDO D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ON ACUERDOS INTER 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FERENCIA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MODIFICACIÓN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ALTERACIÓN D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CON EFECTOS PARTICULARES PARA UN GRUPO DE EST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MIENDA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MODIFICA EL TRATADO CON EFECTOS GENER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PARA TODOS LOS ESTADOS PAR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REGLA GENERAL   ENMIENDAS  DE  TRATADOS BILATERAL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NO SE PUEDE ALTERAR  CONTENIDO DE UN TRATADO BILATERAL SIN  EL ACUERDO DE LAS  PAR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RTICULO 40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 UN ESTADO DESEA ALTERAR UNA O MAS 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BE NOTIFICAR  A TODOS LOS EST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DA  ESTADO NOTIFI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RTICIPA EN  NEGOCIACIÓN   DEL ACUER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N  ONU  POR 2/ 3 Y  MIEMBROS PERMAN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BLIGA A TODOS  INCLUSO A LOS QUE RECHAZARON LA ENMIEN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OTARON EN CONTRA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LTERACION EN LOS TRATADOS MULTILATERAL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DOPTADA POR DOS O MAS EST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N SUS RELACIONES RECIPRO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1.- DEBE ESTAR PERMITIDO EN EL TEXTO DEL TRA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QUE PUEDAN CELEBRAR ACUERDOS MODIFICA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2.- QUE NO ESTE PROHIBIDA LA CELEBRACIÓN DE ESOS ACUER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BEN CONCURRIR DOS REQUISITOS COPULA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3:59:24Z</dcterms:created>
  <dc:creator>Miriam</dc:creator>
  <dc:description/>
  <dc:language>en-US</dc:language>
  <cp:lastModifiedBy>Miriam</cp:lastModifiedBy>
  <dcterms:modified xsi:type="dcterms:W3CDTF">2008-05-12T11:05:36Z</dcterms:modified>
  <cp:revision>4</cp:revision>
  <dc:subject/>
  <dc:title>ENMIENDA Y MODIFICACION DE TRATADOS</dc:title>
</cp:coreProperties>
</file>