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371-6D69-441C-92D5-8793D322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507-C540-46AF-8C7D-BB2976F1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243-5A13-450B-B661-2DA28F7D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D6C-3429-42A8-8C76-90ECB7A8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5291-7EC9-4463-B3FB-3EDCFBA2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5BB5-8922-4CE2-AE03-A03B0DCD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E0EA-63B1-42AC-BB2F-B74025E1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8E74-FE36-497B-9D42-2FC00A04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C16-B241-43D6-B629-B483ED13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AB4C-A2E9-4BBA-A250-CF178F82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8E76-D929-4930-ADC3-4E16B6A0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5D4-9F5A-44E0-AB2E-8BF72902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1126-33D2-4D4E-91A6-3EE4FE06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5F09-277B-4C1C-8C14-96759C09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585C-7175-45DD-B9E6-69AFCFB5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D2E5-5DF5-47E5-B08E-77963270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263D-36AB-49D4-839D-AF3E6D39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605-189E-4FD0-BCAC-C8B93786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A1A-D78F-4B48-915E-5377F50C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E6F-B465-4E44-A1FF-426167BC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185-6962-4B60-892D-B9CCA5A8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263-4FAF-413E-9814-04FC367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FB7-6BF8-4665-AFEB-7E6EE93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7B9-56C4-49E0-A134-05F03D2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E95D-27A5-46D5-AF6B-0A73947C51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054E-EC97-4F9A-8EAA-2FAA72F17A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ENMIENDA Y MODIFICACION DE TRATAD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ora Gilda Cicci 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TIFICAC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DEBE NOTIFICAR A LOS DEMAS 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- LA INT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- Y EL CONTENIDO DE LA M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OS DEMAS ESTADOS PUEDEN SEÑALA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QUE LA MODIFIC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.-AFECTA SUS DERECH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.-QUE HACE MAS ONEROSAS LAS OBLIG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3.- QUE ATENTA CONTRA EL OBJETO Y FIN D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OPONE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ORIGINA UNA CONTROVERSIA ENTRE LOS ESTADOS QUE PRETENDEN MODIFICAR 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ENTRE ELLOS Y LOS DEMAS  ESTADOS  QUE SOSTIENEN QUE AFECTA SUS DERECH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LTERA  SUS OBLIG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 IMPIDE  EL OBJETO Y FIN D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TEMA  PLANTEADO POR  CDI EN  EL PROYECTO DE ARTS EN LA C. DE VIENA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   DEL PROYECTO SEÑALAB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UN TRATADO PUEDE MODIFICARSE MEDIANTE LA PRÁCTICA ULTERIOR DE LOS ESTADOS PAR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(SE ANALIZO CONCEPTO DE PRACTICA ULTERIOR  EN LA  INTERPRETACION DE  UN TRAT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SE CONSIDERA LA PRA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DI :  PARA MODIFICAR UN TRATADO SE PUEDE USAR   LA PRÁ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ESTADOS SE OPUSIERON —ENTRE ELLOS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PORQUE IMPLICABA MODIFICAR UN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SALTÁNDOSE LOS CONTROLES CONSTITUCIONALES DE CADA UNO DE LOS ESTAD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tinu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ODIFICACIÓN LA REALIZABA EL EJECU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Y LA MODIFICACIÓN PODÍA INCIDIR EN MATERIAS DE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SE PODÍA MODIFICAR UN TRATADO POR LA PRÁ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EXCLUYÓ LA NORMA DE LA CONVEN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GUMENTO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.- SE SALTAN  CONTROL CONSTITUCIONAL  AL QUE ESTAN SUJE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TRATADOS EN EL ORDEN INTER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.- PIERDE ESTABILIDAD EL TRATADO COMO INSTRU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REGULA LAS RELACIONES INTERNACION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QUE SE EMPIEZA A MODIFICAR CON LA PRACTIC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ARGUMENTO CHILENO PARA  OPONERSE</a:t>
            </a:r>
            <a:r>
              <a:rPr b="0" lang="es-E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A ESA NORMA EN LA CONVENCION DE VIEN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.-PILARES POLITICA EXTERIOR  JURÍDICA CHILEN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.-ES EL PRINCIPIO DE LA INTANGIBILIDAD DE LOS 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-FRONTERAS CHILENAS   ESTABLECIDAS POR 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HILE SE OPUSO Y LA NORMA SE EXCLUYÓ DE LA C DE VI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VENCIÓN DE VIE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OS CONCEP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MIENDA Y M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ículos 39, 40 y 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MIEND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mienda: alteración en los términos d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tado con efectos generales para to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par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3341160"/>
            <a:ext cx="66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DIFIC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MBIO EN EL CONTENIDO DE UN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CON EFECTOS GENERAL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NO CON EFECTOS PARA 2 O MAS ESTADOS QUE DECID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E EN SUS RELACIONES RECIPROCAS  UN TRATADO MULTILATERAL SE  APLICA ENTRE ELLOS DE MANERA DIFERENTE AL CONTENIDO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RMA GENER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 SE RELACIONEN CON CADA  PARTE EN 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LO ENTRE  ELLOS SE ALTERA EL CONTENIDO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ACUERDOS INTER 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ERENCI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ODIFICACIÓN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LTERACIÓN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CON EFECTOS PARTICULARES PARA UN GRUPO DE 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MIENDA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MODIFICA EL TRATADO CON EFECTOS GENER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PARA TODOS LOS ESTADOS PAR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REGLA GENERAL   ENMIENDAS  DE  TRATADOS BILATERAL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SE PUEDE ALTERAR  CONTENIDO DE UN TRATADO BILATERAL SIN  EL ACUERDO DE LAS  PAR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ULO 40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UN ESTADO DESEA ALTERAR UNA O MAS 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 NOTIFICAR  A TODOS LO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DA  ESTADO NOTIF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TICIPA EN  NEGOCIACIÓN   DEL ACUER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 ONU  POR 2/ 3 Y  MIEMBROS PERMAN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BLIGA A TODOS  INCLUSO A LOS QUE RECHAZARON LA ENMIE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OTARON EN CONTRA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LTERACION EN LOS TRATADOS MULTILATERAL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DOPTADA POR DOS O MA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SUS RELACIONES RECIPRO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1.- DEBE ESTAR PERMITIDO EN EL TEXTO DEL TRA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PUEDAN CELEBRAR ACUERDOS MODIFIC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- QUE NO ESTE PROHIBIDA LA CELEBRACIÓN DE ESOS ACUER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N CONCURRIR DOS REQUISITOS COPULA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3:59:24Z</dcterms:created>
  <dc:creator>Miriam</dc:creator>
  <dc:description/>
  <dc:language>en-US</dc:language>
  <cp:lastModifiedBy>Miriam</cp:lastModifiedBy>
  <dcterms:modified xsi:type="dcterms:W3CDTF">2008-05-12T11:05:36Z</dcterms:modified>
  <cp:revision>4</cp:revision>
  <dc:subject/>
  <dc:title>ENMIENDA Y MODIFICACION DE TRATADOS</dc:title>
</cp:coreProperties>
</file>