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457F-79BB-45F9-A566-2D1E9E1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CDF-09B8-4CD2-98CB-170679BE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393-6BEF-409C-9268-38BAE060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282-01EF-416B-87BC-CA66096F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95B4-B5DB-4A86-AA76-25EDA1E9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8BCE-CF3E-4A49-BEF1-2A55FC4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93D1-C9EA-4964-89F7-81986A52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B34F-BEE4-4B5F-95B2-200D414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724-1CFC-4D92-BBEF-80CE44C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C2A1-81FA-4B66-B115-24D95694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5046-15F0-4274-A510-87B292A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154-7DB6-4542-A6E8-E3647725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E910-D6C8-4C88-A8AE-547D41BA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EAD7-EC3B-4A54-A957-872874F8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DA09-1BA9-446C-A091-6C3DE21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E9D-5B7A-41BC-A157-28618D13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3E9-6315-4195-A6A4-82E02EDA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447-79A4-4286-847F-74FDBA5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6E1-74C8-43E0-B76A-6FF66C3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B9C-6004-4E8F-A480-21B5B027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D620-B2E3-430D-9619-CE813EB3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1C2-C463-4F25-8EE4-20D550A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19C-F0E8-42C9-A44B-BDD6D9ED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C62-623A-42EF-98FF-FE8D001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E13C-20C9-4B2D-9D97-96D5C12252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F9EF-3E66-489A-AE4B-D13B6F887B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ENMIENDA Y MODIFICACION DE TRATAD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ora Gilda Cicci 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TIFICAC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DEBE NOTIFICAR A LOS DEMAS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- LA IN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- Y EL CONTENIDO DE LA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S DEMAS ESTADOS PUEDEN SEÑALA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QUE LA MODIFIC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QUE HACE MAS ONEROSAS LA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3.- QUE ATENTA CONTRA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PONEN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ORIGINA UNA CONTROVERSIA ENTRE LOS ESTADOS QUE PRETENDEN MODIFICAR 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ENTRE ELLOS Y LOS DEMAS  ESTADOS  QUE SOSTIENEN QUE AFECTA SUS DERECH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LTERA  SUS OBLIG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 IMPIDE  EL OBJETO Y FIN DE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TEMA  PLANTEADO POR  CDI EN  EL PROYECTO DE ARTS EN LA C. DE VIENA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   DEL PROYECTO SEÑALAB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UN TRATADO PUEDE MODIFICARSE MEDIANTE LA PRÁCTICA ULTERIOR DE LOS ESTADOS PAR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(SE ANALIZO CONCEPTO DE PRACTICA ULTERIOR  EN LA  INTERPRETACION DE  UN TRATAD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E CONSIDERA LA PRA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DI :  PARA MODIFICAR UN TRATADO SE PUEDE USAR  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ESTADOS SE OPUSIERON —ENTRE ELLOS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PORQUE IMPLICABA MODIFICAR UN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SALTÁNDOSE LOS CONTROLES CONSTITUCIONALES DE CADA UNO DE LOS ESTADO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inu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ODIFICACIÓN LA REALIZABA EL EJECUTI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Y LA MODIFICACIÓN PODÍA INCIDIR EN MATERIAS DE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SE PODÍA MODIFICAR UN TRATADO POR LA PRÁCTICA ULTERI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EXCLUYÓ LA NORMA DE LA CONVEN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GUMENTO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.- SE SALTAN  CONTROL CONSTITUCIONAL  AL QUE ESTAN SUJE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TRATADOS EN EL ORDEN INTER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.- PIERDE ESTABILIDAD EL TRATADO COMO INSTRUM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REGULA LAS RELACIONES INTERNACION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QUE SE EMPIEZA A MODIFICAR CON LA PRACTIC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RGUMENTO CHILENO PARA  OPONERSE</a:t>
            </a:r>
            <a:r>
              <a:rPr b="0" lang="es-ES" sz="40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A ESA NORMA EN LA CONVENCION DE VIEN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.-PILARES POLITICA EXTERIOR  JURÍDICA CHILEN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2.-ES EL PRINCIPIO DE LA INTANGIBILIDAD DE LOS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.-FRONTERAS CHILENAS   ESTABLECIDAS POR TRA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HILE SE OPUSO Y LA NORMA SE EXCLUYÓ DE LA C DE VI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VENCIÓN DE VIEN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OS CONCEP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MIENDA Y MOD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ículos 39, 40 y 4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MIEND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mienda: alteración en los términos d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tado con efectos generales para to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part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3341160"/>
            <a:ext cx="666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DIFICACIÓ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MBIO EN EL CONTENIDO DE UN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CON EFECTOS GENERAL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INO CON EFECTOS PARA 2 O MAS ESTADOS QUE DECID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EN SUS RELACIONES RECIPROCAS  UN TRATADO MULTILATERAL SE  APLICA ENTRE ELLOS DE MANERA DIFERENTE A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RMA GENER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ANDO  SE RELACIONEN CON CADA  PARTE EN 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LO ENTRE  ELLOS SE ALTERA EL CONTENIDO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ACUERDOS INTER 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ERENCI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ODIFICACIÓN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ALTERACIÓ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CON EFECTOS PARTICULARES PARA UN GRUPO DE ES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MIENDA: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MODIFICA EL TRATADO CON EFECTOS GENER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-PARA TODOS LOS ESTADOS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bbd71"/>
                </a:solidFill>
                <a:latin typeface="Arial"/>
              </a:rPr>
              <a:t>REGLA GENERAL   ENMIENDAS  DE  TRATADOS B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NO SE PUEDE ALTERAR  CONTENIDO DE UN TRATADO BILATERAL SIN  EL ACUERDO DE LAS  PAR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RTICULO 40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I UN ESTADO DESEA ALTERAR UNA O MAS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 NOTIFICAR  A TODOS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DA  ESTADO NOTIF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RTICIPA EN  NEGOCIACIÓN   DEL ACUER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 ONU  POR 2/ 3 Y  MIEMBROS PERMANEN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BLIGA A TODOS  INCLUSO A LOS QUE RECHAZARON LA ENMIE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OTARON EN CONTRA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LTERACION EN LOS TRATADOS MULTILATERAL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DOPTADA POR DOS O MA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N SUS RELACIONES RECIPRO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1.- DEBE ESTAR PERMITIDO EN EL TEXTO DEL TRAT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PUEDAN CELEBRAR ACUERDOS MODIFIC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- QUE NO ESTE PROHIBIDA LA CELEBRACIÓN DE ESOS ACUER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BEN CONCURRIR DOS REQUISITOS COPULA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3:59:24Z</dcterms:created>
  <dc:creator>Miriam</dc:creator>
  <dc:description/>
  <dc:language>en-US</dc:language>
  <cp:lastModifiedBy>Miriam</cp:lastModifiedBy>
  <dcterms:modified xsi:type="dcterms:W3CDTF">2008-05-12T11:05:36Z</dcterms:modified>
  <cp:revision>4</cp:revision>
  <dc:subject/>
  <dc:title>ENMIENDA Y MODIFICACION DE TRATADOS</dc:title>
</cp:coreProperties>
</file>