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C53A-753E-4D4F-8685-EF78C0A57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4FB2-10FC-4CDA-B488-47D77D64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009C-124D-4B12-99F4-35C42544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2D1F-49AA-44AF-A86B-A0E551954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CA3E2-CAFA-4B82-829A-7B47DAD76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6573E-1F80-421C-A42F-5B08BA67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EA5507-81F2-489E-83EB-BA2E5BE6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3F468-C138-4EC7-8E14-09150C65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60024-3872-473F-8A58-A8E34FB7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C4DECC-5E70-46C1-8042-9F8CF359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5C276-CA52-4B75-B5CF-66BAB7BD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A2B3-DE7C-41DE-84A7-71092CE5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9D868-55A3-4CCB-8238-272796E1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736EF-AF0F-4916-B461-9C815A52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497AE-21A0-4E51-A3AB-652D8809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14E1F-5B44-408E-9A1B-E7172416C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C7721-FB07-46D0-BEC0-F47371E1E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AEF1-F4A0-4F1B-B825-C7750195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94F1-1514-4514-A053-6763EDDC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426D-EDB4-4744-BD4E-762C903D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BD8A-BFFE-404B-A5B0-246EF68E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29AC-08AC-4970-8AA1-D2655BF7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C96D-BE4B-4ED1-A514-0FD684F8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6C0D-75B4-40CD-8D68-7AF63F31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44CF-213E-4B41-81D4-C137DA180D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E0F9-F0AD-49AD-A140-EE5E4866CA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DERECHO INTERNACIONA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ÚBLICO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284720" y="2923920"/>
            <a:ext cx="44020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fesora : Gilda Cic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yud.: Miriam Gutiérre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unes  21  abril  200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Violación grave de un tratad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rt. 60, párrafo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onstituyen violación grave de un tratad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chazo del tratado no admitido por la conven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Violación de una disposición esencial para la consecución del objeto y fin del trat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Que tengan buen día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TERMINACION DE LOS TRATADO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on las circunstancias que determinan el fin de éstos y la cesación de sus efectos jurídicos, extinguiéndose los derechos y obligaciones que emanan de ell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uede afectar a tratados bilaterales o multilaterales, en ese caso se llama </a:t>
            </a:r>
            <a:r>
              <a:rPr b="0" i="1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reti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Causales de terminación de los      tratad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Causales previstas en el mismo trat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Mutuo consenti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) Causales previstas en el Derecho Internacional Gener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Causales previstas en el propio tratad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362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Art. 54 , letra a) de la Convención de Vie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1) Cumplimiento del plaz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2) Cumplimiento de una condición resolutor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3) Denunc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La regla general es que ella no proceda sino cuando los tratados contengan esta cláusula, salvo dos excepciones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*  Que conste la intención de las partes de admitir la denuncia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o retiro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*  Que el derecho de denuncia pueda inferirse de la naturaleza del tratado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Mutuo consentimien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a lugar a la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Tahoma"/>
              </a:rPr>
              <a:t>“abrogación”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del trat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rt. 54 (CV) señala que ésta podrá tener lugar en cualquier momento por consentimiento de todas las partes después de consultar a los demás Estados contrata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uede ser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xpresa o tácita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(Art.59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 considerará terminado si todas las partes de él celebren ulteriormente un tratado sobre la misma mater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- Se desprende del tratado posterior o consta de otro modo que ha sido intención de las partes que la materia se rija por un trat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s disposiciones del tratado posterior son incompatibles, de modo que no pueden aplicarse simultáneam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Causales contempladas en el Derecho Internacional Genera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umplimiento total del trat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2. Imposibilidad de cumplimiento (Art. 6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3. Desaparición total de una de las partes contratan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Cambio fundamental de las circunstancia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 Convención de Viena a desechado la teoría de la cláusula tácita y ha dado normas de carácter objetivo con el fin de evitar la inestabilidad de los tratados priorizando el pacta sunt servand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xcepciones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Que haya cambio de circunstancias  que afecten lo esencial del consentimiento de obligars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ambio tenga por efecto modificar radicalmente el alcance de las obligaciones que deban cumplirse en virtud del trat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o puede alegarse en casos relativos a fronteras o de una violación al trat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Surgimiento de una nueva norma imperativ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rt.64 Conven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demás es causal de nulidad, exime a las partes del cumplimiento existente, sin afectar derecho o situación jurídica creadas por el tratado antes de su termin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01:56:31Z</dcterms:created>
  <dc:creator>Miriam</dc:creator>
  <dc:description/>
  <dc:language>en-US</dc:language>
  <cp:lastModifiedBy>lucarna30</cp:lastModifiedBy>
  <dcterms:modified xsi:type="dcterms:W3CDTF">2008-04-21T13:43:33Z</dcterms:modified>
  <cp:revision>3</cp:revision>
  <dc:subject/>
  <dc:title>DERECHO INTERNACIONAL  PÚBLICO   </dc:title>
</cp:coreProperties>
</file>