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8B7-D4A3-4FE0-A6B7-016DB1EE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042-BB60-414D-A743-6C093E8F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896-A42C-4ADB-A97F-7D393736A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934-E9A6-46C5-9B9B-F94B5B0B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88513-E76B-40F7-BA53-79192FCB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91C91-4981-4041-AA6D-1EFB90C3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C8494-717C-46BB-8034-ACB81EDC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B274F-1344-4D7A-90E8-DA4833F8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CDA24-DC2E-42F7-99D1-03F6BEFA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26100-C8FC-460D-BECB-A87D59AA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FF9D2-9CF8-4D20-9365-B2B915A5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8A6-4120-483B-B070-4368655F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F4C78-2AE6-404C-A873-540B0B60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9A545-6871-45A7-85AA-62D6DE8B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F5007-B24B-45BD-BE3D-05A1DB3F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0C94E-E408-4ABE-8DE1-33DE781A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11370-2E7A-4352-B1EE-A6AD7FC0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E9B-0870-47D0-948C-ECF4E692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0010-F83D-4D27-9280-41F221EF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0C1-8ACC-4E1C-9148-45AD3F6C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D34-2A4D-415F-8256-1D78116B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633-AB9D-4724-A461-F6B134FC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8BF-B863-4248-8F44-F78E3B7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5BD-A376-43E0-8EA5-B752E3ED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C8EF-A4F1-4E27-A098-DFB20FCD9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AC27-6F91-4872-BD26-F9729542A0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RECHO INTERNACIONA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ÚBLICO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84720" y="2923920"/>
            <a:ext cx="440208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esora : 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yud.: Miriam Gutiérre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unes  21  abril  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Violación grave de un trata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rt. 60, párrafo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stituyen violación grave de un tratad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chazo del tratado no admitido por la conven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Violación de una disposición esencial para la consecución del objeto y fin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Que tengan buen día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TERMINACION DE LOS TRATADO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on las circunstancias que determinan el fin de éstos y la cesación de sus efectos jurídicos, extinguiéndose los derechos y obligaciones que emanan de el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ede afectar a tratados bilaterales o multilaterales, en ese caso se llama </a:t>
            </a:r>
            <a:r>
              <a:rPr b="0" i="1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reti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usales de terminación de los      tratad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Causales previstas en el mismo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Mutuo consent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) Causales previstas en el Derecho Internacional Gene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usales previstas en el propio tratad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rt. 54 , letra a) de la Convención de Vie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1) Cumplimiento del plaz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2) Cumplimiento de una condición resolutor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3) Denu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a regla general es que ella no proceda sino cuando los tratados contengan esta cláusula, salvo dos excepcione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*  Que conste la intención de las partes de admitir la denuncia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o retir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*  Que el derecho de denuncia pueda inferirse de la naturaleza del tratad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Mutuo consentimient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a lugar a l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“abrogación”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del trat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rt. 54 (CV) señala que ésta podrá tener lugar en cualquier momento por consentimiento de todas las partes después de consultar a los demás Estados contrata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uede ser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xpresa o tácit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(Art.5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 considerará terminado si todas las partes de él celebren ulteriormente un tratado sobre la misma mater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- Se desprende del tratado posterior o consta de otro modo que ha sido intención de las partes que la materia se rija por un trat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disposiciones del tratado posterior son incompatibles, de modo que no pueden aplicarse simultáne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usales contempladas en el Derecho Internacional Gener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umplimiento total del trat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Imposibilidad de cumplimiento (Art. 6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3. Desaparición total de una de las partes contrata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Cambio fundamental de las circunstanci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Convención de Viena a desechado la teoría de la cláusula tácita y ha dado normas de carácter objetivo con el fin de evitar la inestabilidad de los tratados priorizando el pacta sunt servand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xcepciones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e haya cambio de circunstancias  que afecten lo esencial del consentimiento de oblig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mbio tenga por efecto modificar radicalmente el alcance de las obligaciones que deban cumplirse en virtud del trat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 puede alegarse en casos relativos a fronteras o de una violación al trat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Surgimiento de una nueva norma imperativ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rt.64 Conven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emás es causal de nulidad, exime a las partes del cumplimiento existente, sin afectar derecho o situación jurídica creadas por el tratado antes de su termin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01:56:31Z</dcterms:created>
  <dc:creator>Miriam</dc:creator>
  <dc:description/>
  <dc:language>en-US</dc:language>
  <cp:lastModifiedBy>lucarna30</cp:lastModifiedBy>
  <dcterms:modified xsi:type="dcterms:W3CDTF">2008-04-21T13:43:33Z</dcterms:modified>
  <cp:revision>3</cp:revision>
  <dc:subject/>
  <dc:title>DERECHO INTERNACIONAL  PÚBLICO   </dc:title>
</cp:coreProperties>
</file>