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81F-FDFD-488E-A746-BD8B6857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1D8-27C8-4EC0-B7DF-AEE9815E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AE4-3ACF-4C70-B705-5D03981F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1433-394A-4E29-8CB3-5F8EE938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9A32C-E508-4B1D-A0D0-6E3E4E63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3A4E2-E823-4D6C-9D9C-D891BBEC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44193-F310-48EC-95C3-276DEEFD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4DA55-F2D2-4072-84F4-C6D7B10E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7587F-56E1-4E90-B49D-2B8ED55D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05620-88A9-49B8-B947-4ABA6CFD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FEDEB-30BB-4469-ABF1-7C30FF3F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22E6-2787-4A06-A249-33743C5D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33C6F-664A-4D0E-A983-B032C94D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F60B9-68F9-42E1-A30D-0AE7BE21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4C0E3-C2E5-4A42-B37B-0E8A7C94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512DE-AB47-4DD5-B93D-222BC732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87161-6C10-4F53-96E1-A044AD4F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F1A-5E49-46F7-8C42-A4E7D7E3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7D6F-12D8-4A7B-AD30-1A6464B5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85B-06A3-46BA-A815-BA41A9D8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2F7-71DB-42F2-B3AE-DC5E14A8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466-C30C-4D94-A838-762077A4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F21-4105-4D08-A87E-5FFD115C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E634-3AD2-4E23-B97D-D922CA69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0C90-DA4F-4B1B-8C49-82C4B46D27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1F09-B8BD-4D1F-842E-D2BAB3A0C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ERECHO INTERNACIONA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ÚBLICO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84720" y="2923920"/>
            <a:ext cx="44020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esora : Gilda Ci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yud.: Miriam Gutiérr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unes  21  abril  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Violación grave de un tratad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rt. 60, párrafo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stituyen violación grave de un tratad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hazo del tratado no admitido por la conven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Violación de una disposición esencial para la consecución del objeto y fin d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Que tengan buen día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TERMINACION DE LOS TRATADO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on las circunstancias que determinan el fin de éstos y la cesación de sus efectos jurídicos, extinguiéndose los derechos y obligaciones que emanan de ell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uede afectar a tratados bilaterales o multilaterales, en ese caso se llama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reti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ausales de terminación de los      tratad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Causales previstas en el mismo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Mutuo consenti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Causales previstas en el Derecho Internacional Gene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ausales previstas en el propio tratad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rt. 54 , letra a) de la Convención de Vie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1) Cumplimiento del plaz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2) Cumplimiento de una condición resoluto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3) Denu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La regla general es que ella no proceda sino cuando los tratados contengan esta cláusula, salvo dos excepciones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*  Que conste la intención de las partes de admitir la denuncia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o retir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*  Que el derecho de denuncia pueda inferirse de la naturaleza del tratad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Mutuo consentimi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a lugar a l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“abrogación”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del trat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rt. 54 (CV) señala que ésta podrá tener lugar en cualquier momento por consentimiento de todas las partes después de consultar a los demás Estados contrata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ede ser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xpresa o tácit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Art.5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 considerará terminado si todas las partes de él celebren ulteriormente un tratado sobre la misma mater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 Se desprende del tratado posterior o consta de otro modo que ha sido intención de las partes que la materia se rija por un trat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disposiciones del tratado posterior son incompatibles, de modo que no pueden aplicarse simultáne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ausales contempladas en el Derecho Internacional Gener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mplimiento total d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Imposibilidad de cumplimiento (Art. 6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3. Desaparición total de una de las partes contrata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ambio fundamental de las circunstanci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Convención de Viena a desechado la teoría de la cláusula tácita y ha dado normas de carácter objetivo con el fin de evitar la inestabilidad de los tratados priorizando el pacta sunt servand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xcepciones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Que haya cambio de circunstancias  que afecten lo esencial del consentimiento de obligar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ambio tenga por efecto modificar radicalmente el alcance de las obligaciones que deban cumplirse en virtud del trat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 puede alegarse en casos relativos a fronteras o de una violación al tra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Surgimiento de una nueva norma imperativ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rt.64 Conven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emás es causal de nulidad, exime a las partes del cumplimiento existente, sin afectar derecho o situación jurídica creadas por el tratado antes de su termin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01:56:31Z</dcterms:created>
  <dc:creator>Miriam</dc:creator>
  <dc:description/>
  <dc:language>en-US</dc:language>
  <cp:lastModifiedBy>lucarna30</cp:lastModifiedBy>
  <dcterms:modified xsi:type="dcterms:W3CDTF">2008-04-21T13:43:33Z</dcterms:modified>
  <cp:revision>3</cp:revision>
  <dc:subject/>
  <dc:title>DERECHO INTERNACIONAL  PÚBLICO   </dc:title>
</cp:coreProperties>
</file>