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BEF3-ED96-42F6-B250-20D67750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F38A-7B1E-4C23-AAE2-19369A12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08D2-7302-405C-8146-2C466C21A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4742-387E-4339-BF71-C1EAC2069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16B3-E178-41FE-9185-DC700174A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B20D-45F4-4A77-93E5-EC045DF7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841D-FEE7-4CFD-8E88-032EFA89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9C3E-41B5-4EDC-B56D-64656EB6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0E06-31BA-4DAB-B462-EC3E0B0C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-525960"/>
            <a:ext cx="7772400" cy="97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BC54-6BE3-42B5-BA78-47EA3F45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313C-1310-476A-AF11-A34179CD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11A5-A59F-492D-966B-36EEB95D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FEE7-DA55-4A02-A8F3-4E39A7D6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F789-6F8D-4E89-ADC6-3DC7D7F4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D9F5-A767-4D6E-9811-748EB7A0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AF9E-C6A1-42E8-8863-29D902D6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CB2A-5ABB-487A-85D7-F462C048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A1B0-C047-490E-839E-0BEEA9D1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D42D-C973-4001-8EFF-46380747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8C9A-3680-403B-BAB5-55882B8E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-525960"/>
            <a:ext cx="7772400" cy="97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5EB5-6752-4B96-A7B7-C9C8FCEA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4920-8A4A-49B5-B590-0873DD8F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AE3E-B467-4839-95F3-3E59E83B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F160-C302-4CC2-8F79-FAF248FB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E5C7-DC1D-4621-BDF0-F5B6C038E45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6EA0-9CE4-4400-A7B6-664F872FDEC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233280"/>
            <a:ext cx="77724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  <a:ea typeface="Times New Roman"/>
              </a:rPr>
              <a:t> </a:t>
            </a:r>
            <a:br>
              <a:rPr sz="4400"/>
            </a:br>
            <a:r>
              <a:rPr b="0" lang="es-ES_tradnl" sz="3200" spc="-1" strike="noStrike">
                <a:solidFill>
                  <a:srgbClr val="ccffff"/>
                </a:solidFill>
                <a:latin typeface="Arial Black"/>
                <a:ea typeface="Times New Roman"/>
              </a:rPr>
              <a:t>MEDIOS AUXILIARES PARA LA DETERMINACION DE LAS REGLAS DE DERECHO INTERNACIONAL</a:t>
            </a:r>
            <a:r>
              <a:rPr b="0" lang="es-ES" sz="4400" spc="-1" strike="noStrike">
                <a:solidFill>
                  <a:srgbClr val="cc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Profesor Alberto Riosec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Facultad de Derecho Universidad de Chil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Derecho Internacional Public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7621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  Opinion Consultiva respecto de la Convencion sobre el genocidio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que establecio el principio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e que solo procedi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 reserva siempre que hubiere conformidad con el objeto y fin del tratado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  <a:ea typeface="Times New Roman"/>
              </a:rPr>
              <a:t>LA DOCTRINA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 norma del art,38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e refiere a la doctrin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e los publicista de mayor competencia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refiriéndose solo a individuos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9140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pero hoy tiene especial importancia la  opinión de Asociaciones y Sociedades  especializadas en Derecho Internacional, como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l Institut de Droit International,la International Law Association,el Instituto Hispano Luso Americano de Derecho Internacional.  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9903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Por otra parte , organizaciones internacioinales han creado organos consultivos, como en la ONU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 Comision de Derecho Internacional, :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n la OEA, el Comite Juridico Interamericano. En el Consejo de Europa, el Comite Europeo de Cooperacion juridica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-3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Tiene menor importancia que la Jurisprudencia,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in embargo  la doctrina fue fundamental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n el desarrollo del Derecho de Gentes .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Y posteriormente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n los siglos XVIII y. , XIX, en que se citaba  frecuentemente en las sentencias arbítrales,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6858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reemos que la doctrina 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n la actualidad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ontribuye a determinar la existencia de la norma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 analizarla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 sistematizarla y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 formular recomendaciones destinadas a mejorarla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6094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l art.38 del Estatuto de la C.I.J.,parrafo 1,letra d) establece como medios auxiliares para determinar las normas de Derecho Internacional:  "las decisiones judiciales y las doctrinas de los poblicistas de mayor competencia de las distintas naciones"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45684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"las decisiones judiciales 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s doctrinas de los publicistas de mayor competenci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e las distintas naciones"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  <a:ea typeface="Times New Roman"/>
              </a:rPr>
              <a:t>LA  JURISPRUDENCIA.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s el conjunto de reglas jurídicas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que se  desprenden de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s decisiones judiciales" (Pastor Ridruejo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-3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        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No es propiamente una fuente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in embargo  tiene un papel fundamental  para demostrar la existencia de una norma, determinar su alcance y aclarar su contenido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demas la jurisprudencia cumple un papel muy importante en la formación y prueba de una norma consuetudinaria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  <a:ea typeface="Times New Roman"/>
              </a:rPr>
              <a:t>Los fallos,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tanto judiciales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omo arbítrales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e refieren con frecuenci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 la jurisprudencia constante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0"/>
            <a:ext cx="7848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 las sentencias de la C I J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e le dio un valor relativo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omo lo dice el  art, 38 del Estatuto: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 decisión de la Corte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no es obligatoria sino para las partes en litigio 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respecto del caso que ha sido decidido"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45684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No se siguió el principio de "·stare decisis" de los paises del Common Law,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egún el cual los fallos de los Tribunales Superiores constituyen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un precedente que tiene el valor de fuente de derech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Numerosos principios y normas de derecho internacional han recibido su consagración con motivo de fallos  judiciales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-3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jemplos: 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aso de las Pesquerías Anglo Noruegas, que estableció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l principio de las líneas de base rectas para medir la anchura del mar territorial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aso Nottebon que formulo el principio de la necesidad de un vinculo real y efectivo de nacionalidad como base para hacer efectiva la proteccion diplomatica. 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21:22:34Z</dcterms:created>
  <dc:creator>profesmp</dc:creator>
  <dc:description/>
  <dc:language>en-US</dc:language>
  <cp:lastModifiedBy>GILDA CICCI SALAZAR</cp:lastModifiedBy>
  <dcterms:modified xsi:type="dcterms:W3CDTF">2007-11-15T02:56:58Z</dcterms:modified>
  <cp:revision>47</cp:revision>
  <dc:subject/>
  <dc:title>  MEDIOS AUXILIARES PARA LA DETERMINACION DE LAS REGLAS DE DERECHO INTERNACIONAL </dc:title>
</cp:coreProperties>
</file>