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ADE-F883-4CA8-8680-6B7E99F4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9A8-0A0F-4790-9299-CB245422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2A1-F9F8-4375-8518-4269B6A6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966-AC50-4E4F-A765-C5596392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E157-57C8-45E5-8A57-0DE9F8CA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3D7A-7F24-41C4-B3F2-A05BF579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B158-05CF-48A5-ABD2-728E0E90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7DE1-4FFB-4069-8C1B-A9FA4773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D989-C0F3-49AF-BB87-CF9FDD5C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0A03-07D4-4805-B851-D35F4498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57D4-6317-4C09-9B4F-336E5709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01E-9E32-4B67-96D3-4839E173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DE3C-7DEA-44E4-9C97-584F21FC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990D-C403-4244-A27A-2F61A5B1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4338-D862-4DD2-840F-CE41CC1C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B5CC-1DFB-41FC-9D79-F6B1695D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D09D-0126-4C62-B1BE-2A87B275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09B-F622-4A55-A64E-C9BDE04D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6BF-1C58-4FF6-AB02-4AB8FD19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C2B-CADA-4FCB-AF87-693EFDE7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11E-CEE2-4426-8E6F-2F6BB8BB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58E-44BD-442F-BA34-FCAC7D66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88FF-2D6B-4E92-B1BF-4A6D6B43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E40-E595-4ED7-A645-656914C8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28C5-A4E3-46C6-B666-D417FEE18E1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FD4D-2D82-4927-B0DA-405DBCC91B5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233280"/>
            <a:ext cx="77724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 </a:t>
            </a:r>
            <a:br>
              <a:rPr sz="4400"/>
            </a:br>
            <a:r>
              <a:rPr b="0" lang="es-ES_tradnl" sz="32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MEDIOS AUXILIARES PARA LA DETERMINACION DE LAS REGLAS DE DERECHO INTERNACIONAL</a:t>
            </a:r>
            <a:r>
              <a:rPr b="0" lang="es-E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Profesor Alberto Riose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Facultad de Derecho Universidad de Chi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Derecho Internacional Publi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 Opinion Consultiva respecto de la Convencion sobre el genocidio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establecio el principi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 que solo procedi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reserva siempre que hubiere conformidad con el objeto y fin del trata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LA DOCTRIN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norma del art,38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 refiere a la doctrin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 los publicista de mayor competenc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firiéndose solo a individuo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ero hoy tiene especial importancia la  opinión de Asociaciones y Sociedades  especializadas en Derecho Internacional, com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Institut de Droit International,la International Law Association,el Instituto Hispano Luso Americano de Derecho Internacional. 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or otra parte , organizaciones internacioinales han creado organos consultivos, como en la ONU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Comision de Derecho Internacional, :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la OEA, el Comite Juridico Interamericano. En el Consejo de Europa, el Comite Europeo de Cooperacion juridica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iene menor importancia que la Jurisprudencia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in embargo  la doctrina fue fundamental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el desarrollo del Derecho de Gentes 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Y posteriormente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los siglos XVIII y. , XIX, en que se citaba  frecuentemente en las sentencias arbítrales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reemos que la doctrina 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la actualidad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ntribuye a determinar la existencia de la norma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analizarl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sistematizarla y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formular recomendaciones destinadas a mejorarl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art.38 del Estatuto de la C.I.J.,parrafo 1,letra d) establece como medios auxiliares para determinar las normas de Derecho Internacional:  "las decisiones judiciales y las doctrinas de los poblicistas de mayor competencia 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"las decisiones judiciales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s doctrinas de los publicistas de mayor compet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LA  JURISPRUDENCIA.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s el conjunto de reglas jurídica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se  desprenden d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s decisiones judiciales" (Pastor Ridruejo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o es propiamente una fuente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in embargo  tiene un papel fundamental  para demostrar la existencia de una norma, determinar su alcance y aclarar su conteni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demas la jurisprudencia cumple un papel muy importante en la formación y prueba de una norma consuetudinar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Los fallos,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anto judiciale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o arbítrales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 refieren con frecu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la jurisprudencia constant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las sentencias de la C I J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 le dio un valor relativo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o lo dice el  art, 38 del Estatuto: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decisión de la Cort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o es obligatoria sino para las partes en litigio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specto del caso que ha sido decidido"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o se siguió el principio de "·stare decisis" de los paises del Common Law,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gún el cual los fallos de los Tribunales Superiores constituyen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un precedente que tiene el valor de fuente de derech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umerosos principios y normas de derecho internacional han recibido su consagración con motivo de fallos  judicial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jemplos: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de las Pesquerías Anglo Noruegas, que estableció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principio de las líneas de base rectas para medir la anchura del mar territorial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Nottebon que formulo el principio de la necesidad de un vinculo real y efectivo de nacionalidad como base para hacer efectiva la proteccion diplomatica.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21:22:34Z</dcterms:created>
  <dc:creator>profesmp</dc:creator>
  <dc:description/>
  <dc:language>en-US</dc:language>
  <cp:lastModifiedBy>GILDA CICCI SALAZAR</cp:lastModifiedBy>
  <dcterms:modified xsi:type="dcterms:W3CDTF">2007-11-15T02:56:58Z</dcterms:modified>
  <cp:revision>47</cp:revision>
  <dc:subject/>
  <dc:title>  MEDIOS AUXILIARES PARA LA DETERMINACION DE LAS REGLAS DE DERECHO INTERNACIONAL </dc:title>
</cp:coreProperties>
</file>