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B71-C9C2-4560-93BD-0A041B08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161-C207-4CD9-B3BD-0CA01B4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C52-5E91-4825-9A6A-A4F5D465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253-80A8-4824-8396-733B53FA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A25-BE1B-4B81-B6BA-6C69DFF0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B47-EE70-49B4-B322-679BDE38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DE9-3E91-4023-AD0C-60CCA196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6D1-B987-4472-88B9-4F82A953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66BF-3FB2-40F4-AB0C-6710520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AEAE-3313-4C59-8930-8AB5C27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B7A-B01F-4AB5-A705-A1C4EBE1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CD6-D4C2-432F-B5D5-7F57F96E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483F-3956-4891-A0B6-D9CD99A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D82-C066-4AC8-B672-FE16F24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7D2-3BB2-4253-AB5E-D01732F8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69F-308A-430D-B790-59AB459C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1B5B-A492-4AAF-8D77-963CDBF5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77D-09D4-46EF-9669-7A4D8553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966-A291-4352-9BCE-479F613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BCC-6B90-427A-AF25-B29D6A5D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7E9-FD25-4E51-A290-3E8A2BA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3F0-F6A2-4BFD-88A4-6251564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7E3-4D54-4EFD-9A11-3D1D287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974-3BC0-4FF8-B313-A1314E4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7A6-BD59-40AA-8B38-81002AB6AD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79D-5B33-4FA0-B263-C5319FC404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 CICCI SALAZAR</cp:lastModifiedBy>
  <dcterms:modified xsi:type="dcterms:W3CDTF">2007-11-15T02:56:58Z</dcterms:modified>
  <cp:revision>47</cp:revision>
  <dc:subject/>
  <dc:title>  MEDIOS AUXILIARES PARA LA DETERMINACION DE LAS REGLAS DE DERECHO INTERNACIONAL </dc:title>
</cp:coreProperties>
</file>