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47B-0579-48B5-A575-A5F15676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A78-6101-401E-8BC4-38E7A6F7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84A-E707-417F-8149-CB1BF4A6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642-B219-4573-860C-C6A62288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B1B-707E-465F-8BEE-093AAFD6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0718-210C-43DF-9F64-4A635A4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9E3B-8B21-4773-94A8-70CE580E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752-A503-413C-BAE7-01B358BC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15E1-4C93-40F4-8D09-8623D184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3E2-2685-4205-951E-9C793EB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EC68-8513-4173-9676-986CAD5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1EE-B778-49A5-9C23-20034E48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D8BC-3084-4939-8AB7-6238030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7845-0769-4A30-AED0-AF7E803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05B2-B018-4A1D-9E15-568D9B8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241-FB9D-4FB0-A2F3-E8741DC2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2A78-E90D-4B08-AAD7-375D565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36C-F046-453B-8589-E6FE873B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319-1DB8-46CD-BCB2-D1D9B22E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B41-F6AC-42B0-9E16-94ADDF67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B0B-211E-4992-AED8-45BE11E2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C12-D1BA-4D14-A440-B910107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4B5-A298-4280-BBE3-87F0F0F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6F3-2A05-4D01-96FD-15FF7CE7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DD4-33AA-404C-B4EA-D07637191D0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D089-37D6-40F5-B209-9313DC0AA2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 CICCI SALAZAR</cp:lastModifiedBy>
  <dcterms:modified xsi:type="dcterms:W3CDTF">2007-11-15T02:56:58Z</dcterms:modified>
  <cp:revision>47</cp:revision>
  <dc:subject/>
  <dc:title>  MEDIOS AUXILIARES PARA LA DETERMINACION DE LAS REGLAS DE DERECHO INTERNACIONAL </dc:title>
</cp:coreProperties>
</file>