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08D-12F2-4BFF-BB8C-617FADE9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9A1-A0BF-4DC1-816F-891FA07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161-FC62-45E7-AAE5-2EFC8389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9B0-A1F0-49A0-A644-7CA57EDF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FB4E-A230-4EB3-947A-B4F6D32B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6060-F00A-4523-9DC6-A882A538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6AB8-8806-4DFE-B5A7-3534716A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0C2-54D4-42D2-8BE5-454A5622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6B4C-5464-4543-BB58-688A5DA0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2019-6F8B-45B3-BD1E-EBECDB8A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D4F-55FA-43B2-8CA8-E531B5A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49D-B36F-49F5-BD78-DE1258F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B2E-E81D-4D74-932E-BD774F0F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3660-667C-48B0-B7BC-0784CF2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1B75-414D-402A-A70E-3B0D7CA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54BC-0CFC-4905-B39C-27ABA6D4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78A1-DD78-4C6D-8D77-89ACDD2F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302-695C-47AD-88B5-62F38263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B18-B98E-4F9E-AB3D-B6D03A33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7ED-C583-458B-AFBA-3323525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8FA-6C2F-4F95-B4FC-D4133CF7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6CD-335C-4B03-A6B2-BB779F36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654-3B33-465B-9775-FEC6D0B1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890-10B7-4EA8-A091-8AB5E08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2AEE-ECDA-4688-8038-7AE95ADAA9F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B875-30C6-4171-9DC1-94D7BBCB29B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066320"/>
            <a:ext cx="77691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218960"/>
            <a:ext cx="7769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, por consiguiente,insta a todos los Estados a que se gui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fuente principal de D.Int.P.(en el hecho es fuente subsidiaria:normalmente se acudira a ella cuando no se encuentren normas en tratados o costumbres, aplicables a un caso determin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ONCEP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son" principios que existe y estan establecidos en el derecho interno de los estados"(Quoc Dinh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 de "cierto numero de principios que constituyen el fondo comun de todos los sistemas juridicos"(Paul Reut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ARACTERISTIC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 Es una fuente primaria y autonoma de D.Int.P.; tiene una existencia independiente de los tratados y la cost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 objetivo es dar normas juridicas que solucionen los casos no contemplados en dichas fu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se trata de una aplicacion completa y exacta de normas de diferentes ordenamientos juridicos, sino de retener su espiritu comun,sus aspectos esenciales y razonar por analo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SITUACION ACTUAL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y han perdido importancia como fuente ya que gran parte de ellos se encuentran incorporados en el derecho internacional convencional o consuetudinario (entre otros, la buena fe,lo pactado obliga,la autoridad de cosa juzgada,nadie puede ser juez y par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el caso Barcelona  Traction, a falta de  norma convencional o consuetudinaria, se acudio a los principios generales, y se distinguio entre sociedad y accionistas, y se concluyo que la demanda debia ser dirigida a la sociedad  y no a cada uno de  los soci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DEBEN CONFUNDIRSE CON LOS PRINCIPÌO GENERALES DEL DERECHO INTERNACIONAL PUBLIC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os son aquellos principios generales establecidos o que se deducen de las costumbres y convenciones en vigor. De manera que son normas que estan en vigencia internacional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761760"/>
            <a:ext cx="7769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mos a  estudiarlos..en su oportunidad y  se encuentran, principalmente, en la resolucion  N· 2625. De 24 de Octubre de 1970 y se titula "DECLARACION SOBRE LOS PRINCIPIO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914400"/>
            <a:ext cx="77691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su parte final esta Declaracion dice: " Los  principios de la Carta incorporados a la presente Declaracion costituyen principios basicos de derech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7-11-15T02:56:34Z</dcterms:modified>
  <cp:revision>17</cp:revision>
  <dc:subject/>
  <dc:title>    LOS PRINCIPIOS GENERALES DEL DERECHO RECONOCIDOS POR LAS NACIONES CIVILIZADAS   </dc:title>
</cp:coreProperties>
</file>