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32D-EF2C-492E-9865-27B76B9A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E9E-07AA-4B04-9573-00D77288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D33-1D12-4348-9A1C-826DEAE0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4A2-7E39-487D-B245-D83225D9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201D-6770-4730-B0A5-1C4EF236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68C2-A767-45FB-9294-9C67C42D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032C-8361-45B4-AA52-A504F721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8ED1-1EA9-4687-915B-D4502424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3D7B-38BC-482A-9D4C-6F16F59F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44DB-18AB-406D-8C65-C7ABCC6D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1046-0B9A-4972-99E2-5AF82676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5B2-E95A-4175-9AA7-E0E3F3AA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00EB-047E-46B1-B063-C3C2728F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8D4A-1E9E-4C33-86B9-F0EF6FA0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C645-C676-41B6-B055-C8C81BE2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2ECB-3283-4A7F-9C7F-A93443BD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473F-D337-48FC-A6F1-DB0168C0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BFD-A4FE-4F65-8223-DD8B6E31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9EB-DA5E-418A-BDA0-2201B4F1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11F-6627-47DD-A25F-53EC576E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81C-44C8-428F-986A-620810B9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51A-D405-44EC-8C2C-C5FA3C74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69A4-7C14-4F98-9D99-B30F1FCC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0F0-F695-4B71-8E4E-0CDE14C0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2D12-51B7-4F10-A28D-FEFF556FAE44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1BDE-81B0-404D-9A27-5A43773EB6AF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1640" y="1066320"/>
            <a:ext cx="776916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6600"/>
                </a:solidFill>
                <a:latin typeface="Times New Roman"/>
                <a:ea typeface="Times New Roman"/>
              </a:rPr>
              <a:t>LOS PRINCIPIOS GENERALES DEL DERECHO RECONOCIDOS POR LAS NACIONES CIVILI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218960"/>
            <a:ext cx="776916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y, por consiguiente,insta a todos los Estados a que se guien por esos  principios en su comportamiento internacional y a que desarrollen  sus relaciones mutuas sobre la base del estricto cumplimiento de esos principio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 fuente principal de D.Int.P.(en el hecho es fuente subsidiaria:normalmente se acudira a ella cuando no se encuentren normas en tratados o costumbres, aplicables a un caso determin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82400"/>
                </a:solidFill>
                <a:latin typeface="Arial"/>
              </a:rPr>
              <a:t>CONCEP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.son" principios que existe y estan establecidos en el derecho interno de los estados"(Quoc Dinh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 de "cierto numero de principios que constituyen el fondo comun de todos los sistemas juridicos"(Paul Reut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82400"/>
                </a:solidFill>
                <a:latin typeface="Arial"/>
              </a:rPr>
              <a:t>CARACTERISTIC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. Es una fuente primaria y autonoma de D.Int.P.; tiene una existencia independiente de los tratados y la costum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 objetivo es dar normas juridicas que solucionen los casos no contemplados en dichas fu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 se trata de una aplicacion completa y exacta de normas de diferentes ordenamientos juridicos, sino de retener su espiritu comun,sus aspectos esenciales y razonar por analog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82400"/>
                </a:solidFill>
                <a:latin typeface="Arial"/>
              </a:rPr>
              <a:t>SITUACION ACTUAL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y han perdido importancia como fuente ya que gran parte de ellos se encuentran incorporados en el derecho internacional convencional o consuetudinario (entre otros, la buena fe,lo pactado obliga,la autoridad de cosa juzgada,nadie puede ser juez y par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142640"/>
            <a:ext cx="776916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 el caso Barcelona  Traction, a falta de  norma convencional o consuetudinaria, se acudio a los principios generales, y se distinguio entre sociedad y accionistas, y se concluyo que la demanda debia ser dirigida a la sociedad  y no a cada uno de  los soci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3808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DEBEN CONFUNDIRSE CON LOS PRINCIPÌO GENERALES DEL DERECHO INTERNACIONAL PUBLIC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tos son aquellos principios generales establecidos o que se deducen de las costumbres y convenciones en vigor. De manera que son normas que estan en vigencia internacional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761760"/>
            <a:ext cx="77691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amos a  estudiarlos..en su oportunidad y  se encuentran, principalmente, en la resolucion  N· 2625. De 24 de Octubre de 1970 y se titula "DECLARACION SOBRE LOS PRINCIPIO DE DERECHO INTERNACIONAL REFERENTES A LAS RELACIONES DE AMISTAD Y A LA COOPERACION ENTRE LOS ESTADOS DE CONFORMIDAD CON LA CARTA DE LAS NACIONES UNIDA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914400"/>
            <a:ext cx="776916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 su parte final esta Declaracion dice: " Los  principios de la Carta incorporados a la presente Declaracion costituyen principios basicos de derech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1:44:15Z</dcterms:created>
  <dc:creator>GILDA CICCI SALAZAR</dc:creator>
  <dc:description/>
  <dc:language>en-US</dc:language>
  <cp:lastModifiedBy>GILDA CICCI SALAZAR</cp:lastModifiedBy>
  <dcterms:modified xsi:type="dcterms:W3CDTF">2007-11-15T02:56:34Z</dcterms:modified>
  <cp:revision>17</cp:revision>
  <dc:subject/>
  <dc:title>    LOS PRINCIPIOS GENERALES DEL DERECHO RECONOCIDOS POR LAS NACIONES CIVILIZADAS   </dc:title>
</cp:coreProperties>
</file>