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3521-F5B9-4C7D-AC6D-275CBB0B4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0F08-3640-46D4-82EA-3EE7C299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3B59-1CCD-423C-9D02-83B17B09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846F-8F9E-4951-8EE9-39A13124F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44C2-70DD-42D2-A108-9647E7E72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CA82-39CE-4ABC-862D-58050A17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0605-B619-4D2A-AD23-9E8093C3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5358-8229-4303-8CD9-F1BC7694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E5A1-EC34-4B21-BC70-A63DD4A3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2E0F-9C76-4803-B125-A65C15AF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4705-AF03-43C6-9259-DCC1C5ED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1CC1-7039-498A-82D2-4C39E232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571E-ACD7-4C28-8DD5-D99D6C7E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6A10-B809-4FAD-83C2-9CB7B02D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E810-FF8D-4254-89A8-02F0A928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9D6F-1C17-4B91-A763-BFAB2AE7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08F6-4B0B-4C19-89B1-F2464B9AB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DC1B-655F-4AB9-95E1-2DA64548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63F8-2CEF-4F35-9EB5-5E991A97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AA51-0206-4C25-8A4A-7124BA1E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383B-76F3-4BF7-9C78-CE2AC096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B9F2-E3DD-4DBF-87A4-98F891E0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CB9D-C5C4-4627-8814-F2DC42A0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BAB9-0948-497A-9216-852A5F64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5294-4933-48F4-B116-612C0747A8FE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5DD6-ED39-4A6E-B13C-C77F105EC3C6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1640" y="1066320"/>
            <a:ext cx="776916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6600"/>
                </a:solidFill>
                <a:latin typeface="Times New Roman"/>
                <a:ea typeface="Times New Roman"/>
              </a:rPr>
              <a:t>LOS PRINCIPIOS GENERALES DEL DERECHO RECONOCIDOS POR LAS NACIONES CIVILIZA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1640" y="1218960"/>
            <a:ext cx="776916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y, por consiguiente,insta a todos los Estados a que se guien por esos  principios en su comportamiento internacional y a que desarrollen  sus relaciones mutuas sobre la base del estricto cumplimiento de esos principios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s fuente principal de D.Int.P.(en el hecho es fuente subsidiaria:normalmente se acudira a ella cuando no se encuentren normas en tratados o costumbres, aplicables a un caso determinad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482400"/>
                </a:solidFill>
                <a:latin typeface="Arial"/>
              </a:rPr>
              <a:t>CONCEPT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.son" principios que existe y estan establecidos en el derecho interno de los estados"(Quoc Dinh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o de "cierto numero de principios que constituyen el fondo comun de todos los sistemas juridicos"(Paul Reut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482400"/>
                </a:solidFill>
                <a:latin typeface="Arial"/>
              </a:rPr>
              <a:t>CARACTERISTIC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. Es una fuente primaria y autonoma de D.Int.P.; tiene una existencia independiente de los tratados y la costumb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u objetivo es dar normas juridicas que solucionen los casos no contemplados en dichas fu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o se trata de una aplicacion completa y exacta de normas de diferentes ordenamientos juridicos, sino de retener su espiritu comun,sus aspectos esenciales y razonar por analog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482400"/>
                </a:solidFill>
                <a:latin typeface="Arial"/>
              </a:rPr>
              <a:t>SITUACION ACTUAL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Hoy han perdido importancia como fuente ya que gran parte de ellos se encuentran incorporados en el derecho internacional convencional o consuetudinario (entre otros, la buena fe,lo pactado obliga,la autoridad de cosa juzgada,nadie puede ser juez y par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142640"/>
            <a:ext cx="776916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n el caso Barcelona  Traction, a falta de  norma convencional o consuetudinaria, se acudio a los principios generales, y se distinguio entre sociedad y accionistas, y se concluyo que la demanda debia ser dirigida a la sociedad  y no a cada uno de  los socio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380880"/>
            <a:ext cx="83059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NO DEBEN CONFUNDIRSE CON LOS PRINCIPÌO GENERALES DEL DERECHO INTERNACIONAL PUBLICO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stos son aquellos principios generales establecidos o que se deducen de las costumbres y convenciones en vigor. De manera que son normas que estan en vigencia internacional.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1640" y="761760"/>
            <a:ext cx="77691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Vamos a  estudiarlos..en su oportunidad y  se encuentran, principalmente, en la resolucion  N· 2625. De 24 de Octubre de 1970 y se titula "DECLARACION SOBRE LOS PRINCIPIO DE DERECHO INTERNACIONAL REFERENTES A LAS RELACIONES DE AMISTAD Y A LA COOPERACION ENTRE LOS ESTADOS DE CONFORMIDAD CON LA CARTA DE LAS NACIONES UNIDAS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1640" y="914400"/>
            <a:ext cx="776916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n su parte final esta Declaracion dice: " Los  principios de la Carta incorporados a la presente Declaracion costituyen principios basicos de derecho inter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01:44:15Z</dcterms:created>
  <dc:creator>GILDA CICCI SALAZAR</dc:creator>
  <dc:description/>
  <dc:language>en-US</dc:language>
  <cp:lastModifiedBy>GILDA CICCI SALAZAR</cp:lastModifiedBy>
  <dcterms:modified xsi:type="dcterms:W3CDTF">2007-11-15T02:56:34Z</dcterms:modified>
  <cp:revision>17</cp:revision>
  <dc:subject/>
  <dc:title>    LOS PRINCIPIOS GENERALES DEL DERECHO RECONOCIDOS POR LAS NACIONES CIVILIZADAS   </dc:title>
</cp:coreProperties>
</file>