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543-801D-46EA-8474-24350651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CFF-3A80-4C14-982D-92819DD2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A51-D999-46C2-A223-4A3504D0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7D6-B341-49A0-863D-F3C68282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CCD9-3F0B-4454-9206-F34CCA9E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3B85-E1E9-4741-A51F-A904DB5E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C17C-1212-4A95-9F7A-934CDD50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3317-BE0A-475C-8841-E1F4A574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9792-6BC9-4FB1-A154-6D0B7EA8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5BF4-BB81-40B0-B7A1-E747926F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1C30-4D9F-4DF4-A9C7-AF772595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F19-5066-4A08-8784-9CDD6C74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A289-92FE-46F3-B80A-CA1708AE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9903-1C30-4CE5-9E06-E49ED61D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2B90-37F7-42EE-B9DA-AEEB6D07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A0E7-CDF4-4EF8-AB4F-72451C54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F308-BBB4-4E41-AE23-BD8E9499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E88-6DDD-409F-9B0A-0922A182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B52-C87D-491B-8D6A-C49A6FE8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761-6D4A-4367-B144-632A9818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ADE-E536-45CC-8EC2-4C029AA8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03A-5392-4768-8CF6-A7488FDA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7D5-148E-45EC-A2C3-DDA88DFA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C8B-4F50-4F28-865B-4B62B306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9C58-B951-4ECB-AD3F-BCB3E5CB470A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929A-19B2-4DCD-B49D-CBE2740B81AC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 Salaz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 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96840" y="0"/>
            <a:ext cx="770760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 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 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 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  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 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 UN  NUEVO SISTEMA  JURÍDICO UNIVERS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; MOMENTO HISTORICO POR 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9360" y="409680"/>
            <a:ext cx="7875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A   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LIBRE 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DERECHO DE LOS PUEBLOS  A DISPONER DE  SI  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HOMBRE  Y  DEL 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VIENA — 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A  MONROE - 1823-   ENUNCIA- 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POLÍTICA  EXTERIOR 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ARA  LOS 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STEMA  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SOLUCION   PACIFICA  DE  LAS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INSTITUCIONALIZACION DE  LA  COMUNIDAD 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CESO  DESCOLONIZACIÓN  RESOLUCIÓN  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NUEVOS  ESTADOS EN   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COLONIZACIÓN  SE  ACELERA  EN 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067400" y="914400"/>
            <a:ext cx="78404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DE  NORMAS QUE RIGEN   LAS 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 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 JURÍDICAS  QUE  REGULAN  LAS  RELACIONES 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EL  JURISTA  BRITÁNICO  JEREMIAS  BENTHAM  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 “ INTERNATIONAL  LAW”  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EL  DIP  TAMBIÉN  REGULA  LAS  RELACIONES  ENTRE  OTRO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 DEL 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DE 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 DISPOSITIVA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A INMUNIDAD                          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SON UN  LIMITE  A  LA  AUTONOMIA  DE  LA  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90000" y="380880"/>
            <a:ext cx="725976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RESERVADO  DE   LOS  ESTADOS  O 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77120" y="1219320"/>
            <a:ext cx="72262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NACIONAL  SIN LIMITE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A   EXTRANJEROS   STANDARS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DHH  DESAPARECE  ESTA 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  NACIONALES  Y 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MAS  DE  TRATADOS  SOBRE  DDHH   QUE  HA  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050"/>
          <p:cNvSpPr/>
          <p:nvPr/>
        </p:nvSpPr>
        <p:spPr>
          <a:xfrm>
            <a:off x="1071000" y="712800"/>
            <a:ext cx="77047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 CUANDO INTERVIENE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DA LA SOLUCION, INDICA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  LEGISLACIÓN  NACIONAL  SE  ENCUENTRA  Y  SUS  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  EN  LAS  LEGISLACIONES  INTERNAS  DE  CADA   ESTAD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  EN 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  DIP  ES  LA  OBRA  DE  SUS  DESTINATARIOS  L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  ES  PORQUE   Y   CUANDO  LOS  ESTADOS 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 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075680" y="0"/>
            <a:ext cx="818640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PUEDE  DEFINIR  EL  DIP  POR  LA  MATERIA  PORQUE  PUEDEN 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  A  LAS  NUEVAS  REALIDADES,  PERO EXISTE  EN  LAS  REGLA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  UN ELEMENTO FIJO QUE  NO CAMBIA  QUE  ES EL  DE  SU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CIA  Y  EL  DIP  SE  DEFINE  COMO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A   JURISPRUDENCIA  HAY  DEFINICIONES DEL DIP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OLUNTARISTAS   FUNDAMENTAN  EL  DIP EN LA VOLUNTAD  DE  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 HIZO  LA  CORTE   PERMANENTE  DE  JUSTICIA 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 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IP  RIGE  LAS  RELACIONES  ENTRE  ESTADOS  INDEPENDIENTES LAS  REGLAS 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 QUE   VINCULAN  A  LOS  ESTADOS  PROCEDEN  DE  LA  VOLUNTAD  D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 VOLUNTAD  MANIFESTADA  EN  CONVENCIONES O EN USOS QUE  SE 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 COMO CONSAGRADORES DE  PRINCIPIOS  DE  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 EL  FIN  DE  REGULAR  LA  COEXISTENCIA DE  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 O  CON  EL  OBJETO  DE  LA  PROSECUCIÓN  DE  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  NO COINCIDE CON  LA JURISPRUDENCIA INTERNACIONAL  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 NO HAY  NORMAS  CONVENCIONALES  NI  CONSUETUDINARIAS  APLICA  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 GENERALES  DE   DERECHO,  CUYO  RASGO  ESESNCIAL  ES  QUE   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  ANTES  EN  EL  ORDEN   INTERNO  DE   LOS  ESTADOS  Y   DE   AHÍ   L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   LAS   JURISDICCIONES  INTERNACIONALES  Y  LOS  APLICAN  EN  L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  QUE  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SON  ACEPTADOS  POR  TODAS  LAS   NACION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LA BUENA FE   Y   LA  COSA 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, 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  ESA MAN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  LAS RELACIONES ENTRE LOS SUJETOS  DE  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 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</cp:lastModifiedBy>
  <dcterms:modified xsi:type="dcterms:W3CDTF">2008-04-09T04:55:44Z</dcterms:modified>
  <cp:revision>19</cp:revision>
  <dc:subject/>
  <dc:title>Derecho Internacional Público</dc:title>
</cp:coreProperties>
</file>