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E33-1121-405A-A02E-BC56908E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71C-8EAB-4ABA-9BBF-FB4F0499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60C-EE2A-42BE-907B-1CE998AE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A5B-1BA5-4FE8-9D1B-37D07252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CBF0-F82C-4E3D-968E-71E17530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D878-800D-4B06-B67D-4366D266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0F4B-D4E3-4D7B-9B04-AFB65A3B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9E04-C5CB-4CCE-9555-2076B587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806E-00C5-4182-A236-BE383E25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C8CE-D85F-4689-8710-0245FA14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05D0-225E-47F2-BC97-B5A3B9C3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A9F-9C0D-462E-B9BF-2A923165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5C14-2A8E-410E-AE0A-5AA09D40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BDB1-C581-43FB-8E26-CB108778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0955-81E1-4640-A731-716E14A8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276F-C756-42AD-91F5-43069BDB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AD17-6D0C-48F5-B417-05062EE6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63F-67B0-446D-A2AE-5FD79F46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204-614D-4D73-99E6-240D13A4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81F-AA85-45B5-94C7-30FCE36C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D29-4C55-41FB-83AF-19CF7AC0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A7D-F967-4A5A-AD2E-069845A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2FF-9406-46FF-BDD5-B70065EF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EF8-F9A1-4F8C-AE79-9EEB95B0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E721-B011-4151-82EC-58CB211F5291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2D69-E78D-428F-8698-A6DA28CEE64D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 Salaz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 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6840" y="0"/>
            <a:ext cx="770760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 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 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 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  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 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 UN  NUEVO SISTEMA  JURÍDICO UNIVERS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; MOMENTO HISTORICO POR 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9360" y="409680"/>
            <a:ext cx="7875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A   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LIBRE 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DERECHO DE LOS PUEBLOS  A DISPONER DE  SI  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HOMBRE  Y  DEL 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VIENA — 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A  MONROE - 1823-   ENUNCIA- 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POLÍTICA  EXTERIOR 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ARA  LOS 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STEMA  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SOLUCION   PACIFICA  DE  LAS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INSTITUCIONALIZACION DE  LA  COMUNIDAD 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CESO  DESCOLONIZACIÓN  RESOLUCIÓN  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NUEVOS  ESTADOS EN   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COLONIZACIÓN  SE  ACELERA  EN 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067400" y="914400"/>
            <a:ext cx="78404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DE  NORMAS QUE RIGEN   LAS 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 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 JURÍDICAS  QUE  REGULAN  LAS  RELACIONES 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EL  JURISTA  BRITÁNICO  JEREMIAS  BENTHAM  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 “ INTERNATIONAL  LAW”  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EL  DIP  TAMBIÉN  REGULA  LAS  RELACIONES  ENTRE  OTRO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 DEL 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DE 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 DISPOSITIVA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A INMUNIDAD                          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SON UN  LIMITE  A  LA  AUTONOMIA  DE  LA  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90000" y="380880"/>
            <a:ext cx="725976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RESERVADO  DE   LOS  ESTADOS  O 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77120" y="1219320"/>
            <a:ext cx="72262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NACIONAL  SIN LIMITE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A   EXTRANJEROS   STANDARS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DHH  DESAPARECE  ESTA 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  NACIONALES  Y 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MAS  DE  TRATADOS  SOBRE  DDHH   QUE  HA  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050"/>
          <p:cNvSpPr/>
          <p:nvPr/>
        </p:nvSpPr>
        <p:spPr>
          <a:xfrm>
            <a:off x="1071000" y="712800"/>
            <a:ext cx="77047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 CUANDO INTERVIENE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DA LA SOLUCION, INDICA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  LEGISLACIÓN  NACIONAL  SE  ENCUENTRA  Y  SUS  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  EN  LAS  LEGISLACIONES  INTERNAS  DE  CADA   ESTAD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  EN 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 DIP  ES  LA  OBRA  DE  SUS  DESTINATARIOS  L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  ES  PORQUE   Y   CUANDO  LOS  ESTADOS 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 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075680" y="0"/>
            <a:ext cx="818640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PUEDE  DEFINIR  EL  DIP  POR  LA  MATERIA  PORQUE  PUEDEN 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  A  LAS  NUEVAS  REALIDADES,  PERO EXISTE  EN  LAS  REGLA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 UN ELEMENTO FIJO QUE  NO CAMBIA  QUE  ES EL  DE  SU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CIA  Y  EL  DIP  SE  DEFINE  COMO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A   JURISPRUDENCIA  HAY  DEFINICIONES DEL DIP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OLUNTARISTAS   FUNDAMENTAN  EL  DIP EN LA VOLUNTAD  DE  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 HIZO  LA  CORTE   PERMANENTE  DE  JUSTICIA 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 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IP  RIGE  LAS  RELACIONES  ENTRE  ESTADOS  INDEPENDIENTES LAS  REGLAS 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 QUE   VINCULAN  A  LOS  ESTADOS  PROCEDEN  DE  LA  VOLUNTAD  D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 VOLUNTAD  MANIFESTADA  EN  CONVENCIONES O EN USOS QUE  SE 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 COMO CONSAGRADORES DE  PRINCIPIOS  DE  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 EL  FIN  DE  REGULAR  LA  COEXISTENCIA DE  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 O  CON  EL  OBJETO  DE  LA  PROSECUCIÓN  DE  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  NO COINCIDE CON  LA JURISPRUDENCIA INTERNACIONAL  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 NO HAY  NORMAS  CONVENCIONALES  NI  CONSUETUDINARIAS  APLICA  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 GENERALES  DE   DERECHO,  CUYO  RASGO  ESESNCIAL  ES  QUE   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  ANTES  EN  EL  ORDEN   INTERNO  DE   LOS  ESTADOS  Y   DE   AHÍ   L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   LAS   JURISDICCIONES  INTERNACIONALES  Y  LOS  APLICAN  EN  L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  QUE  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SON  ACEPTADOS  POR  TODAS  LAS   NACION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LA BUENA FE   Y   LA  COSA 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, 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  ESA MAN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  LAS RELACIONES ENTRE LOS SUJETOS  DE  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 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</cp:lastModifiedBy>
  <dcterms:modified xsi:type="dcterms:W3CDTF">2008-04-09T04:55:44Z</dcterms:modified>
  <cp:revision>19</cp:revision>
  <dc:subject/>
  <dc:title>Derecho Internacional Público</dc:title>
</cp:coreProperties>
</file>