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B63-5898-4B8B-8CDB-3EF28769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F44-B13E-4804-80A0-59A6E04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BE0-731A-4A54-B76D-98829CC9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87C-60D0-408B-8A05-08345558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6034-E141-4750-9F89-FAFD464C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B661-4243-4BCC-87C9-2668866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3A7F-BF57-4446-AF88-D0A96700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81D5-1D70-41B0-A8D2-7D93913D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03CB-6DE9-428C-9B08-DEDA148E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B3EC-809A-472E-8C7D-2E48D95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C921-4B01-4420-925D-A868D4A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41F-77F1-4BB1-A957-E571296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F92-DDC2-4933-980D-6E131784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3DCB-C97A-4E7A-BF6F-86428E65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4B70-1CFF-4577-AD5E-02748F1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78F2-8560-489D-A7F3-6C4E8145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452E-FEBD-41A9-9C2D-3B493BFF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4BF-4D7B-412D-8ACD-D0AEB665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4FC-821C-462C-985C-44D0CAF0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3FF-9AC7-4971-B025-53C336D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D9F-F076-4554-8E94-04B4F51F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E29-1776-4A0F-96E5-C031F03E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32A-4977-4DF3-B0E8-13BF428C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A26-924F-40D0-B55B-43A2497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683F-D99F-478E-B0A5-EDB322B9A1D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2301-72BD-41CE-8AE3-407D5D263E5A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 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6840" y="0"/>
            <a:ext cx="77076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 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 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 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  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 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 UN  NUEVO SISTEMA  JURÍDICO UNIVERS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; MOMENTO HISTORICO POR 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9360" y="409680"/>
            <a:ext cx="7875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 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IBRE 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DERECHO DE LOS PUEBLOS  A DISPONER DE  SI  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OMBRE  Y  DEL 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VIENA — 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MONROE - 1823-   ENUNCIA- 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POLÍTICA  EXTERIOR 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ARA  LOS 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STEMA  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SOLUCION   PACIFICA  DE  LAS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INSTITUCIONALIZACION DE  LA  COMUNIDAD 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O  DESCOLONIZACIÓN  RESOLUCIÓN  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UEVOS  ESTADOS EN   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COLONIZACIÓN  SE  ACELERA  EN 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67400" y="914400"/>
            <a:ext cx="78404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DE  NORMAS QUE RIGEN   LAS 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 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 JURÍDICAS  QUE  REGULAN  LAS  RELACIONES 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EL  JURISTA  BRITÁNICO  JEREMIAS  BENTHAM  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 “ INTERNATIONAL  LAW”  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EL  DIP  TAMBIÉN  REGULA  LAS  RELACIONES  ENTRE  OTRO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 DEL 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DE 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 DISPOSITIV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A INMUNIDAD                          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SON UN  LIMITE  A  LA  AUTONOMIA  DE  LA  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90000" y="380880"/>
            <a:ext cx="725976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RESERVADO  DE   LOS  ESTADOS  O 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77120" y="1219320"/>
            <a:ext cx="72262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NACIONAL  SIN LIMITE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A   EXTRANJEROS   STANDARS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DHH  DESAPARECE  ESTA 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 NACIONALES  Y 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S  DE  TRATADOS  SOBRE  DDHH   QUE  HA  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050"/>
          <p:cNvSpPr/>
          <p:nvPr/>
        </p:nvSpPr>
        <p:spPr>
          <a:xfrm>
            <a:off x="1071000" y="712800"/>
            <a:ext cx="7704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 CUANDO INTERVIENE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DA LA SOLUCION, INDICA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  LEGISLACIÓN  NACIONAL  SE  ENCUENTRA  Y  SUS  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  EN  LAS  LEGISLACIONES  INTERNAS  DE  CADA   ESTAD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  EN 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 DIP  ES  LA  OBRA  DE  SUS  DESTINATARIOS  L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  ES  PORQUE   Y   CUANDO  LOS  ESTADOS 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 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075680" y="0"/>
            <a:ext cx="818640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PUEDE  DEFINIR  EL  DIP  POR  LA  MATERIA  PORQUE  PUEDEN 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  A  LAS  NUEVAS  REALIDADES,  PERO EXISTE  EN  LAS  REGL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 UN ELEMENTO FIJO QUE  NO CAMBIA  QUE  ES EL  DE  SU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CIA  Y  EL  DIP  SE  DEFINE  COM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A   JURISPRUDENCIA  HAY  DEFINICIONES DEL DIP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LUNTARISTAS   FUNDAMENTAN  EL  DIP EN LA VOLUNTAD  DE  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 HIZO  LA  CORTE   PERMANENTE  DE  JUSTICIA 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 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IP  RIGE  LAS  RELACIONES  ENTRE  ESTADOS  INDEPENDIENTES LAS  REGLAS 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 QUE   VINCULAN  A  LOS  ESTADOS  PROCEDEN  DE  LA  VOLUNTAD  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 VOLUNTAD  MANIFESTADA  EN  CONVENCIONES O EN USOS QUE  SE 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 COMO CONSAGRADORES DE  PRINCIPIOS  DE  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 EL  FIN  DE  REGULAR  LA  COEXISTENCIA DE  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 O  CON  EL  OBJETO  DE  LA  PROSECUCIÓN  DE  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  NO COINCIDE CON  LA JURISPRUDENCIA INTERNACIONAL  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 NO HAY  NORMAS  CONVENCIONALES  NI  CONSUETUDINARIAS  APLICA  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 GENERALES  DE   DERECHO,  CUYO  RASGO  ESESNCIAL  ES  QUE   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  ANTES  EN  EL  ORDEN   INTERNO  DE   LOS  ESTADOS  Y   DE   AHÍ 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   LAS   JURISDICCIONES  INTERNACIONALES  Y  LOS  APLICAN  EN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  QUE  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SON  ACEPTADOS  POR  TODAS  LAS   NACION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LA BUENA FE   Y   LA  COSA 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, 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  ESA MAN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  LAS RELACIONES ENTRE LOS SUJETOS  DE  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 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4-09T04:55:44Z</dcterms:modified>
  <cp:revision>19</cp:revision>
  <dc:subject/>
  <dc:title>Derecho Internacional Público</dc:title>
</cp:coreProperties>
</file>