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1456-2F5B-468F-93B4-0FFDDD5F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D8F-400A-43BA-B73C-C8F3269A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D78-71A0-418A-8DA9-6E6E082E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A2AB-49B7-47B8-AE2C-AE684EA4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D7DC-EE6E-4E51-A8B2-09EEF991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B9A3-B81F-45E3-81FA-941F562F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EDA1-C921-481A-833E-1D82534B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68D0-E7FE-47A1-BC2A-04664B08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7713-FD6D-4C47-BE1D-0ACF2D46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C352-1D40-4C3C-9993-8BCE4A14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28CE-26AA-48DD-82C6-17FACA87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892D-2274-4A2A-85EB-9B63200A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3B6D-6D8A-4592-A265-27827E71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92A0-5299-4EC0-846C-BA27F9DF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5734-DDAE-4B73-A6D2-ED59A684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CC5B-DCFF-4B21-86A4-367BF80D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E7F1-E3EF-47A7-82A5-59A86AD3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927-2915-41DE-BE2C-E91182ED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0C1-E4F2-4302-9A20-7E54615B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CE9-7A67-4121-B8C6-1F255177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5A4-CA10-46F6-AA77-64DA9C28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8DA9-016C-4FD7-A3EC-C34A3616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FE9-703B-4DF6-935B-061760BE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FFC8-424A-40C3-AA77-862D47D4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F573-0824-4A9A-A417-019021E7693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CEBA-DA77-468C-BED4-1909A17B750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erecho Internacional Públ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fesora: Srta. Gilda Cic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21840" y="0"/>
            <a:ext cx="727344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EJECUTIV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UN PODER EJECU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TIENE CUMPLIMIENTO DE LAS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ASEGURA LA APLICACIÓN DE LAS SA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UNA AUTORIDAD CEN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HAGA OBLIGATORIA LAS NORMAS D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CCION DEL ESTADO LESION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INTERVENCIÓN DE OTR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MED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AR EFECTIVIDAD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DAS QUE PUEDE ADOPTAR EL 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TIRO DE AGENTES DIPLO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UPTURA DE RELACIONES DIPLOMÁTICAS CON ESTADO INFR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SPENSION CUMPLIMIENTO DE UN TRA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RECONOCER UNA SITUACIÓN CONTRARIA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46440" y="557280"/>
            <a:ext cx="82306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TRAS ME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SISTEMAS DE SEGURIDAD COLECTIV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EXPERIENCIA- SOCIEDAD DE LAS NACIONES-IN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CIONADA POR LA 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LA CENTRALIZACIÓN SE EX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S ATRIBUCIONES DEL CONSEJO DE SEGURIDAD CAPITULO VII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ENTRALIZACIÓN TAMBIEN SE EXPRESA  EN LA FUNCION EJEC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ECANISMO  PREVISTO EN LA CARTA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CUMPLIR  LAS SENTENCIAS  DICTADAS POR LA CIJ ART 94-No 2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LTA DE SAN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UN PROCEDIMIENTO JUDICIAL OBLIGATO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OLUC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LTA DE UNA AUTORIDAD CENTR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APLIQUE LAS SEN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HAGA CUMPLIR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96480" y="0"/>
            <a:ext cx="77079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JUDICIAL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 CORRESPON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IBUNALES PERMAN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CARACTERÍS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LIGATORIEDAD DE LA JU7RISDI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JERARQUIZACION DE LAS INSTANCIAS JUDI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DICCIÓN  ES OBLIGATO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LOS ESTADOS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N ACEP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M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PUEDEN OTORGAR JURISDICCIÓN A UN TRIBU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 O DESP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RJA EL LITI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LOS ESTADOS POR LA INTERDEPENDENCIA Y LA GLOB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IOLAN EL DIP  CON FRECU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PREVENCIÓN Y SANCION  DE LAS VIOL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SEJO DE SEGURIDAD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NE LA RESPONSABILIDAD PRIMORD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ANTENIMIENTO DE LA PAZ Y SEGURIDAD INTERNA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DECISIONES SON OBLIGATORIAS PARA SUS MIEMB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OLO EN 1990 POR EL ACTO DE AGRESION DE IRAK CONTRA KUWA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O  MEDIDAS  EN EL MARCO DEL CAPITULO VII DE LA ON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3960" y="0"/>
            <a:ext cx="77198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LUCIÓN PACÍFICA DE LAS CONTROVERS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EXIS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OBLIGACIÓN DE SOLUCIONAR LAS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EDIOS PACIF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3 Y ART 33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PRINCIPIO DE LA LIBRE ELECCIÓN DE LOS MED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UNICO MEDIO DE ARREGLO OBLIGATORIO PARA LA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JURISDI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  JUDICI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URSO A ESTE MEDIO ES VOLUNTAR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CURSORES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LOGOS ESPAÑ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RANCISCO DE VITORIA SIGLO XV  Y SIGLO X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DRE SUAREZ  SIGLO XVI-  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BERICO GENTILI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AS IMPORT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LANDES HUGO GROCIO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—---MARE LIBERUM—Y DE JURE  BELLI AC PACI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90280" y="0"/>
            <a:ext cx="8242920" cy="69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UNIDAD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IGEN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ACIMIENTO SIGLO XVI Y XV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ESTADOS EUROP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NACE EN LA MODER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    SISTEMA EUROPEO     ESTADO – 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RENACIMIENTO EUROPEO     Y  LA  REF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PORTAMIENTOS OBLIGATO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DEL DIP ACTU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 BASAN EN PRACTICAS SOB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MUNIDADES  DIPL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SIONER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JES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AD MEDI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OBLIGATORIAS PARA LAS COMUNIDADES FEUD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MODERNOS EUROPEOS CRISTIAN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PODERIO ECONOM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MILITA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MENTAR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 SISTEM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O UNIVERS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 COMUNIDADES  NO EUROP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90720" y="380880"/>
            <a:ext cx="846756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ANTIGÜEDAD Y LOS TIEMPOS MODERNO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 DE UN ESTADO UNIVERS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ROMANO SE ADAPTA A NUEVAS NECESIDAD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SI   APARE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IUS  GENTIU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TO DE COSTUMBRES CREADAS  Y PUESTAS  EN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TODOS LOS PUEBLOS  EN EL IMPERIO ROMANO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NACIMIENTO  Y REFORM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N FIN  DEL SISTEMA FEUD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Z DE WESTFALIA  ( 1648 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O FIN A LA GUERRA DE LOS 30 AÑ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 HOLANDA( PAIS PROTESTANTE) Y LOS PAISES BAJOS( CATÓLIC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MOTIVOS POLÍTICO-RELIGIOSO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Z DE WESTFALI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O HISTORICO P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DE UN NUEVO OR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RI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LI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RELIGIOSO  EN EURO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72440" y="533520"/>
            <a:ext cx="71179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IENZA LA ERA DEL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IMPERIO ES REEMPLAZADO POR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   GRANDES PO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GLATERRA—ESPAÑA—PORTUGAL—FRANCIA—SUECI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LOS PAISES BAJ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PROCESO EXPRESA  UN NUEVO DERECHO PUBLICO EUROPE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STRUCTURA SOBRE LAS BASES DE UNA COMUN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ORGAN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 DE IGUAL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ÍDICA DE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 LA SOBERANIA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SION DE IMPERIO I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INDIAS     Y      EN AMER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 EXPENSAS DE  FRANCIA  Y DE ESPAÑ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9720" y="409680"/>
            <a:ext cx="7875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IA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 DE JULIO  DE  1776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MOCR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ENTIMIENTO  DE LOS PUEBL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CION FRANCESA  1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DE LOS PUEBL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SPONER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M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RECHOS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M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IUDAD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ESO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EN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15.-        RECONSTRUIR   EL   MAPA  DE  EUROP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NRO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23-   ENUNCIA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TRINA  MONRO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--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ÍT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ERI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TEAMERICAN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MERICAN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 DE  ITALIA  Y  DE ALEMANIA-   SEGU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TAD  SIGLO XIX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ERIC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99 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IENZA 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MERIC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HIBICION   FUERZ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LUCION   PACIFICA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A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TROVERS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ALIZACION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CTIV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CESO  DESCOLONIZACIÓN  RESOLU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 E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960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LONIZACIÓ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9920" y="328680"/>
            <a:ext cx="4827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ESTA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DER EJECUTIVO-LEGISLATIVO- JUDICI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0640" y="2462040"/>
            <a:ext cx="768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ORGAN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GUALITAR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BITOS PARTICULA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CENTRALIZ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COMUNIDAD EUROPEA  Y CONSEJO DE SEGURIDA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 FUERTE PODER  DEL CONSEJO EN LA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ES UN DERECHO QUE RESPONDE A UN MEDIO SOCIAL DIFER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STAN PRESENTES  LAS  FUNCIONES  BA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DICIAL   -LEGISLATIVA--  EJECU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 UNA MANERA DISTI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PROPIADA A LA COMUNIDAD INTERNACIONAL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7400" y="914400"/>
            <a:ext cx="78408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TEGORÍA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ORMAS QUE RIGEN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LACIONES  ENT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-DERECHO INTERNACIONAL—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CORTESIA INTERNACIO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ÍA NORMATIVA  NO  JURÍDICA.-NO SON NORMAS JURÍD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CILITAN LA CONVIVENCIA- ENTRE  LOS  SUJETO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NIDO DE ESTAS NORMAS ES DE MENOR RELEVA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A NORMA DE CORTESÍA PUEDE CONVERTI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NORMA JURÍD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GUNAS NORMAS DE PROTOCOLO SON U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ESTADOS CUMP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STAN OBLIGADOS A HACE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1960" y="0"/>
            <a:ext cx="803844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IPLINA DE LAS RELACIONES INTERN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 DEL 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CION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RITÁNIC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REMI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NTHA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O 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INTERNAT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”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QUEDO COMO DER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 DEL 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 LAS RELACIONES ENTRE LOS ESTADOS INDEPEND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INCOMPLE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BIÉN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JET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GRUPOS NACIONALES INSURREC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ACIONAL PUBLIC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DERECHO INTERNACIONAL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STINCION ENTRE  AMBOS, EN CUANT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 CONTEN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U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ME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60480" y="609480"/>
            <a:ext cx="8366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ASIFICACION DE LAS NORMAS JURÍD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VE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SUETUD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BILATERALES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ULTILAT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PARTIC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EN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 PARTICULAR—OBLIGAN  A UN GRUPO DETERMINADO D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GENERAL.—OBLIGAN A  TODOS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QUE OBLIGAN A TODOS L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NORMAS CONSUETUDINAR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RT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XCLUYEN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APLICACIÓN DE UNA N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ROCESO PREVIO A LA POSITIVA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AZ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ECE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ESTADO   RECALCITRANTE  U   OBJETOR PERSIST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38088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DISPOSI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MPERATIVA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POSITIV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JURÍDICAS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TEN ACUERDO 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DOS ESTADOS CONVIENEN UNA RENUNCIA BILATERAL  A   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MUNI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 JURISDICCIÓN.-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IMPERATIVAS.-O DE IUS COGEN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 JURÍDICA OBLIG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ADMITE ACUERDO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ACUERDO EN CONTRARIO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NUL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-PROHIBICION DEL USO DE LA FUERZA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TONOMI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 DE  LOS 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CONSAGRACIÓN POSITIV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53   CONVENCION DE VIENA SOBRE DERECHO DE LOS TRATADOS 1969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T 53 DEFINE  LA NORMA IMPERA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89640" y="380880"/>
            <a:ext cx="726012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SERVADO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L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ESTAD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O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COMPETE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ESTIC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MBITOS ESTAT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NO  HAY   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PRESCRIBAN  DETERMINADOS  COMPOR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 REGLADO DEL  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CELEBRA UN TRATADO SOBRE UN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UME UNA OBLIGACIÓN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QUE LIMITA  SU ACCION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OMINIO RESERVADO  EN EL DIP CLÁSICO ERA MAS AMPL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Y POR LA GLOBALIZACIÓN Y LA INTER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EBRAN TRATADOS SOBRE DISTINTAS MA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QUE ACTUAN DE ACUE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S OBLIGACIONES CONTRAÍDAS EN LOS TRATADOS.-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REGLA SU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NORMA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 PERDIENDO SU DOMINIO RESERV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DDHH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84360" y="392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76400" y="1219320"/>
            <a:ext cx="7227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T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ACIONAL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 LIMIT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STADO NO RESPETA STA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 RECURRE DE AMPARO O PROTECCIÓN DIPLOMÁT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 EST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PAREC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ERE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BE TRAT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AL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UMIDO.-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71000" y="712800"/>
            <a:ext cx="7705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RECHO INTERNACIONAL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CIONAR CONFLICTOS DE LEY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INTERV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O O MAS ELEMENTOS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ISTAN VARIAS LEGISLACIONES CONCURR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INTERNACIONAL PRIV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 LA SOLU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UENT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QUE PUEDEN CODIFICAR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CODIGO DE BUSTAMANTE   AÑO  19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TENID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TINATARI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  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MPLEN 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INGEN 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DIP  OPERA EN LA COMUNIDAD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0"/>
            <a:ext cx="81532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RACTERÍSTICAS  DE LA COMUNIDAD  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RESENCIA DE SUJETOS DE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RUPOS INSURRECTOS RECONOCIDOS COMO BELIGERANT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ESTRUCTURA—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SUBORINACION ENTR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-   IGUALDAD DE LOS ESTADOS ANTE EL DIP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BER DE NO INTERVENCIÓN EN LOS ASUNTOS DE OTROS ESTADOS.-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NUMERO DE SUJETOS—REDUC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AMBITO—UNIVE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INORGÁ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XISTEN ORGANOS DE CARÁCTER ESTABLE Y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DESCENTRALIZAD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- COMPOSICIÓN-INTERESTAT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609480"/>
            <a:ext cx="641664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CIÓ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CARACTERIZAD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ARENCIA  DE  INSTITUCIONES ( INCERTIDUMBRE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SUFICIENTE  LA SANCION DE LAS VIOLACION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ISTE UN PODER LEGISLATIV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SAMBLEA GENERAL ADOPTA RESOLUCIONES NO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ER LOS MEDIOS PARA UN RESULTADO SIN EXIGI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SOLUCION DE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RESUL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NEN EL DEBER DE ALCANZAR  UN F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NO RECURRIR A LA AMENAZA O AL USO DE LA FUERZ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0"/>
            <a:ext cx="81532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CIÓN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IDENTIFICAR DENTRO DE TODAS LAS NORMAS JURÍDIC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REGLA DE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DEFINIR EL DIP  POR SUS DESTINATARIO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 CONJUNTO DE NORMAS QUE REGULAN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SUJETOS DEL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 DEFINIRLO POR EL CONTENIDO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DEFINIRLO POR LA CREACIÓN DE LAS REGLAS-POR SUS FUENT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CINDE DE LA 1ª  PORQUE EL DIP SE REFIERE A LA RELACI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E DESCARTA EL CRITERIO MATERI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QUE EL CONTENIDO DEL DIP  ES CAMBIANTE- FLUI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J PROTECCIÓN DE LOS DERECHOS HUMAN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N 1789  FUERON OBJETO DE UNA DECLARACIÓN DE LA ASAMBLEA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YENTE FRAN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10- DE  DICIEMBRE DE 1948 SON PARTE INTEGRANTE DE 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CLARACIÓN DE LA ASAMBLEA  GENERAL DE LA ONU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4 DE  NOVIEMBRE  DE 1950, RECIBEN  UNA  PROT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INTERNACIONAL EFECTIV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 LA CONVENCIÓN SOBRE SALVAGUA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 LOS DERECHOS DEL HOMBR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ADOPTADA  EN EL MARCO DEL CONSEJO DE  EUROP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74960" y="0"/>
            <a:ext cx="818748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E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FINI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LIDAD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EXIST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O FIJ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AMB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DEN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 DEFIN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CONJUNTO DE NORMAS POSITIVA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OS PODERES NORMATIVOS DE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 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ONES D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ISTAS   FUNDAMENTAN  EL 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LA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Z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 COR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LO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G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FESTAD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ES O EN US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M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AGRADORES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IOS 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 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DOS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XISTENCIA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COM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SECUCIÓ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S COMUNES.-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DEFINICIÓ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COINCIDE C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JURISPRUDENCIA INTERNACIO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ETUDINARI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LIC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ENER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Y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SG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ESNCIA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HÍ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DICCION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LIC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IC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UELVAN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: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BUENA F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Y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ZGAD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 TAMBIEN LOS PRINCIPIOS PROPIOS DEL DIP  ART  2  DE LA CARTA DE LA ONU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82880" y="0"/>
            <a:ext cx="7968240" cy="68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 DIP Y LAS NORMAS DE CORTESÍ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SE DISTINGUE  DE LA MORAL O CORTESÍA INTERN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OR LA RESPONS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POR  EL GRADO DISTINTO  EN LAS SANCION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INTERNACIONAL ACARREA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 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DE CORTESÍA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IC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O REPULSIÓN DE LA OPINIÓN PUBL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DE CORTESÍA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LUDAR BANDERA-BUQUES DE GUER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SAR PAPEL BLANCO CORRESPONDENCIA DIPLOMÁT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NORMAS DE  CORTESÍA –LOS USO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NSFORMAN EN NORMAS JURÍDICA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L ELEMENTO MATERIAL SE  UNE LA  OPINIO JURI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 LA CONVICCIÓN DE QUE LOS US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N JURÍDICAMENTE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NMUNIDADES Y PRIVILEGIOS DIPLOMÁTICOS NACIER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A MANERA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DEL DIP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MENTAR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OS SUJET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MUN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3600" y="380880"/>
            <a:ext cx="7486920" cy="60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ES LEGISLATIVA-  EJECUTIVA  Y JUDICIAL  EN EL 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FUNCION LEGIS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NO EXISTE UN ORGANO LEGISLATIVO CENTRALIZA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LEGISLATIVA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VOLUNTAD DE LOS ESTADOS EN LA CREACIÓN D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SE MANIFIESTA EN EL DERECHO CONVENCIONAL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LOS TRATADOS SOLO OBLIGAN A LOS ESTADO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 COSTUMBRE- CONDUCTA COINCIDENTE DE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REACIÓN DE LA NORMA NO PARTICIPAN SUS DESTINA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LES IMPON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CREAN LAS NORMAS Y ELLOS SON LOS DESTINATAR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1:13:57Z</dcterms:created>
  <dc:creator>Héctor Escobar</dc:creator>
  <dc:description/>
  <dc:language>en-US</dc:language>
  <cp:lastModifiedBy>GILDA CICCI SALAZAR</cp:lastModifiedBy>
  <dcterms:modified xsi:type="dcterms:W3CDTF">2004-03-20T23:55:20Z</dcterms:modified>
  <cp:revision>21</cp:revision>
  <dc:subject/>
  <dc:title>Derecho Internacional Público</dc:title>
</cp:coreProperties>
</file>