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849CF-B10F-4F56-94A0-CBFC13372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3923B-F6F3-4CB7-B118-B3DBF2B64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E8B8D-F999-43E8-A399-F92BF8376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2CB55-8BFE-46FC-A9D8-AF333B351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5EA73-8D10-49A5-BD61-5BE60DED8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04779-6622-4130-9C1F-F8A100BFB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30307-0A4D-4CF1-B238-1F4275537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1FA6B-EAB7-4054-810C-DE67B7CE7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B0FAB-A4E0-4FD9-98AF-5C1E89829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BF7EC-DBAB-453D-BDE7-C7E219814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E7EB5-6BAE-476A-B5E0-02F2655DF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3748A-7257-4C38-ADC6-0D5D3BB26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2C3DB-9FB2-416D-9C01-69434C1B6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7B3A7-2DB7-4C6C-B9DA-CB00C4F72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5CE2B-1535-48AB-8E19-EF552FD0E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D83AC5-7778-4C27-9A17-983344B86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83A7D-48F9-474C-8C15-D90554C12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DED8B-432F-4F2A-ABF0-6B3C55783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79F14-867C-4E05-94F5-7497EE67B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A958C-0C8F-4190-9572-F27FD7DC5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37194-44ED-4EE4-AFDE-B00D6741A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9AAB7-31B0-46A2-8427-9DB29A827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20AD9-1D87-4882-BC32-593F63F3D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172A-CE25-48AD-A22C-ECD98D56C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CEAB-973F-4062-910A-80742DF063A4}" type="slidenum">
              <a:rPr b="0" lang="es-E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5" name="PlaceHolder 3"/>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6" name="PlaceHolder 4"/>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78F8-9613-4824-8ED8-5591B99E2B1E}" type="slidenum">
              <a:rPr b="0" lang="es-ES" sz="1400" spc="-1" strike="noStrike">
                <a:solidFill>
                  <a:srgbClr val="eaeaea"/>
                </a:solidFill>
                <a:latin typeface="Times New Roman"/>
              </a:rPr>
              <a:t>&lt;number&gt;</a:t>
            </a:fld>
            <a:endParaRPr b="0" lang="en-US" sz="1400" spc="-1" strike="noStrike">
              <a:solidFill>
                <a:srgbClr val="ffffff"/>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ffcc66"/>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ffcc66"/>
              </a:buClr>
              <a:buSzPct val="11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_tradnl" sz="4400" spc="-1" strike="noStrike">
                <a:solidFill>
                  <a:srgbClr val="ffcc66"/>
                </a:solidFill>
                <a:latin typeface="Times New Roman"/>
                <a:ea typeface="Times New Roman"/>
              </a:rPr>
              <a:t>FUENTES NO CONTENIDAS EN ART.38</a:t>
            </a:r>
            <a:br>
              <a:rPr sz="4400"/>
            </a:br>
            <a:r>
              <a:rPr b="0" lang="es-ES_tradnl" sz="4400" spc="-1" strike="noStrike">
                <a:solidFill>
                  <a:srgbClr val="ffcc66"/>
                </a:solidFill>
                <a:latin typeface="Times New Roman"/>
                <a:ea typeface="Times New Roman"/>
              </a:rPr>
              <a:t>ACTOS DE ORGANIZACIONES INTERNACIONALES</a:t>
            </a:r>
            <a:br>
              <a:rPr sz="4400"/>
            </a:br>
            <a:r>
              <a:rPr b="0" lang="es-ES_tradnl" sz="4400" spc="-1" strike="noStrike">
                <a:solidFill>
                  <a:srgbClr val="ffcc66"/>
                </a:solidFill>
                <a:latin typeface="Times New Roman"/>
                <a:ea typeface="Times New Roman"/>
              </a:rPr>
              <a:t> </a:t>
            </a:r>
            <a:br>
              <a:rPr sz="4400"/>
            </a:br>
            <a:r>
              <a:rPr b="0" lang="es-ES_tradnl" sz="4400" spc="-1" strike="noStrike">
                <a:solidFill>
                  <a:srgbClr val="ffcc66"/>
                </a:solidFill>
                <a:latin typeface="Times New Roman"/>
                <a:ea typeface="Times New Roman"/>
              </a:rPr>
              <a:t>Profesor</a:t>
            </a:r>
            <a:br>
              <a:rPr sz="4400"/>
            </a:br>
            <a:r>
              <a:rPr b="0" lang="es-ES_tradnl" sz="4400" spc="-1" strike="noStrike">
                <a:solidFill>
                  <a:srgbClr val="ffcc66"/>
                </a:solidFill>
                <a:latin typeface="Times New Roman"/>
                <a:ea typeface="Times New Roman"/>
              </a:rPr>
              <a:t>Alberto Rioseco</a:t>
            </a:r>
            <a:endParaRPr b="0" lang="en-US" sz="4400" spc="-1" strike="noStrike">
              <a:solidFill>
                <a:srgbClr val="ffcc66"/>
              </a:solidFill>
              <a:latin typeface="Times New Roman"/>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ea typeface="Times New Roman"/>
              </a:rPr>
              <a:t>Terminos empleados.</a:t>
            </a:r>
            <a:br>
              <a:rPr sz="4400"/>
            </a:br>
            <a:endParaRPr b="0" lang="en-US" sz="4400" spc="-1" strike="noStrike">
              <a:solidFill>
                <a:srgbClr val="ffcc66"/>
              </a:solidFill>
              <a:latin typeface="Times New Roman"/>
            </a:endParaRPr>
          </a:p>
        </p:txBody>
      </p:sp>
      <p:sp>
        <p:nvSpPr>
          <p:cNvPr id="106"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RESOLUCION (es termino generico)</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Es todo acto emanado de una organizacion internacional., o sea . es la expresion de voluntad de este sujeto.   (no toda resolucion es fuente de derecho internacional: dependera del caracter de la resulucion y de los poderes de la Organizaci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8" name="PlaceHolder 2"/>
          <p:cNvSpPr>
            <a:spLocks noGrp="1"/>
          </p:cNvSpPr>
          <p:nvPr>
            <p:ph/>
          </p:nvPr>
        </p:nvSpPr>
        <p:spPr>
          <a:xfrm>
            <a:off x="698400" y="761760"/>
            <a:ext cx="7772400" cy="501804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Expresan la voluntad de un solosujeto de derecho internacional.  Pueden clasificarse en dos grandes grupos   (terminos especificos): a) Decisiones y b)recomendaciones.</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Sin embargo la terminologia no se ha uniformado. El articulo 25 de la Carta ONU,emplea correctamente la expresion decision. Otras Organizaciones emplean una terminologia diferente,  El caso de la UNION EUROPEA por su caracter   y la amplitud de sus funciones emplea una  terminologia mas compleja.</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0" name="PlaceHolder 2"/>
          <p:cNvSpPr>
            <a:spLocks noGrp="1"/>
          </p:cNvSpPr>
          <p:nvPr>
            <p:ph/>
          </p:nvPr>
        </p:nvSpPr>
        <p:spPr>
          <a:xfrm>
            <a:off x="380880" y="380880"/>
            <a:ext cx="8763120" cy="6477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A .LAS DECISIONES.</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Es un acto de una  Organizacion Internacional, con efecto obligatorio,que manifiesta el mayor poder que puede detentar dicha Organuzacion  Son una excepcion muy calificada, muy pocos los casos en que una  Org.Int. puede adoptar decisiones capaces de imponer obligaciones a los estados.  Como sabemos, en Derecho Internacional no existen poderes legislativos ni generales ni especiales</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Clasicacion de las decisiones de Org.Int,</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a)Decisiones relativas a la vida interna de la Organizcion(actos autonormativos)</a:t>
            </a:r>
            <a:endParaRPr b="0" lang="en-US" sz="2800" spc="-1" strike="noStrike">
              <a:solidFill>
                <a:srgbClr val="eaeaea"/>
              </a:solidFill>
              <a:latin typeface="Times New Roman"/>
            </a:endParaRPr>
          </a:p>
          <a:p>
            <a:pPr marL="339480" indent="-3394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b)Decisiones dirigidas a otros sujetos de Derecho Internacional,  o sea, referentes a la vida externa de la Organizacion.</a:t>
            </a:r>
            <a:endParaRPr b="0" lang="en-US" sz="2800" spc="-1" strike="noStrike">
              <a:solidFill>
                <a:srgbClr val="eaeaea"/>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ea typeface="Times New Roman"/>
              </a:rPr>
              <a:t>l.- Actos autonormativos:</a:t>
            </a:r>
            <a:br>
              <a:rPr sz="4400"/>
            </a:br>
            <a:endParaRPr b="0" lang="en-US" sz="4400" spc="-1" strike="noStrike">
              <a:solidFill>
                <a:srgbClr val="ffcc66"/>
              </a:solidFill>
              <a:latin typeface="Times New Roman"/>
            </a:endParaRPr>
          </a:p>
        </p:txBody>
      </p:sp>
      <p:sp>
        <p:nvSpPr>
          <p:cNvPr id="112"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Toda organizacion posee la facultad de decidir las normas para su funcionamiento,  Ejemplos: nombramiento, incluso Director o Secretario General; admision de nuevos miembros;exclusion o suspension de miembros; medidas financieras, incluidas las cuotas de los mienbros, es uno de los pocos casos de medidas internas que afectan a un estado miembro.</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5100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ea typeface="Times New Roman"/>
              </a:rPr>
              <a:t>2-Actos dirigidos a otros sujetos de derecho internacional:</a:t>
            </a:r>
            <a:endParaRPr b="0" lang="en-US" sz="4400" spc="-1" strike="noStrike">
              <a:solidFill>
                <a:srgbClr val="ffcc66"/>
              </a:solidFill>
              <a:latin typeface="Times New Roman"/>
            </a:endParaRPr>
          </a:p>
        </p:txBody>
      </p:sp>
      <p:sp>
        <p:nvSpPr>
          <p:cNvPr id="114" name="PlaceHolder 2"/>
          <p:cNvSpPr>
            <a:spLocks noGrp="1"/>
          </p:cNvSpPr>
          <p:nvPr>
            <p:ph/>
          </p:nvPr>
        </p:nvSpPr>
        <p:spPr>
          <a:xfrm>
            <a:off x="0" y="1665360"/>
            <a:ext cx="9144000" cy="519264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Casos excepcionales:</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	</a:t>
            </a:r>
            <a:r>
              <a:rPr b="0" lang="es-ES_tradnl" sz="2800" spc="-1" strike="noStrike">
                <a:solidFill>
                  <a:srgbClr val="eaeaea"/>
                </a:solidFill>
                <a:latin typeface="Times New Roman"/>
                <a:ea typeface="Times New Roman"/>
              </a:rPr>
              <a:t>a)caso de poder reglamentario otorgado a instituciones especializadas.  Este poder reglamentario restringido concedido en formaexcepcional a algunas instituciones del sistema de la ONU, les permite dictar normas generales en ciertas materis de caracter estrictamente tecnico.  Se ha estimado que se trata de un poder reglamentarioy no legislativo ya que su campo es muy limitado y no va mas  alla de cuestiones que en el orden interno de los  estados corresponde al reglament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Times New Roman"/>
                <a:ea typeface="Times New Roman"/>
              </a:rPr>
              <a:t>Ejemplos: -Organizacion  Meteorologica Mundial (OMM)- Organizacion mundial de la salus (OMS),- Organizacion de la Aviacion  Civil Internacional (OACI).   En los casos de la OMS y la OACI, los estados , dentro de cierto plazo, pueden rechaszar los acuerdos adoptados.</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8" name="PlaceHolder 2"/>
          <p:cNvSpPr>
            <a:spLocks noGrp="1"/>
          </p:cNvSpPr>
          <p:nvPr>
            <p:ph/>
          </p:nvPr>
        </p:nvSpPr>
        <p:spPr>
          <a:xfrm>
            <a:off x="698400" y="456840"/>
            <a:ext cx="77724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ea typeface="Times New Roman"/>
              </a:rPr>
              <a:t>b)caso del poder atribuido al Consejo de Segurdad  de la ONU.  En elejercicio de su funcion de mantener y reetablecer la paz se han atribuido poderes especiales al Consejo de Seguridad, En el plano jurifico, es la primera vez que un organo politico internacional. A la escala universal, recibe la facultad de imponer sus ppuntos de vista a estados soberanos en el campo mas importante de las relaciones internacionales.  Se ha dicho que si el Cosejo de Seguridad, no es,por sus caracteristicas generales un organo supraestatal. Es dificil no considerarlo como una Autoridad Publica Internacional, cuando ejerce un tal poder de naturaleza ejecurtiva.</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0" name="PlaceHolder 2"/>
          <p:cNvSpPr>
            <a:spLocks noGrp="1"/>
          </p:cNvSpPr>
          <p:nvPr>
            <p:ph/>
          </p:nvPr>
        </p:nvSpPr>
        <p:spPr>
          <a:xfrm>
            <a:off x="698400" y="990720"/>
            <a:ext cx="7772400" cy="4789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Times New Roman"/>
                <a:ea typeface="Times New Roman"/>
              </a:rPr>
              <a:t>	</a:t>
            </a:r>
            <a:r>
              <a:rPr b="0" lang="es-ES_tradnl" sz="3200" spc="-1" strike="noStrike">
                <a:solidFill>
                  <a:srgbClr val="eaeaea"/>
                </a:solidFill>
                <a:latin typeface="Times New Roman"/>
                <a:ea typeface="Times New Roman"/>
              </a:rPr>
              <a:t>En su opinion consultiva de 21 Junio 1971n en el caso de Namibia, la C.I.J,ha admitido que el poder de decision que elart,25 de la Carta reconoce al Consejo d Seguridad no se limita a las competencias previstas por el capitulo VII  de dicha Carta,</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1:35:13Z</dcterms:created>
  <dc:creator>GILDA CICCI SALAZAR</dc:creator>
  <dc:description/>
  <dc:language>en-US</dc:language>
  <cp:lastModifiedBy>GILDA CICCI SALAZAR</cp:lastModifiedBy>
  <dcterms:modified xsi:type="dcterms:W3CDTF">2005-04-01T01:42:39Z</dcterms:modified>
  <cp:revision>10</cp:revision>
  <dc:subject/>
  <dc:title>FUENTES NO CONTENIDAS EN ART.38 ACTOS DE ORGANIZACIONES INTERNACIONALES   Profesor Alberto Rioseco</dc:title>
</cp:coreProperties>
</file>