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912-319C-4683-AB5C-E5E9B152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024-9278-454E-954D-6D7D3007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00F-24D6-42FB-991C-0740DBD8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0A3-08FF-420F-9A66-F75EE2DC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FD27-6E3A-4D08-BC92-92878530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7E4E-BE1A-431F-8B59-E7275DF2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11BA-C860-47A9-8DD2-6B8D9ACF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2766-B55B-40D9-9100-71801E9E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2625-79B7-4133-9DDE-AE405CF3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C600-8DE2-4E93-820D-76668244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838E-6D44-479C-BCA7-CDE68AC5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63A-A617-4096-872D-C032CC99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B38D-AD9B-4277-8CC9-37E530C3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7538-D25E-4742-93C0-1863763C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0BF2-9260-4BE7-9337-286473DB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213C-6816-4CDE-8D2F-BEA5D3F8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8F99-F165-4DC9-B0A7-A10E58AF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3E3-6C9A-415F-9E66-CDCBE6CE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CF2-F2EF-48BC-BDAF-348BB66F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C5E-9443-4E62-9189-17845B66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A34-BC8D-4C61-9BA6-D6A817C5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900-1AD1-4BEA-8E43-F95FF8B8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6FF-2464-4B28-8260-787937AB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865-B5C3-4C58-BCEC-08C87398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E8EF-B220-497E-A493-700AF2645C3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9E87-55EE-4DB7-8C04-DA90CE4EFE8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ffff"/>
                </a:solidFill>
                <a:latin typeface="Times New Roman"/>
              </a:rPr>
              <a:t>Fuentes del Derecho Internacional Públic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60000" y="42552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entre normas jurídicas inter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144440"/>
            <a:ext cx="810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hay jerarquía entre tratados y costum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xisten principios que se deben aplicar en caso de conflictos entre normas jurídicas internaciona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º Normas de IUS COGENS: Normas Imperativas de Dº Internacional General (ver artículo 53 convención de Viena sobre Dº de los Tratados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º no tratándose de normas de Ius Cogens se acude a los siguientes princip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.- Ley Especial Deroga a la Ley Gene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.- Ley Posterior Deroga a la Ley Anteri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* Tratados y Costumbres pueden derogarse recípro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ffff"/>
                </a:solidFill>
                <a:latin typeface="Times New Roman"/>
              </a:rPr>
              <a:t>Generalidades.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3480" y="1447920"/>
            <a:ext cx="7940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de los cuales emanan los principios y normas d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MATERI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históricos, políticos, económicos, sociales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ológicos y otros que han ido determinand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ido de las normas del 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FORM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Procedimientos, medios, o actos a través de los cuales s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n, modifican, o extinguen las normas del D.I.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AS FUENTES FORM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7160" y="669960"/>
            <a:ext cx="8016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EN EL AMBITO INTERN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Las normas l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 el Poder Legislativo en su sistem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cion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EN EL AMBITO DE LA COMUNIDAD INTERNACIONAL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Dado su carácter desentralizado no hay un poder legislativ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CLASIFICACION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CONVENCIONAL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RATADOS)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EXPONTANE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STUMBRE Y PRINCIPIOS GENERAL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 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FUENTES AUTORIT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ON UNA EXEPC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que distinguir:  LA FUENTE (Procedimiento por el cual se crea la norm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  LA NORMA MISMA ( Substancia de la reg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da).  Asi los TRATADOS da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en a las NORMAS CONVENCIONALES, y la COSTUMBRE, a las NORM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UETUDINAR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LASIFICACION DE LAS NORMAS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50840" y="1905120"/>
            <a:ext cx="8093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DE CARACTER GENERAL ,ABSTRACTO Y PERMAN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todas las situaciones concretas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an presentarse en el futuro. (Normas Consuetudin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es, ejemplo responsabilidad internacional por h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ícito, y principios generales de derecho).  Hay también normas convencionales de carácter general y abstracto, ejemplo 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ción de ONU  sobre el Derecho del Mar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DE CARACTER PARTICUL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situaciones determinadas, ejempl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 de Paz y Amistad de Chile y Argent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ANALISIS DEL ARTICULO 38 DE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ESTATUTO DE  LA CORTE INTERNACIONAL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DE 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JUSTICI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3080" y="1557360"/>
            <a:ext cx="8250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o actualmente vigente, tomado del estatuto de la corte permanente d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 internacional de 1920, que, aunque no lo dice expresamente s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iere a fuentes formales de derecho internacional Públic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exto del artículo 38 es el sigui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1.- LaCorte cuya función es decidir conforme a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las controversias que le sean sometidas, deberá aplic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Convenciones Internacionales, sean generales 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ula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cen reglas expresamente reconocidas por l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dos litig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La Costumbre internacional como prueba de una practica ge-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almente aceptada como derech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50840" y="1233360"/>
            <a:ext cx="8093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  Los principios generales de derecho reconocidos por l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es Civilizadas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- Las Deciciones Judiciales y las Doctrinas de los publicistas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or competencia de las distintas naciones, como medi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xiliar para la determinación de las reglas de derecho si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juicio de lo dispuesto en el arti. 59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La presente disposición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nge la facultad de la Corte par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ir un letigio ex aequo et bono, si las partes así lo convinier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ACTERISTIC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parrafo 1º del art. 38 , nos revela que se esta refiriendo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ntes de D.I.P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IMPORTANCI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762120"/>
            <a:ext cx="7924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universalidad, porque es norma vigente para los 191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dos miembro de la ONU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s la unica norma vigente sobre esta materia, además se alude a ella en la Convención del Derecho del Mar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Y es aplicada por Tribunales y Tratadista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ctos que comprende 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verdaderas fuentes formales (Tratados, costumbre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 generales del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.- los medios auxiliares para la determinación de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Jurisprudencia y Doctrina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c.-- La opción de solicitar se falle e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quidad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Parrafo   2º del art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)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nque la mayoria opina que la equidad no es una fuente  de D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RITIC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19320"/>
            <a:ext cx="775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No incluye todas las fuentes de DIP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No contempl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rqui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fuent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ARA NOSOTROS   ES MAS UNA VIRTUD QUE UN DEFECT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3.- Coloca en un mismo parrafos fuentes y medios auxiliares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4.- Parece dar la misma importancia a doctrin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.;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tante el destacado papel de esta últim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5.- Emplea una expresión ya superada como es Naciones Civilizada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83480" y="49212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DE LAS FU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155412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l artículo 38 del Estatuto se abstuvo de establecer una jerarquía entre las Fuentes formales princip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) En el proyecto de la convención se establecía que la aplicación de estas fuentes había de hacerse “por orden suscesivo”, la Asamblea General decidío suprimir dicho inciso por considerarlo inneces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) Usa letras para designar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) Solo establece un orden sucesivo de consideración (es un método operativo, no indica jerarquía, el tribunal puede aplicar varias fuentes en un mismo cas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23:54:51Z</dcterms:created>
  <dc:creator>Héctor Escobar</dc:creator>
  <dc:description/>
  <dc:language>en-US</dc:language>
  <cp:lastModifiedBy>Andres</cp:lastModifiedBy>
  <dcterms:modified xsi:type="dcterms:W3CDTF">2005-07-07T20:30:17Z</dcterms:modified>
  <cp:revision>16</cp:revision>
  <dc:subject/>
  <dc:title>Fuentes del Derecho Internacional Público</dc:title>
</cp:coreProperties>
</file>