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0A7-3FCA-4F04-BAAE-0FF77BF1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087-08C8-4AF9-827C-1FD13293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CE4-A796-4172-9EFC-CB1D6460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6E4-589C-4D11-B66A-6D523C35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8DD3-6D45-46CE-A717-021BA773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7597-441F-4542-A5BE-57AB62A8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C4D9-5270-4800-9B9C-639F67E8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CBC7-0099-4624-82E8-C2F3A426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D8D6-7787-401E-806E-3713EB1C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52BA-8BE6-43EC-92D0-5AC2257B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89A9-5245-4948-8C36-A4261401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A2E-314C-44C4-9975-41383A9E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3F7C-9232-454D-BFAA-A83F2B09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CA76-D04D-4E39-938F-777A60F6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6F44-BF1B-4C9A-9E6F-F3527CC9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508E-8929-4A49-BCAF-1BE2E2B1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4615-B4B2-45D3-9E2E-A2ED9858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956-D099-4984-8520-4ABE86F8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C45-11FC-4DC3-A40E-E4521BFE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196-D547-4A73-B45C-1A9E6314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5F6-3708-4256-BA1F-716CFB45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A15-B1D8-477F-A8CC-E68B419A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F44-47BF-4484-A68A-12FC496F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3789-7DD2-4B8B-9118-924B667B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546B-DA80-42B3-A4D5-8F94C934BA1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3431-0446-4266-B56D-35CE5EE1266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ffff"/>
                </a:solidFill>
                <a:latin typeface="Times New Roman"/>
              </a:rPr>
              <a:t>Fuentes del Derecho Internacional Públic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60000" y="42552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entre normas jurídicas inter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144440"/>
            <a:ext cx="810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hay jerarquía entre tratados y costum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xisten principios que se deben aplicar en caso de conflictos entre normas jurídicas internaciona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º Normas de IUS COGENS: Normas Imperativas de Dº Internacional General (ver artículo 53 convención de Viena sobre Dº de los Tratados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º no tratándose de normas de Ius Cogens se acude a los siguientes princip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.- Ley Especial Deroga a la Ley Gene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.- Ley Posterior Deroga a la Ley Anteri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* Tratados y Costumbres pueden derogarse recípro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ffff"/>
                </a:solidFill>
                <a:latin typeface="Times New Roman"/>
              </a:rPr>
              <a:t>Generalidades.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3480" y="1447920"/>
            <a:ext cx="7940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de los cuales emanan los principios y normas d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MATERI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históricos, políticos, económicos, sociales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ológicos y otros que han ido determinand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ido de las normas del 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FORM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Procedimientos, medios, o actos a través de los cuales s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n, modifican, o extinguen las normas del D.I.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AS FUENTES FORM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7160" y="669960"/>
            <a:ext cx="8016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EN EL AMBITO INTERN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Las normas l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 el Poder Legislativo en su sistem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cion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EN EL AMBITO DE LA COMUNIDAD INTERNACIONAL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Dado su carácter desentralizado no hay un poder legislativ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CLASIFICACION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CONVENCIONAL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RATADOS)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EXPONTANE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STUMBRE Y PRINCIPIOS GENERAL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 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FUENTES AUTORIT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ON UNA EXEPC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que distinguir:  LA FUENTE (Procedimiento por el cual se crea la norm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  LA NORMA MISMA ( Substancia de la reg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da).  Asi los TRATADOS da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en a las NORMAS CONVENCIONALES, y la COSTUMBRE, a las NORM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UETUDINAR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LASIFICACION DE LAS NORMAS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50840" y="1905120"/>
            <a:ext cx="8093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DE CARACTER GENERAL ,ABSTRACTO Y PERMAN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todas las situaciones concretas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an presentarse en el futuro. (Normas Consuetudin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es, ejemplo responsabilidad internacional por h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ícito, y principios generales de derecho).  Hay también normas convencionales de carácter general y abstracto, ejemplo 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ción de ONU  sobre el Derecho del Mar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DE CARACTER PARTICUL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situaciones determinadas, ejempl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 de Paz y Amistad de Chile y Argent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ANALISIS DEL ARTICULO 38 DE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ESTATUTO DE  LA CORTE INTERNACIONAL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DE 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JUSTICI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3080" y="1557360"/>
            <a:ext cx="8250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o actualmente vigente, tomado del estatuto de la corte permanente d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 internacional de 1920, que, aunque no lo dice expresamente s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iere a fuentes formales de derecho internacional Públic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exto del artículo 38 es el sigui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1.- LaCorte cuya función es decidir conforme a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las controversias que le sean sometidas, deberá aplic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Convenciones Internacionales, sean generales 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ula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cen reglas expresamente reconocidas por l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dos litig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La Costumbre internacional como prueba de una practica ge-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almente aceptada como derech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50840" y="1233360"/>
            <a:ext cx="8093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  Los principios generales de derecho reconocidos por l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es Civilizadas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- Las Deciciones Judiciales y las Doctrinas de los publicistas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or competencia de las distintas naciones, como medi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xiliar para la determinación de las reglas de derecho si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juicio de lo dispuesto en el arti. 59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La presente disposición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nge la facultad de la Corte par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ir un letigio ex aequo et bono, si las partes así lo convinier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ACTERISTIC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parrafo 1º del art. 38 , nos revela que se esta refiriendo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ntes de D.I.P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IMPORTANCI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762120"/>
            <a:ext cx="7924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universalidad, porque es norma vigente para los 191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dos miembro de la ONU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s la unica norma vigente sobre esta materia, además se alude a ella en la Convención del Derecho del Mar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Y es aplicada por Tribunales y Tratadista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ctos que comprende 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verdaderas fuentes formales (Tratados, costumbre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 generales del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.- los medios auxiliares para la determinación de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Jurisprudencia y Doctrina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c.-- La opción de solicitar se falle e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quidad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Parrafo   2º del art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)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nque la mayoria opina que la equidad no es una fuente  de D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RITIC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19320"/>
            <a:ext cx="775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No incluye todas las fuentes de DIP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No contempl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rqui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fuent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ARA NOSOTROS   ES MAS UNA VIRTUD QUE UN DEFECT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3.- Coloca en un mismo parrafos fuentes y medios auxiliares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4.- Parece dar la misma importancia a doctrin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.;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tante el destacado papel de esta últim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5.- Emplea una expresión ya superada como es Naciones Civilizada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83480" y="49212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DE LAS FU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155412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l artículo 38 del Estatuto se abstuvo de establecer una jerarquía entre las Fuentes formales princip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) En el proyecto de la convención se establecía que la aplicación de estas fuentes había de hacerse “por orden suscesivo”, la Asamblea General decidío suprimir dicho inciso por considerarlo inneces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) Usa letras para designar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) Solo establece un orden sucesivo de consideración (es un método operativo, no indica jerarquía, el tribunal puede aplicar varias fuentes en un mismo cas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23:54:51Z</dcterms:created>
  <dc:creator>Héctor Escobar</dc:creator>
  <dc:description/>
  <dc:language>en-US</dc:language>
  <cp:lastModifiedBy>Andres</cp:lastModifiedBy>
  <dcterms:modified xsi:type="dcterms:W3CDTF">2005-07-07T20:30:17Z</dcterms:modified>
  <cp:revision>16</cp:revision>
  <dc:subject/>
  <dc:title>Fuentes del Derecho Internacional Público</dc:title>
</cp:coreProperties>
</file>