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47D41-608F-4086-AE32-2A85322CC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E1A83-C1A4-459D-9055-6BE28A0A1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BE799-1424-4C34-8647-64B82510A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53E91-CF0A-4E09-BAA9-74C148F43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231BAF-904A-4748-8F8D-32DC1721DE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3782E-5604-4A51-B934-990919B92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DD1BD-1477-48C4-9468-A8F845C33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EFAA2-E760-4E16-A48F-12D0C6418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FD16B-0119-48A1-8E20-4B3C24FEF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257C2-9E9F-4ABD-AFC1-5AE44D326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B14B4-DA05-4023-9E4E-5A1CF74EC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23FA4-56AB-46E7-BD26-FC70438AE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B7292-AF1A-4672-AC78-1DD9C82D9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221AF-E018-461A-89BD-D489A0CE8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0522A-82E8-471E-9306-F51C668B1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4A2528-EBA0-44F1-A4B2-63AA25162C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E5EF51-43F0-4872-B499-CCB7B43A1B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2664D-0DA1-4BD9-A3C4-734658607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E5767-D025-4BAE-814F-D1CB594C5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F3152-9D09-4530-B88E-9D2031585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08B65-B216-4FE0-92ED-68271C009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6212D-FA6D-4C68-9CD6-980DA9A74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93E21-DE0A-4EDC-8207-0B149A4E7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ED5B1-68C1-4989-8BA2-3F750C7A7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4404-2A05-4AA7-AE0F-C42CE58C8DB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EBB7-2BD0-4E20-B95A-2AEEA6529F3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Arial"/>
              </a:rPr>
              <a:t>INTERPRETACION DE LOS TRATADOS</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nvención de Viena Dº de los tratados. (ONU 196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sentido especi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rtículo 31, N° 4:</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Se dará a un término un sentido especial si consta que tal fue la intención de las par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sentido técnico o especial es  puesto en evidencia, a menudo, por el contex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 regla se formuló para subrayar que la carga de la prueba pertenece a la parte que ha invocado el sentido especial del térmi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P.J.I.: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lang="es-MX" sz="2800" spc="-1" strike="noStrike">
                <a:solidFill>
                  <a:srgbClr val="ffffff"/>
                </a:solidFill>
                <a:latin typeface="Arial"/>
              </a:rPr>
              <a:t>El sentido geográfico del término Groenlandia, es decir, la denominación que es generalmente empleada en las cartas para indicar la isla completa, debe ser considerada como la acepción usual de este término. Si una de las partes alega que un sentido inusitado, excepcional, le debe ser dado, es esa parte la que debe proporcionar el fundamento de su afirmación.” ( Sentencia de 5 de abril de 193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I.J.:</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Para admitir una interpretación distinta a aquella que indica el sentido natural de los términos, se requeriría una razón decisiva, lo que no ha sido probado” ( Opinión consultiva de 28 de mayo de 194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OBJETO Y FIN DEL TRATA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Objeto: Lo que las partes han hecho, las normas que han creado, los derechos y obligaciones que de ellas emana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in: Lo que las partes se proponen alcanz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 El CONTEX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contexto es el texto en su totalidad, preámbulo y anexos incluídos  y, además, algunos acuerdos e instrumentos que deban cumplir ciertos requisi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1. El tex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 Convención indica que es necesario examinar primero todo el texto del tratado incluyendo el preámbulo y anexos, para dar sentido a la disposición del tratado, a las palabras que componen una determinada disposi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tratado es un to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No es posible circunscribirse a una línea, a un artículo, a una sección, a un capítulo o parte si se desea establecer con la mayor certidumbre posible el sentido de un trat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C.P.J.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lang="es-MX" sz="2800" spc="-1" strike="noStrike">
                <a:solidFill>
                  <a:srgbClr val="ffffff"/>
                </a:solidFill>
                <a:latin typeface="Arial"/>
              </a:rPr>
              <a:t>...Es evidente que el tratado debe examinarse como un todo, y que su sentido no debe determinarse únicamente en relación con determinadas frases que, si se separan del contexto, pueden interpretarse en más de un sentido” . (Opinión Consultiva de 12 de agosto de 1919).</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2 El preámbul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arte integrante del trata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uele enunciar el objeto y fin del trat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Arial"/>
              </a:rPr>
              <a:t>DERECHO DE LOS TRATADOS</a:t>
            </a:r>
            <a:endParaRPr b="0" lang="en-US" sz="36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Convención de Viena de 1969 contiene tres artículos relativos a la  interpretación de los tratado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 El relativo  la Regla general de interpretación, (art. 31)</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El que se refiere a los medios complementarios de interpretación.(art.32)</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3) El relativo a  la interpretación de tratados autenticados en dos o más idiom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3 Los anex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orman parte del trata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u papel está limitado a los problemas que suscite la interpretación de aquella parte del tratado con la cual el anexo está relacion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4 Acuerdos e instrumento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ueden constar en un instrumento único o en varios, pueden referirse a una parte del tratado o a su totalida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uede tratarse de un instrumento que las partes elaboren con posterioridad a la conclusión del tratado para aclarar los puntos que plantearon dificultades durante las negociacio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stos acuerdos e instrumentos  debe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Tener una relación con el tratado: referirse a  la materia sobre la cual versa el tratado, aclarar algunas de las nociones contenidas en éste, o limitar su campo de acció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aberse formulado con motivo de la celebración del tratado, esto es ser contemporáneos a éste ( coetáneos a la celebración del tratado, anteriores o posteriores, pero próximo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3. ACUERDOS ULTERIOR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uerdo ulterior entre las partes relativo a la interpretación del tratado.</a:t>
            </a:r>
            <a:r>
              <a:rPr b="0" lang="es-MX" sz="2800" spc="-1" strike="noStrike">
                <a:solidFill>
                  <a:srgbClr val="ffffff"/>
                </a:solidFill>
                <a:latin typeface="Wingdings"/>
                <a:ea typeface="Wingdings"/>
              </a:rPr>
              <a:t></a:t>
            </a:r>
            <a:r>
              <a:rPr b="0" lang="es-MX" sz="2800" spc="-1" strike="noStrike">
                <a:solidFill>
                  <a:srgbClr val="ffffff"/>
                </a:solidFill>
                <a:latin typeface="Arial"/>
              </a:rPr>
              <a:t>Las partes celebran nuevo acuerdo relativo a la interpretación de una o más disposiciones cuya aplicación ha planteado dificultad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uerdo que emana de la práctica ulterior de las partes</a:t>
            </a:r>
            <a:r>
              <a:rPr b="0" lang="es-MX" sz="2800" spc="-1" strike="noStrike">
                <a:solidFill>
                  <a:srgbClr val="ffffff"/>
                </a:solidFill>
                <a:latin typeface="Wingdings"/>
                <a:ea typeface="Wingdings"/>
              </a:rPr>
              <a:t></a:t>
            </a:r>
            <a:r>
              <a:rPr b="0" lang="es-MX" sz="2800" spc="-1" strike="noStrike">
                <a:solidFill>
                  <a:srgbClr val="ffffff"/>
                </a:solidFill>
                <a:latin typeface="Arial"/>
              </a:rPr>
              <a:t>El comportamiento de las partes revela el sentido y alcance de las disposiciones del tra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El derecho en vigor en el momento de celebración del tratado o en el momento de interpretar el tratado?</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roblema no abordado por la Convención de Viena</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be aplicarse el derecho internacional general, lo que conduce a considerar:</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 El surgimiento de una norma de ius cogens-</a:t>
            </a:r>
            <a:r>
              <a:rPr b="0" lang="es-MX" sz="2800" spc="-1" strike="noStrike">
                <a:solidFill>
                  <a:srgbClr val="ffffff"/>
                </a:solidFill>
                <a:latin typeface="Wingdings"/>
                <a:ea typeface="Wingdings"/>
              </a:rPr>
              <a:t></a:t>
            </a:r>
            <a:r>
              <a:rPr b="0" lang="es-MX" sz="2800" spc="-1" strike="noStrike">
                <a:solidFill>
                  <a:srgbClr val="ffffff"/>
                </a:solidFill>
                <a:latin typeface="Arial"/>
              </a:rPr>
              <a:t> El tratado se convierte en nulo y termin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B)La libertad de los Estados en materia de tratad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uera del ámbito de las normas de ius cogens, es la voluntad de las partes la que prevale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Todo depende de lo que el tratado prevea, de lo que las partes quier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sí hay categorías de tratados cuyo fin es establecer una solución estable y que son refractarios a todo cambio: los tratados que establecen frontera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Hay tratados cuya naturaleza se presta a una interpretación evolutiva: los tratados de codificación y de desarrollo progresivo del derecho internacion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s el caso de disposiciones que contienen nociones evolutivas tales como el orden público o las buenas costumb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I. </a:t>
            </a:r>
            <a:r>
              <a:rPr b="0" lang="es-MX" sz="3200" spc="-1" strike="noStrike" u="sng">
                <a:solidFill>
                  <a:srgbClr val="ffffff"/>
                </a:solidFill>
                <a:uFillTx/>
                <a:latin typeface="Arial"/>
              </a:rPr>
              <a:t>LA SEGUNDA FASE DE LA INTERPRETACION: LOS MEDIOS COMPLEMENTARI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i el sentido al que se llega mediante la aplicación de la regla general no es posible recurrir a los medios complementari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o se trata de una claridad aparente sino que de una claridad real.</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o se trata de una claridad prima facie sino de una claridad que resulta de la aplicación de la regla general de interpretació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 Visscher: “ un lenguaje claro no es siempre garante de la claridad de las ide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I. </a:t>
            </a:r>
            <a:r>
              <a:rPr b="0" lang="es-MX" sz="2800" spc="-1" strike="noStrike" u="sng">
                <a:solidFill>
                  <a:srgbClr val="ffffff"/>
                </a:solidFill>
                <a:uFillTx/>
                <a:latin typeface="Arial"/>
              </a:rPr>
              <a:t>PRIMERA FASE DE LA INTERPRETACION: APLICACIÓN DE  LA REGLA GENERAL DE INTERPRETACIÓ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l Art.31 señala:</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lang="es-MX" sz="2800" spc="-1" strike="noStrike">
                <a:solidFill>
                  <a:srgbClr val="ffffff"/>
                </a:solidFill>
                <a:latin typeface="Arial"/>
              </a:rPr>
              <a:t>1. Un tratado deberá interpretarse de buena fe conforme al sentido corriente que haya de atribuirse a los términos del tratado en el contexto de éstos y teniendo en cuenta su objeto y f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 </a:t>
            </a: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 Los trabajos preparatorio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ocumentos que dan cuenta del proceso de elaboración del tratado: la correspondencia intercambiada, notas, memorandums, actas de las sesion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 Las circunstancias de celebración del tratado</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e trata del marco histórico que forma el conjunto de acontecimientos que condujeron a las partes a la celebración del tra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nvención de Viena. ART. 33</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nsagra la idea de que los tratados autenticados en dos o más idiomas son igualmente auténticos, salvo que las partes acuerden que en caso de divergencia prevalecerá un texto determin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 Para los efectos de la interpretación de un tratado, el contexto comprenderá, además del texto, incluídos su préambulo y anexo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 todo acuerdo que se refiere al tratado y haya sido concertado entre todas las partes con motivo de la celebración del tratado</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 todo instrumento formulado por una o más partes con motivo de la celebración del tratado y aceptado por las demás como instrumento referente al tra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3. Junto con el contexto, habrá de tenerse en cuenta:</a:t>
            </a:r>
            <a:endParaRPr b="0" lang="en-US" sz="2800" spc="-1" strike="noStrike">
              <a:solidFill>
                <a:srgbClr val="ffffff"/>
              </a:solidFill>
              <a:latin typeface="Arial"/>
            </a:endParaRPr>
          </a:p>
          <a:p>
            <a:pPr marL="325800" indent="-3258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 todo acuerdo ulterior entre las partes acerca de la interpretación del tratado o de la aplicación de sus disposiciones;</a:t>
            </a:r>
            <a:endParaRPr b="0" lang="en-US" sz="2800" spc="-1" strike="noStrike">
              <a:solidFill>
                <a:srgbClr val="ffffff"/>
              </a:solidFill>
              <a:latin typeface="Arial"/>
            </a:endParaRPr>
          </a:p>
          <a:p>
            <a:pPr marL="325800" indent="-3258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 toda práctica ulteriormente seguida en la aplicación del tratado por la cual conste el acuerdo de las partes acerca de la interpretación del tratado</a:t>
            </a:r>
            <a:endParaRPr b="0" lang="en-US" sz="2800" spc="-1" strike="noStrike">
              <a:solidFill>
                <a:srgbClr val="ffffff"/>
              </a:solidFill>
              <a:latin typeface="Arial"/>
            </a:endParaRPr>
          </a:p>
          <a:p>
            <a:pPr marL="325800" indent="-3258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 toda norma pertinente de derecho internacional aplicable en las relaciones entre las pa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4. Se dará a un término un sentido especial si consta que tal fue la intención de las par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 regla general de interpretación indica que el texto del tratado constituye el punto de partida de la actividad interpretativ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Sin embargo, no debe entenderse que consagra una interpretación meramente lite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1.2 EL SENTIDO CORRIENTE Y EL SENTIDO ESPECIAL</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conforme al sentido corriente que haya de atribuirse a los términos del tratado“</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Convención de Viena no se ha referido a un sentido corriente “ abstracto” sino que a un sentido corriente “ concre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entido corriente de la época de conclusión del tratado.</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I.J: “ Es necesario considerar igualmente el hecho de que en la época en que éstos dos tratados fueron concluídos, la distinción entre los asuntos civiles y los asuntos criminales no había sido aún efectuada en Marruecos. Es la razón por la cual es necesario interpretar el término controversia tal como éste figura en el artículo 20, como incluyendo tanto los asuntos civiles como los criminales” (Sentencia de 27 de Agosto de 195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23:03:49Z</dcterms:created>
  <dc:creator>Instituto Estudios Internacionales</dc:creator>
  <dc:description/>
  <dc:language>en-US</dc:language>
  <cp:lastModifiedBy>Rectoria</cp:lastModifiedBy>
  <dcterms:modified xsi:type="dcterms:W3CDTF">2008-03-31T22:41:06Z</dcterms:modified>
  <cp:revision>20</cp:revision>
  <dc:subject/>
  <dc:title>INTERPRETACION DE LOS TRATADOS INTERNACIONALES POR LOS TRIBUNALES INTERNOS</dc:title>
</cp:coreProperties>
</file>