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C245-04AE-4B93-A151-A3AF4818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A801-538F-487B-A180-0FE2B1BB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3DE51-9B4D-490E-A278-1BF08CEF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AEFDA-A57A-4DB3-8F0E-A7363064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8A5A-C695-4F0D-84E2-95DBFB23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85AD-E342-4242-90C8-076B7505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88D5-6E4E-4987-A648-DE162791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45FA-7AA0-4711-B15D-8C83F4DA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A846-69D4-402F-A089-FEDBD89A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897A-16DE-4047-B669-AB577C76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667B-7093-4211-B09B-9758F6AC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67416-5118-474E-9E95-D6F89AE2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1CC9-F056-4DFF-9B41-721B926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461E-88CF-4305-A5E5-8C59D243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CF7E-01FA-437A-B874-B4FE8AC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6079-442F-466C-8F12-A649773B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15E7-9CCB-4E5B-A492-53B67384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AB5D-4694-4752-AA65-B0357DC5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2099-1584-48BB-BAA7-06537935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ED12-C479-49DB-B77C-BDD27155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E0F5F-4D01-48F1-B8BD-BA086DB7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BB3C-74CA-42A3-84F1-C29199AB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9CD9-3EDA-45F7-8AB4-75083038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0D85-C474-4837-8985-02C3E299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5922-AB97-4421-8D75-1C40653FEC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D2BB-6132-41D1-B3C3-9677260616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ffcc00"/>
                </a:solidFill>
                <a:latin typeface="Times New Roman"/>
              </a:rPr>
              <a:t>TRATADOS INTERNACIONALES (continuación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Garamond"/>
              </a:rPr>
              <a:t>Profesora Jeannette Irigoin Barren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Garamond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565360"/>
            <a:ext cx="410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12477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LOS EFECTOS DE LOS TRATADOS  RESPECTO DE TERCERO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LA PREVISI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N CONVENCIONAL DE DERECHOS Y OBLIGACIONE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1. Tratados que prevén obligacione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2. Tratados que prevén derecho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cc"/>
                </a:solidFill>
                <a:latin typeface="Times New Roman"/>
              </a:rPr>
              <a:t>B.- </a:t>
            </a:r>
            <a:r>
              <a:rPr b="0" i="1" lang="es-ES" sz="3600" spc="-1" strike="noStrike">
                <a:solidFill>
                  <a:srgbClr val="ffffcc"/>
                </a:solidFill>
                <a:latin typeface="Times New Roman"/>
              </a:rPr>
              <a:t>LOS EFECTOS DE LOS TRATADOS  RESPECTO DE TERCERO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LA SUCESI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N DE ESTA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1. La relación suceso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2. Consecuencias de la relación sucesoria en materia de trat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3. El régimen de los distintos tipos de suces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) La sucesión en los tratados constitutivos de regímenes territoriales objetiv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i) La sucesión en los demás  tratados celebrados p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r Estados surgidos de la desc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olonizac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ón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ONDICIONES DE VALIDE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quisitos del acto jurídico y los trata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1. Capacidad de las par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2. Consentimiento exento de vic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3. Objeto líc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gulación. Convención de Viena, Parte V: “Nulidad, terminación y suspensión de la aplicación de los tratado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a diferencia entre los contratos y los tratados deriva de la influencia de la técnica anglosajona sobre los últim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CAUSALES DE NULIDAD RELATIV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ndiciones formales de valide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Violación del derecho interno concerniente a la competencia para celebrar tratados (art. 46 C. de Vien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Inobservancia de una restricción específica de los poderes para manifestar consentimiento del Estado (art. 47 C. de Vien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cios del consentimien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Err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Dol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. La corrupción del representante del Esta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CAUSALES DE NULIDAD ABSOLUT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oacción sobre el representante de un Estado (art. 51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oacción sobre un Estado por amenaza o uso de la fuerza (art. 52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Oposición a normas de Jus Cogens (arts. 53 y 64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TERMIN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ausales intrínsecas (provenientes del propio tratad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1. Cumplimiento del plaz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2. Cumplimiento de la condición resolutor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3. Denunc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TERMIN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Causales extrínsecas (provenientes del derecho  internacional gener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1. Mutuo consentimiento (abrogació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2. Celebrar un tratado posterior sobre la misma ma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3. Violación del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4. Imposibilidad subsiguiente de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5. Cambio fundamental de las circunstanci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6. Jus Cogens emerg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SUSPE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Como alternativa a la terminac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1. Por violación grave del trat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2. Por un cambio fundamental de las circunstancias: Rebus sic stantib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SUSPE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uspensión (por sí mism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1. Por disposición del propio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2. Por Acuerdo de las par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3. Por acuerdo de algunas partes (tratado multilateral) no incompatible con el objeto y fin del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4. Por la adopción posterior de un tratado sobre la misma ma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5. Por la imposibilidad temporal de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LA EXPRESI</a:t>
            </a:r>
            <a:r>
              <a:rPr b="0" i="1" lang="es-MX" sz="3000" spc="-1" strike="noStrike">
                <a:solidFill>
                  <a:srgbClr val="ffffcc"/>
                </a:solidFill>
                <a:latin typeface="Times New Roman"/>
              </a:rPr>
              <a:t>Ó</a:t>
            </a: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N DEL CONSENTIMIEN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752480"/>
            <a:ext cx="802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LA ADHES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, PECULIAR DE LOS TRATADOS MULTILATERAL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: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Es una forma de manifestación del consentimiento que permite 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llegar a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ser parte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e un tratado a sujetos no signatarios del mism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GEN: Fue concebida como un procedimiento que permitía acceder a la condición de parte en un tratado en vigor a un Estado que no había participado en su negociación y al que, por lo tanto, no le había sido  posible la firma y la posterior ratificació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cc"/>
                </a:solidFill>
                <a:latin typeface="Times New Roman"/>
              </a:rPr>
              <a:t>LA EXPRESI</a:t>
            </a:r>
            <a:r>
              <a:rPr b="1" i="1" lang="es-MX" sz="4000" spc="-1" strike="noStrike">
                <a:solidFill>
                  <a:srgbClr val="ffffcc"/>
                </a:solidFill>
                <a:latin typeface="Times New Roman"/>
              </a:rPr>
              <a:t>Ó</a:t>
            </a:r>
            <a:r>
              <a:rPr b="1" i="1" lang="es-ES" sz="4000" spc="-1" strike="noStrike">
                <a:solidFill>
                  <a:srgbClr val="ffffcc"/>
                </a:solidFill>
                <a:latin typeface="Times New Roman"/>
              </a:rPr>
              <a:t>N DEL CONSENTIMIEN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FINALIDAD: Estas iniciativas persiguen la eliminación  de reglas restrictivas de acceso a la condición de parte y la más rápida entrada en vigor de los tratados multilaterales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LAS RESERVAS A LOS TRATAD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N: “ Declaración unilateral, cualquiera que sea su enunciado o denominación, hecha por un Estado al firmar, ratificar, aceptar o apr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bar un tratado o al adherirse a él, con objeto de exccluir o modificar los efectos jurídicos de ciertas disposiciones del tratado en su aplicación a ese Estado” 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( Art. 2.1. d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 de la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C. de Viena). Sólo rige para los tratados multilaterale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LAS RESERV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OBJETIVO: Permitir la mayor participación posible y una mayor efectividad del tra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1. Principio 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de 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integridad del tratado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2. Principio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 de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universalidad del tra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Times New Roman"/>
              </a:rPr>
              <a:t>LAS  </a:t>
            </a: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 RESERVA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i="1" lang="es-MX" sz="2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GIMEN DE LAS RESERVA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1. Reservas no previstas por el tratado: El criterio de la compatibilidad con el objeto y fin del tratad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2. Reservas previstas por el tratad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3. Efectos juríd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A) Entre el reservante y el aceptante: Las disposiciones del tratado se modifican en la medid</a:t>
            </a:r>
            <a:r>
              <a:rPr b="1" i="1" lang="es-MX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prevista por la reserv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B) Entre el reservante y el objetante: Es necesario distinguir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i) El objetante no ha expresado inequívocamente la intención de que el tratado no entre en vigor entre él y el Estado reservante: El tratado entra en vigor entre reservante y objetante viéndose modificadas las disposiciones del tratado en la medida de la reserv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ii) El objetante ha expresado inequívocamente la intención de que el tratado no entre en vigor entre él y el Estado reservante: Debe entenderse que no hay tratado entre ambos Estados.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EFECTOS DE LOS TRATAD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FECTOS DE LOS TRATADOS ENTRE LAS PAR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FECTOS DE LOS TRATADOS 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RESPECTO DE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TERCE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Times New Roman"/>
              </a:rPr>
              <a:t>EFECTOS DE LOS TRATADOS ENTRE LAS PARTES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OBLIGATORIEDAD Y APLICABILIDAD DE LOS TRATADOS EN EL ORDEN INTERNACIONAL.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1. Entrada en vigor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2. Regla de Pacta Sunt Servanda. (cumple lo pactado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OBLIGATORIEDAD Y APLICABILIDAD DE LOS TRATADOS EN EL ORDEN INTERN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1. Recep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2. Publica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3. Medidas legales y reglamentarias para la ejecu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4. Ejecución de los tratados en los Estados de estructura compleja</a:t>
            </a:r>
            <a:r>
              <a:rPr b="0" i="1" lang="es-MX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EFECTOS DE LOS TRATADOS ENTRE LAS PARTES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PROBLEMAS GENERALES DE LA APLICACIÓN DE LOS TRATAD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1. Delimitación espacial y temporal de los tratad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2. Determinación del contenido de los tratados. La cláusula de la nación más favorecid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LA INTERPRETAC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 DE LOS TRATAD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1. Regla general de interpretación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2. Medios complementarios: los trabajos preparatorio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6:46:42Z</dcterms:created>
  <dc:creator>MunhRa</dc:creator>
  <dc:description/>
  <dc:language>en-US</dc:language>
  <cp:lastModifiedBy>GPO.DE TELEC. ESTRATEGICAS</cp:lastModifiedBy>
  <dcterms:modified xsi:type="dcterms:W3CDTF">2008-03-31T15:34:39Z</dcterms:modified>
  <cp:revision>33</cp:revision>
  <dc:subject/>
  <dc:title>L   </dc:title>
</cp:coreProperties>
</file>