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4C526-D51D-4145-9159-88988F603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1D1F6-A84D-45EF-8C6A-33B9E9E7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A0ACE-1D81-47EC-AA4F-8D7A54D57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06682-AF6B-4FB0-821A-0F728B7EB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B2EA-A85C-40C6-AB8B-28CDF5200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F8CE-FDEE-4485-9FAF-B58ED766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EBE6-E13B-4C0C-980D-DD78EAD1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BA686-5B13-4E8F-B9CE-F56BF60C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11E3-3B81-4DA7-9FBD-0EB73AA9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D9C4-F9F5-4881-9794-51384ACB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0EFB-49D3-4729-AB6B-54DE2D73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678BD-5961-4499-BFC3-33A935D4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8B5C-462F-4AF5-9487-264514BC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0E19-D5C1-40D0-AB14-BEE20F13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1C04-CEA1-4873-AFC2-4F53A311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AD4B-F7D5-40E5-9E35-8776AFDAF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7DB32-F56B-4689-B9EE-8C1B9F5BB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2E800-6FAA-483F-86BF-C59A2F08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34046-B971-471F-AF82-06E1398C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47E0B-4A45-4F28-AC4B-59AD0F32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41F4B-0D36-4D70-9DD7-0E583C1F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4720B-C741-4C20-9405-53025734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9C40C-F6C9-4BA6-80E4-EC140D5F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D1743-BB02-46EC-858D-07A88486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0240-56DB-49BB-9EFD-D986718F86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D733-7F4B-4207-90B4-C43484BDD1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000" spc="-1" strike="noStrike">
                <a:solidFill>
                  <a:srgbClr val="ffcc00"/>
                </a:solidFill>
                <a:latin typeface="Times New Roman"/>
              </a:rPr>
              <a:t>TRATADOS INTERNACIONALES (continuación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54764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Garamond"/>
              </a:rPr>
              <a:t>Profesora Jeannette Irigoin Barren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Garamond"/>
              </a:rPr>
              <a:t>Universidad de Chi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"/>
          <p:cNvSpPr/>
          <p:nvPr/>
        </p:nvSpPr>
        <p:spPr>
          <a:xfrm>
            <a:off x="2195640" y="2565360"/>
            <a:ext cx="4105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067280" y="333360"/>
            <a:ext cx="1247760" cy="13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cc"/>
                </a:solidFill>
                <a:latin typeface="Times New Roman"/>
              </a:rPr>
              <a:t>LOS EFECTOS DE LOS TRATADOS  RESPECTO DE TERCERO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LA PREVISI</a:t>
            </a:r>
            <a:r>
              <a:rPr b="1" i="1" lang="es-MX" sz="3000" spc="-1" strike="noStrike">
                <a:solidFill>
                  <a:srgbClr val="ffffff"/>
                </a:solidFill>
                <a:latin typeface="Times New Roman"/>
              </a:rPr>
              <a:t>Ó</a:t>
            </a: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N CONVENCIONAL DE DERECHOS Y OBLIGACIONES PARA TERCERO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1. Tratados que prevén obligaciones para tercero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2. Tratados que prevén derechos para tercero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ffffcc"/>
                </a:solidFill>
                <a:latin typeface="Times New Roman"/>
              </a:rPr>
              <a:t>B.- </a:t>
            </a:r>
            <a:r>
              <a:rPr b="0" i="1" lang="es-ES" sz="3600" spc="-1" strike="noStrike">
                <a:solidFill>
                  <a:srgbClr val="ffffcc"/>
                </a:solidFill>
                <a:latin typeface="Times New Roman"/>
              </a:rPr>
              <a:t>LOS EFECTOS DE LOS TRATADOS  RESPECTO DE TERCERO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LA SUCESI</a:t>
            </a:r>
            <a:r>
              <a:rPr b="1" i="1" lang="es-MX" sz="2800" spc="-1" strike="noStrike">
                <a:solidFill>
                  <a:srgbClr val="ffffff"/>
                </a:solidFill>
                <a:latin typeface="Times New Roman"/>
              </a:rPr>
              <a:t>Ó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N DE ESTAD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1. La relación sucesori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2. Consecuencias de la relación sucesoria en materia de tratad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3. El régimen de los distintos tipos de suces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i) La sucesión en los tratados constitutivos de regímenes territoriales objetiv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ii) La sucesión en los demás  tratados celebrados p</a:t>
            </a:r>
            <a:r>
              <a:rPr b="1" i="1" lang="es-MX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r Estados surgidos de la desc</a:t>
            </a:r>
            <a:r>
              <a:rPr b="1" i="1" lang="es-MX" sz="2800" spc="-1" strike="noStrike">
                <a:solidFill>
                  <a:srgbClr val="ffffff"/>
                </a:solidFill>
                <a:latin typeface="Times New Roman"/>
              </a:rPr>
              <a:t>olonizac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ión</a:t>
            </a:r>
            <a:r>
              <a:rPr b="1" i="1" lang="es-MX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ONDICIONES DE VALIDEZ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Requisitos del acto jurídico y los tratad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1. Capacidad de las par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2. Consentimiento exento de vici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3. Objeto lícit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Regulación. Convención de Viena, Parte V: “Nulidad, terminación y suspensión de la aplicación de los tratados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La diferencia entre los contratos y los tratados deriva de la influencia de la técnica anglosajona sobre los últim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imes New Roman"/>
              </a:rPr>
              <a:t>CAUSALES DE NULIDAD RELATIV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Condiciones formales de validez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1. Violación del derecho interno concerniente a la competencia para celebrar tratados (art. 46 C. de Vien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2. Inobservancia de una restricción específica de los poderes para manifestar consentimiento del Estado (art. 47 C. de Vien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cios del consentimient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1. Erro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2. Dol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3. La corrupción del representante del Estad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imes New Roman"/>
              </a:rPr>
              <a:t>CAUSALES DE NULIDAD ABSOLUT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Coacción sobre el representante de un Estado (art. 51 C. De Vien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Coacción sobre un Estado por amenaza o uso de la fuerza (art. 52 C. De Vien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Oposición a normas de Jus Cogens (arts. 53 y 64 C. De Vien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AUSALES DE TERMINACIÓ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Causales intrínsecas (provenientes del propio tratad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1. Cumplimiento del plaz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2. Cumplimiento de la condición resolutori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3. Denunci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AUSALES DE TERMINACIÓ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Causales extrínsecas (provenientes del derecho  internacional general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1. Mutuo consentimiento (abrogación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2. Celebrar un tratado posterior sobre la misma mater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3. Violación del tratad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4. Imposibilidad subsiguiente de cumplimient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5. Cambio fundamental de las circunstanci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6. Jus Cogens emergen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AUSALES DE SUSPENSIÓ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Times New Roman"/>
              </a:rPr>
              <a:t>Como alternativa a la terminac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3600" spc="-1" strike="noStrike">
                <a:solidFill>
                  <a:srgbClr val="ffffff"/>
                </a:solidFill>
                <a:latin typeface="Times New Roman"/>
              </a:rPr>
              <a:t>1. Por violación grave del trat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3600" spc="-1" strike="noStrike">
                <a:solidFill>
                  <a:srgbClr val="ffffff"/>
                </a:solidFill>
                <a:latin typeface="Times New Roman"/>
              </a:rPr>
              <a:t>2. Por un cambio fundamental de las circunstancias: Rebus sic stantibu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AUSALES DE SUSPENSIÓ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uspensión (por sí mism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1. Por disposición del propio tratad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2. Por Acuerdo de las par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3. Por acuerdo de algunas partes (tratado multilateral) no incompatible con el objeto y fin del tratad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4. Por la adopción posterior de un tratado sobre la misma mater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5. Por la imposibilidad temporal de cumplimient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>
                <a:solidFill>
                  <a:srgbClr val="ffffcc"/>
                </a:solidFill>
                <a:latin typeface="Times New Roman"/>
              </a:rPr>
              <a:t>LA EXPRESI</a:t>
            </a:r>
            <a:r>
              <a:rPr b="0" i="1" lang="es-MX" sz="3000" spc="-1" strike="noStrike">
                <a:solidFill>
                  <a:srgbClr val="ffffcc"/>
                </a:solidFill>
                <a:latin typeface="Times New Roman"/>
              </a:rPr>
              <a:t>Ó</a:t>
            </a:r>
            <a:r>
              <a:rPr b="0" i="1" lang="es-ES" sz="3000" spc="-1" strike="noStrike">
                <a:solidFill>
                  <a:srgbClr val="ffffcc"/>
                </a:solidFill>
                <a:latin typeface="Times New Roman"/>
              </a:rPr>
              <a:t>N DEL CONSENTIMIENO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1752480"/>
            <a:ext cx="8028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LA ADHESI</a:t>
            </a:r>
            <a:r>
              <a:rPr b="1" i="1" lang="es-MX" sz="2600" spc="-1" strike="noStrike">
                <a:solidFill>
                  <a:srgbClr val="ffffff"/>
                </a:solidFill>
                <a:latin typeface="Times New Roman"/>
              </a:rPr>
              <a:t>Ó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N, PECULIAR DE LOS TRATADOS MULTILATERALE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DEFINICI</a:t>
            </a:r>
            <a:r>
              <a:rPr b="1" i="1" lang="es-MX" sz="2600" spc="-1" strike="noStrike">
                <a:solidFill>
                  <a:srgbClr val="ffffff"/>
                </a:solidFill>
                <a:latin typeface="Times New Roman"/>
              </a:rPr>
              <a:t>Ó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N:</a:t>
            </a:r>
            <a:r>
              <a:rPr b="1" i="1" lang="es-MX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Es una forma de manifestación del consentimiento que permite </a:t>
            </a:r>
            <a:r>
              <a:rPr b="1" i="1" lang="es-MX" sz="2600" spc="-1" strike="noStrike">
                <a:solidFill>
                  <a:srgbClr val="ffffff"/>
                </a:solidFill>
                <a:latin typeface="Times New Roman"/>
              </a:rPr>
              <a:t>llegar a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MX" sz="2600" spc="-1" strike="noStrike">
                <a:solidFill>
                  <a:srgbClr val="ffffff"/>
                </a:solidFill>
                <a:latin typeface="Times New Roman"/>
              </a:rPr>
              <a:t>ser parte 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de un tratado a sujetos no signatarios del mismo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OR</a:t>
            </a:r>
            <a:r>
              <a:rPr b="1" i="1" lang="es-MX" sz="2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GEN: Fue concebida como un procedimiento que permitía acceder a la condición de parte en un tratado en vigor a un Estado que no había participado en su negociación y al que, por lo tanto, no le había sido  posible la firma y la posterior ratificació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cc"/>
                </a:solidFill>
                <a:latin typeface="Times New Roman"/>
              </a:rPr>
              <a:t>LA EXPRESI</a:t>
            </a:r>
            <a:r>
              <a:rPr b="1" i="1" lang="es-MX" sz="4000" spc="-1" strike="noStrike">
                <a:solidFill>
                  <a:srgbClr val="ffffcc"/>
                </a:solidFill>
                <a:latin typeface="Times New Roman"/>
              </a:rPr>
              <a:t>Ó</a:t>
            </a:r>
            <a:r>
              <a:rPr b="1" i="1" lang="es-ES" sz="4000" spc="-1" strike="noStrike">
                <a:solidFill>
                  <a:srgbClr val="ffffcc"/>
                </a:solidFill>
                <a:latin typeface="Times New Roman"/>
              </a:rPr>
              <a:t>N DEL CONSENTIMIEN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1280" y="26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imes New Roman"/>
              </a:rPr>
              <a:t>FINALIDAD: Estas iniciativas persiguen la eliminación  de reglas restrictivas de acceso a la condición de parte y la más rápida entrada en vigor de los tratados multilaterales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i="1" lang="en-US" sz="4000" spc="-1" strike="noStrike">
                <a:solidFill>
                  <a:srgbClr val="ffffcc"/>
                </a:solidFill>
                <a:latin typeface="Times New Roman"/>
              </a:rPr>
              <a:t>LAS RESERVAS A LOS TRATADO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DEFINICI</a:t>
            </a:r>
            <a:r>
              <a:rPr b="1" i="1" lang="es-MX" sz="3000" spc="-1" strike="noStrike">
                <a:solidFill>
                  <a:srgbClr val="ffffff"/>
                </a:solidFill>
                <a:latin typeface="Times New Roman"/>
              </a:rPr>
              <a:t>Ó</a:t>
            </a: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N: “ Declaración unilateral, cualquiera que sea su enunciado o denominación, hecha por un Estado al firmar, ratificar, aceptar o apr</a:t>
            </a:r>
            <a:r>
              <a:rPr b="1" i="1" lang="es-MX" sz="3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bar un tratado o al adherirse a él, con objeto de exccluir o modificar los efectos jurídicos de ciertas disposiciones del tratado en su aplicación a ese Estado” </a:t>
            </a:r>
            <a:r>
              <a:rPr b="1" i="1" lang="es-MX" sz="3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( Art. 2.1. d</a:t>
            </a:r>
            <a:r>
              <a:rPr b="1" i="1" lang="es-MX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 de la</a:t>
            </a:r>
            <a:r>
              <a:rPr b="1" i="1" lang="es-MX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C. de Viena). Sólo rige para los tratados multilaterale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LAS RESERV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OBJETIVO: Permitir la mayor participación posible y una mayor efectividad del trata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1. Principio </a:t>
            </a:r>
            <a:r>
              <a:rPr b="1" i="1" lang="es-MX" sz="3200" spc="-1" strike="noStrike">
                <a:solidFill>
                  <a:srgbClr val="ffffff"/>
                </a:solidFill>
                <a:latin typeface="Times New Roman"/>
              </a:rPr>
              <a:t>de </a:t>
            </a: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integridad del tratado</a:t>
            </a:r>
            <a:r>
              <a:rPr b="1" i="1" lang="es-MX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2. Principio</a:t>
            </a:r>
            <a:r>
              <a:rPr b="1" i="1" lang="es-MX" sz="3200" spc="-1" strike="noStrike">
                <a:solidFill>
                  <a:srgbClr val="ffffff"/>
                </a:solidFill>
                <a:latin typeface="Times New Roman"/>
              </a:rPr>
              <a:t> de</a:t>
            </a: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 universalidad del trata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cc"/>
                </a:solidFill>
                <a:latin typeface="Times New Roman"/>
              </a:rPr>
              <a:t>LAS  </a:t>
            </a:r>
            <a:r>
              <a:rPr b="0" lang="es-MX" sz="3200" spc="-1" strike="noStrike">
                <a:solidFill>
                  <a:srgbClr val="ffffcc"/>
                </a:solidFill>
                <a:latin typeface="Times New Roman"/>
              </a:rPr>
              <a:t> RESERVA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i="1" lang="es-MX" sz="22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GIMEN DE LAS RESERVAS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1. Reservas no previstas por el tratado: El criterio de la compatibilidad con el objeto y fin del tratado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2. Reservas previstas por el tratado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3. Efectos jurídicos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A) Entre el reservante y el aceptante: Las disposiciones del tratado se modifican en la medid</a:t>
            </a:r>
            <a:r>
              <a:rPr b="1" i="1" lang="es-MX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 prevista por la reserva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B) Entre el reservante y el objetante: Es necesario distinguir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i) El objetante no ha expresado inequívocamente la intención de que el tratado no entre en vigor entre él y el Estado reservante: El tratado entra en vigor entre reservante y objetante viéndose modificadas las disposiciones del tratado en la medida de la reserva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ii) El objetante ha expresado inequívocamente la intención de que el tratado no entre en vigor entre él y el Estado reservante: Debe entenderse que no hay tratado entre ambos Estados.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EFECTOS DE LOS TRATAD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EFECTOS DE LOS TRATADOS ENTRE LAS PART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EFECTOS DE LOS TRATADOS </a:t>
            </a:r>
            <a:r>
              <a:rPr b="1" i="1" lang="es-MX" sz="3200" spc="-1" strike="noStrike">
                <a:solidFill>
                  <a:srgbClr val="ffffff"/>
                </a:solidFill>
                <a:latin typeface="Times New Roman"/>
              </a:rPr>
              <a:t>RESPECTO DE</a:t>
            </a: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 TERCE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cc"/>
                </a:solidFill>
                <a:latin typeface="Times New Roman"/>
              </a:rPr>
              <a:t>EFECTOS DE LOS TRATADOS ENTRE LAS PARTES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OBLIGATORIEDAD Y APLICABILIDAD DE LOS TRATADOS EN EL ORDEN INTERNACIONAL.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1. Entrada en vigor de los tratados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2. Regla de Pacta Sunt Servanda. (cumple lo pactado)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OBLIGATORIEDAD Y APLICABILIDAD DE LOS TRATADOS EN EL ORDEN INTERNO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1. Recepción de los tratados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2. Publicación de los tratados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3. Medidas legales y reglamentarias para la ejecución de los tratados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4. Ejecución de los tratados en los Estados de estructura compleja</a:t>
            </a:r>
            <a:r>
              <a:rPr b="0" i="1" lang="es-MX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s-ES" sz="3000" spc="-1" strike="noStrike">
                <a:solidFill>
                  <a:srgbClr val="ffffcc"/>
                </a:solidFill>
                <a:latin typeface="Times New Roman"/>
              </a:rPr>
              <a:t>EFECTOS DE LOS TRATADOS ENTRE LAS PARTES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PROBLEMAS GENERALES DE LA APLICACIÓN DE LOS TRATADO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1. Delimitación espacial y temporal de los tratado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2. Determinación del contenido de los tratados. La cláusula de la nación más favorecida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LA INTERPRETACI</a:t>
            </a:r>
            <a:r>
              <a:rPr b="1" i="1" lang="es-MX" sz="2600" spc="-1" strike="noStrike">
                <a:solidFill>
                  <a:srgbClr val="ffffff"/>
                </a:solidFill>
                <a:latin typeface="Times New Roman"/>
              </a:rPr>
              <a:t>Ó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N DE LOS TRATADO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1. Regla general de interpretación 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2. Medios complementarios: los trabajos preparatorios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3T16:46:42Z</dcterms:created>
  <dc:creator>MunhRa</dc:creator>
  <dc:description/>
  <dc:language>en-US</dc:language>
  <cp:lastModifiedBy>GPO.DE TELEC. ESTRATEGICAS</cp:lastModifiedBy>
  <dcterms:modified xsi:type="dcterms:W3CDTF">2008-03-31T15:34:39Z</dcterms:modified>
  <cp:revision>33</cp:revision>
  <dc:subject/>
  <dc:title>L   </dc:title>
</cp:coreProperties>
</file>