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B3D9-A10C-4422-9E0E-8FACB9E5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3401A-883C-463F-AFE6-1C141784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57F9-0E35-4C67-B358-BFE2C33F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CFC5-8A96-4C41-A30D-2E6836F1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A3B4-76A8-4B44-93F7-AADCBD77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729C-A338-4CA5-A204-E29B35CE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F598-225D-4681-BEC3-73C1E90B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8775-0B12-4AB0-9149-FE79BF6F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546B-4C6E-4EB8-B79E-F9123FBB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C326-8EC1-4DC3-A5F4-38EF2419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4A94-BD6C-41C7-87CD-FB72EC8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DFDEE-9380-4112-857C-BB14E9E8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3EA0-2EDF-48C5-8E3E-F6CB8DAD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8DE8-E6A5-4AE8-8EDD-B56EC69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9032-F551-4F64-B21F-67DBD156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1F9E-B893-48F8-85E6-22C9373E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6CC9-DFD4-476A-B045-759964CA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5583-9D2E-435A-A873-B096B154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662B-0F24-48B0-81B1-01E66E2F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A2EE-230E-4456-89EA-6A7F9A95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CCF4F-D0E9-451F-B2B4-51E10B7F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BCB2-C924-4951-B831-B914E37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C880F-64A0-4F04-888A-648D4AB9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58CC-4D58-4849-928D-D3559ACD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BE67-D875-407E-BA49-8DFE65B0D7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18BB-EDF4-4BBC-89C9-E65287F371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ffcc00"/>
                </a:solidFill>
                <a:latin typeface="Times New Roman"/>
              </a:rPr>
              <a:t>TRATADOS INTERNACIONALES (continuació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Profesora Jeannette Irigoin Barren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565360"/>
            <a:ext cx="410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12477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LA PREVIS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 CONVENCIONAL DE DERECHOS Y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1. Tratados que prevén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2. Tratados que prevén derecho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cc"/>
                </a:solidFill>
                <a:latin typeface="Times New Roman"/>
              </a:rPr>
              <a:t>B.- </a:t>
            </a:r>
            <a:r>
              <a:rPr b="0" i="1" lang="es-E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LA SUCESI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 DE EST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La relación suceso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Consecuencias de la relación sucesoria en materia de trat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3. El régimen de los distintos tipos de suces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) La sucesión en los tratados constitutivos de regímenes territoriales objetiv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i) La sucesión en los demás  tratados celebrados p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r Estados surgidos de la desc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lonizac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ón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ONDICIONES DE VALIDE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quisitos del acto jurídico y los trata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Capacidad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Consentimiento exento de vic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Objeto líc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gulación. Convención de Viena, Parte V: “Nulidad, terminación y suspensión de la aplicación de los tratado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a diferencia entre los contratos y los tratados deriva de la influencia de la técnica anglosajona sobre los últim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RELATIV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ndiciones formales de valide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Violación del derecho interno concerniente a la competencia para celebrar tratados (art. 46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Inobservancia de una restricción específica de los poderes para manifestar consentimiento del Estado (art. 47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cios del consentimi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Err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Dol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 La corrupción del representante del Est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ABSOLUT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el representante de un Estado (art. 51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un Estado por amenaza o uso de la fuerza (art. 52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posición a normas de Jus Cogens (arts. 53 y 64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ausales intrínsecas (provenientes del propio tratad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1. Cumplimiento del plaz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2. Cumplimiento de la condición resolutor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3. Denunc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Causales extrínsecas (provenientes del derecho  internacional gener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Mutuo consentimiento (abrogació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2. Celebrar un tratado posterior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3. Violació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4. Imposibilidad subsiguiente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5. Cambio fundamental de las circunstanci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6. Jus Cogens emerg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Como alternativa a la terminac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1. Por violación grave del tra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2. Por un cambio fundamental de las circunstancias: Rebus sic stantib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spensión (por sí mis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Por disposición del propio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Por Acuerdo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Por acuerdo de algunas partes (tratado multilateral) no incompatible con el objeto y fi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4. Por la adopción posterior de un tratado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5. Por la imposibilidad temporal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52480"/>
            <a:ext cx="802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ADHES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, PECULIAR DE LOS TRATADOS MULTILATERAL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: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Es una forma de manifestación del consentimiento que permite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llegar a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ser parte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 un tratado a sujetos no signatarios del mism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GEN: Fue concebida como un procedimiento que permitía acceder a la condición de parte en un tratado en vigor a un Estado que no había participado en su negociación y al que, por lo tanto, no le había sido  posible la firma y la posterior ratificació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1" i="1" lang="es-MX" sz="4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FINALIDAD: Estas iniciativas persiguen la eliminación  de reglas restrictivas de acceso a la condición de parte y la más rápida entrada en vigor de los tratados multilaterales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LAS RESERVAS A LOS TRATAD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: “ Declaración unilateral, cualquiera que sea su enunciado o denominación, hecha por un Estado al firmar, ratificar, aceptar o apr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bar un tratado o al adherirse a él, con objeto de exccluir o modificar los efectos jurídicos de ciertas disposiciones del tratado en su aplicación a ese Estado” 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( Art. 2.1. d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de la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C. de Viena). Sólo rige para los tratados multilaterale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LAS RESERV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BJETIVO: Permitir la mayor participación posible y una mayor efectiv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1. Principio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de 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integridad del tratad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Principi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universal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Times New Roman"/>
              </a:rPr>
              <a:t>LAS  </a:t>
            </a: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 RESERVA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GIMEN DE LAS RESERVA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1. Reservas no previstas por el tratado: El criterio de la compatibilidad con el objeto y fin d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2. Reservas previstas por 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3. Efectos juríd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A) Entre el reservante y el aceptante: Las disposiciones del tratado se modifican en la medid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prevista por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B) Entre el reservante y el objetante: Es necesario distinguir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) El objetante no ha expresado inequívocamente la intención de que el tratado no entre en vigor entre él y el Estado reservante: El tratado entra en vigor entre reservante y objetante viéndose modificadas las disposiciones del tratado en la medida de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i) El objetante ha expresado inequívocamente la intención de que el tratado no entre en vigor entre él y el Estado reservante: Debe entenderse que no hay tratado entre ambos Estados.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EFECTOS DE LOS TRATAD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ENTRE LAS PAR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RESPECTO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TERCE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ACIONAL.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Entrada en vigor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Regla de Pacta Sunt Servanda. (cumple lo pactado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Recep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Publica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3. Medidas legales y reglamentarias para la ejecu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4. Ejecución de los tratados en los Estados de estructura compleja</a:t>
            </a:r>
            <a:r>
              <a:rPr b="0" i="1" lang="es-MX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PROBLEMAS GENERALES DE LA APLICACIÓN DE LOS TRATAD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Delimitación espacial y temporal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Determinación del contenido de los tratados. La cláusula de la nación más favorecid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INTERPRETA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Regla general de interpretación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Medios complementarios: los trabajos preparatorio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6:46:42Z</dcterms:created>
  <dc:creator>MunhRa</dc:creator>
  <dc:description/>
  <dc:language>en-US</dc:language>
  <cp:lastModifiedBy>GPO.DE TELEC. ESTRATEGICAS</cp:lastModifiedBy>
  <dcterms:modified xsi:type="dcterms:W3CDTF">2008-03-31T15:34:39Z</dcterms:modified>
  <cp:revision>33</cp:revision>
  <dc:subject/>
  <dc:title>L   </dc:title>
</cp:coreProperties>
</file>