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2719B-122F-4F6D-8996-0BD6957D7B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2E3C1-E469-4FD4-86ED-0C209DBECF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F6521-FAC1-437F-928C-6E4F98C8B2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DA138-5D63-4AB9-871C-B89EEF96B5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85B38C-97DB-4694-AF4C-2DCB426EE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FA1FC0-87DC-4493-9483-99B46A6DD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1B2F3D-C81C-49FC-ADC3-378BE7DF0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CA297C-23EB-4632-8E84-D40527FA8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C63CAD-FBF6-4EB3-A1DC-5B158C03A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FCE4F8-22F6-4B40-A601-7752C83CF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37C536-7AA2-428B-A7F0-C3E2EFFB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1F27D-750D-4DFE-AAD9-655A92F20B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6995A8-03BC-4D06-8C06-7B6F98D1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9E7911-9201-4069-A5AA-BFD98AAF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FF43ED-E463-4AA3-BCE1-3BA9E7B59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384BFC-4ACC-4CAC-8A41-67053DF98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43727A-8939-420A-B925-2A43B0BE9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D99B3-16B9-4DA9-9789-DC11F08FE2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55181-F19C-41D5-9171-1EE93A0051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007D9-D0C5-4145-AC1A-EA88C83E32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5F0D8-16D4-4BA5-A7BA-E902A315D4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0B4F4-5C26-45E0-B0B4-A6FCF3B932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9D201-BE63-48BA-B901-036D44D587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1A025-1B82-4775-96CA-89BD875C34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34560" y="6237000"/>
            <a:ext cx="3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82042-B16D-4B9B-B4FB-79F6F44B451B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58E64-90FF-427B-9D48-C549D170A347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1052640"/>
            <a:chOff x="0" y="0"/>
            <a:chExt cx="9144000" cy="1052640"/>
          </a:xfrm>
        </p:grpSpPr>
        <p:pic>
          <p:nvPicPr>
            <p:cNvPr id="81" name="" descr=""/>
            <p:cNvPicPr/>
            <p:nvPr/>
          </p:nvPicPr>
          <p:blipFill>
            <a:blip r:embed="rId1"/>
            <a:srcRect l="33459" t="13071" r="15354" b="37764"/>
            <a:stretch/>
          </p:blipFill>
          <p:spPr>
            <a:xfrm>
              <a:off x="0" y="0"/>
              <a:ext cx="2411280" cy="10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1619280" y="77400"/>
              <a:ext cx="7524720" cy="817200"/>
            </a:xfrm>
            <a:prstGeom prst="rect">
              <a:avLst/>
            </a:prstGeom>
            <a:gradFill rotWithShape="0">
              <a:gsLst>
                <a:gs pos="0">
                  <a:srgbClr val="1e1e32"/>
                </a:gs>
                <a:gs pos="100000">
                  <a:srgbClr val="99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900000" y="29520"/>
              <a:ext cx="1368360" cy="9140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1835280" y="333360"/>
            <a:ext cx="73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Esquema del proceso de la investigación científ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84880" y="120636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noFill/>
          <a:ln w="1908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84880" y="2573280"/>
            <a:ext cx="609480" cy="399960"/>
          </a:xfrm>
          <a:prstGeom prst="rightArrow">
            <a:avLst>
              <a:gd name="adj1" fmla="val 50000"/>
              <a:gd name="adj2" fmla="val 38096"/>
            </a:avLst>
          </a:prstGeom>
          <a:noFill/>
          <a:ln w="1908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916360" y="1206360"/>
            <a:ext cx="2735280" cy="258120"/>
          </a:xfrm>
          <a:prstGeom prst="rect">
            <a:avLst/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SELECCIÓN DEL TEM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1120680"/>
            <a:ext cx="3059280" cy="1217160"/>
          </a:xfrm>
          <a:prstGeom prst="rect">
            <a:avLst/>
          </a:prstGeom>
          <a:noFill/>
          <a:ln w="9360">
            <a:solidFill>
              <a:srgbClr val="e5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Century Gothic"/>
              </a:rPr>
              <a:t>REVISIÓN BIBLIOGRÁFIC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Century Gothic"/>
              </a:rPr>
              <a:t>CONSULTA A EXPERTOS Y/O ESPECIALIST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Century Gothic"/>
              </a:rPr>
              <a:t>OBSERVACIÓN DIRECTA DE L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Century Gothic"/>
              </a:rPr>
              <a:t>REALIDA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16360" y="2214720"/>
            <a:ext cx="2735280" cy="1292760"/>
          </a:xfrm>
          <a:prstGeom prst="rect">
            <a:avLst/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FORMULACIÓN DEL ANTEPROYEC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ELABORACIÓN DEL PROYEC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84720" y="2489040"/>
            <a:ext cx="3059280" cy="4448520"/>
          </a:xfrm>
          <a:prstGeom prst="rect">
            <a:avLst/>
          </a:prstGeom>
          <a:noFill/>
          <a:ln w="12600">
            <a:solidFill>
              <a:srgbClr val="e5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Century Gothic"/>
              </a:rPr>
              <a:t>PLANTEAMIENTO, FORMULACIÓN Y SISTEMATIZACIÓN  DEL PROBLEM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Century Gothic"/>
              </a:rPr>
              <a:t>OBJETIVOS DE LA INVESTIGACIÓ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Century Gothic"/>
              </a:rPr>
              <a:t>JUSTIFICACIÓN DE LA INVESTIGACIÓ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Century Gothic"/>
              </a:rPr>
              <a:t>ANTECEDENTES DE LA INVESTIGACIÓ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Century Gothic"/>
              </a:rPr>
              <a:t>TEORÍA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Century Gothic"/>
              </a:rPr>
              <a:t>SISTEMA CONCEPTUA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Century Gothic"/>
              </a:rPr>
              <a:t>HIPÓTESIS, VARIABLES E INDICADO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Century Gothic"/>
              </a:rPr>
              <a:t>TIPOS Y NIVELES DE INVESTIGACIÓ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Century Gothic"/>
              </a:rPr>
              <a:t>MÉTODOS Y TÉCNICAS DE INVESTIGACIÓ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Century Gothic"/>
              </a:rPr>
              <a:t>ÍNDICE DEL CONTENIDO DE LA INVESTIGACIÓ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Century Gothic"/>
              </a:rPr>
              <a:t>RECURSOS HUMANOS Y MATERIALE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Century Gothic"/>
              </a:rPr>
              <a:t>CRONOGRAMA DE ACTIVIDAD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Century Gothic"/>
              </a:rPr>
              <a:t>BIBLIOGRAFÍA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3040" y="4081320"/>
            <a:ext cx="2438640" cy="785520"/>
          </a:xfrm>
          <a:prstGeom prst="rect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 Black"/>
              </a:rPr>
              <a:t>EJECU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46240" y="3870360"/>
            <a:ext cx="2641680" cy="1569240"/>
          </a:xfrm>
          <a:prstGeom prst="rect">
            <a:avLst/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AMPLIACIÓN DEL MARCO TEÓRIC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PRUEBA DE INSTRUMENTOS (ESTUDIO PILOTO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RECOLECCIÓN DE DATOS (APLICACIÓN DE INSTRUMENTOS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PROCESAMIENTO Y ANÁLISIS DE LOS DATO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INTERPRETACIÓN DE LOS RESULTADO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VERIFICACIÓN O FALSEAMIENTO DE LA HIPÓTESI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ELABORACIÓN DE CONCLUSIONE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71640" y="1349280"/>
            <a:ext cx="3049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771640" y="1709640"/>
            <a:ext cx="3049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16360" y="1596960"/>
            <a:ext cx="2735280" cy="459000"/>
          </a:xfrm>
          <a:prstGeom prst="rect">
            <a:avLst/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IDENTIFICACIÓN DE UN PROBLEM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54360" y="2862360"/>
            <a:ext cx="3049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641680" y="4446720"/>
            <a:ext cx="3045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41680" y="6102360"/>
            <a:ext cx="3045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03040" y="5681520"/>
            <a:ext cx="2438640" cy="785520"/>
          </a:xfrm>
          <a:prstGeom prst="rect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 Black"/>
              </a:rPr>
              <a:t>DIVULG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946240" y="5526000"/>
            <a:ext cx="2641680" cy="1135800"/>
          </a:xfrm>
          <a:prstGeom prst="rect">
            <a:avLst/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REDACCIÓN DEL BORRADOR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REVISIÓN Y CORRECCIÓ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PRESENTACIÓN DEL INFORME DE INVESTIGACIÓN (MONOGRAFÍA, TRABAJO DE GRADO, TESIS U OTRO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EVALUACIÓN DEL TRABAJO ESCRITO Y SU PRESENTACIÓN ORA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71640" y="1349280"/>
            <a:ext cx="0" cy="1513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84360" y="1709640"/>
            <a:ext cx="2872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9280" y="1206360"/>
            <a:ext cx="2408400" cy="785520"/>
          </a:xfrm>
          <a:prstGeom prst="rect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 Black"/>
              </a:rPr>
              <a:t>PLANIFIC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0" y="0"/>
            <a:ext cx="9144000" cy="1576440"/>
            <a:chOff x="0" y="0"/>
            <a:chExt cx="9144000" cy="1576440"/>
          </a:xfrm>
        </p:grpSpPr>
        <p:pic>
          <p:nvPicPr>
            <p:cNvPr id="105" name="" descr=""/>
            <p:cNvPicPr/>
            <p:nvPr/>
          </p:nvPicPr>
          <p:blipFill>
            <a:blip r:embed="rId1"/>
            <a:srcRect l="33459" t="13071" r="15354" b="37764"/>
            <a:stretch/>
          </p:blipFill>
          <p:spPr>
            <a:xfrm>
              <a:off x="0" y="0"/>
              <a:ext cx="2411280" cy="15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1619280" y="115920"/>
              <a:ext cx="7524720" cy="1224000"/>
            </a:xfrm>
            <a:prstGeom prst="rect">
              <a:avLst/>
            </a:prstGeom>
            <a:gradFill rotWithShape="0">
              <a:gsLst>
                <a:gs pos="0">
                  <a:srgbClr val="1e1e32"/>
                </a:gs>
                <a:gs pos="100000">
                  <a:srgbClr val="99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0000" y="44280"/>
              <a:ext cx="1368360" cy="13687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484360" y="260280"/>
            <a:ext cx="66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Interrogantes que debe tener en cuenta quien inicia un proceso de investig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1752480"/>
            <a:ext cx="4248000" cy="48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¿Qué estudiar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¿Cuál es la situación actual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¿Cuáles son las preguntas de investigación que deben ser respondidas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¿Qué propósitos tiene la investigación que se plantea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¿Cuáles son los motivos para hacer el estudio propuesto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¿Quiénes han investigado anteriormente sobre el tema planteado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¿Qué se pretende probar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¿Cómo se va a realizar la investigación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¿A qué fuentes escritas se va a referir el investigador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¿Qué recursos se necesitan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¿Cuánto tiempo va a emplear en hacer el estudio propuesto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1773360"/>
            <a:ext cx="3816360" cy="51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Definición del tema de  investiga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Planteamiento del proble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Formulación y sistematización del problema de investiga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Objetivos de la investiga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Justifica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Marco teóric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Hipótes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Aspectos metodológico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Bibliografí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Presupuesto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Cronogra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0" y="0"/>
            <a:ext cx="9144000" cy="981000"/>
            <a:chOff x="0" y="0"/>
            <a:chExt cx="9144000" cy="98100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rcRect l="33459" t="13071" r="15354" b="37764"/>
            <a:stretch/>
          </p:blipFill>
          <p:spPr>
            <a:xfrm>
              <a:off x="0" y="0"/>
              <a:ext cx="241128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1619280" y="72000"/>
              <a:ext cx="7524720" cy="761760"/>
            </a:xfrm>
            <a:prstGeom prst="rect">
              <a:avLst/>
            </a:prstGeom>
            <a:gradFill rotWithShape="0">
              <a:gsLst>
                <a:gs pos="0">
                  <a:srgbClr val="1e1e32"/>
                </a:gs>
                <a:gs pos="100000">
                  <a:srgbClr val="99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00000" y="27360"/>
              <a:ext cx="1368360" cy="85176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332000" y="260280"/>
            <a:ext cx="75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Estructura del Proyecto de Investigación Juríd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62400" y="1011240"/>
            <a:ext cx="4484880" cy="64764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6153120"/>
            <a:ext cx="3651120" cy="51588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BIBLIOGRAFÍA , ANEXOS , APÉNDI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84720" y="1628640"/>
            <a:ext cx="4484520" cy="114948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1.1) Planteamiento del problem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1.2) Formulación del problem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1.3) Sistematización del problem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1.4) Objetivos de Investigació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1.5) Justificación del problem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1280" y="1658880"/>
            <a:ext cx="3651120" cy="114948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CAPÍTULO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EL PROBLE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62400" y="5106960"/>
            <a:ext cx="4484880" cy="104616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4.1)  Índice del contenido del trabaj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4.2)  Recursos: humanos, materiales y financieros emplead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4.3) Cronograma de actividad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11280" y="5106960"/>
            <a:ext cx="3651120" cy="104616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APÍTULO 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SPECTOS ADMINISTRATIV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62400" y="3957480"/>
            <a:ext cx="4484880" cy="114948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3.1) Tipos  y niveles de investigació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3.2) métodos de investigació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3.3) Población y muestra (*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3.4) Técnicas e instrumentos de recolección de dat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3.5) Tratamiento de la informació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957480"/>
            <a:ext cx="3651120" cy="114948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APITULO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EL MARCO METODOLÓGIC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62400" y="2808360"/>
            <a:ext cx="4484880" cy="114912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2.1) Antecedentes de la investigació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2.2) Bases teóric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2.3) Definición de términ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2.4) Hipóte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2.5) Variables e indicado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1280" y="2808360"/>
            <a:ext cx="3651120" cy="114912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CAPITULO 2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EL MARCO TEÓRIC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1011240"/>
            <a:ext cx="3651120" cy="64764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TITULO TENTATIV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INTRODUC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2808360"/>
            <a:ext cx="8136000" cy="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1280" y="3957480"/>
            <a:ext cx="8136000" cy="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1280" y="5106960"/>
            <a:ext cx="8136000" cy="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1280" y="1658880"/>
            <a:ext cx="8136000" cy="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6153120"/>
            <a:ext cx="8136000" cy="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62400" y="1011240"/>
            <a:ext cx="0" cy="565776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1011240"/>
            <a:ext cx="8136000" cy="0"/>
          </a:xfrm>
          <a:prstGeom prst="line">
            <a:avLst/>
          </a:prstGeom>
          <a:ln cap="sq"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11280" y="1011240"/>
            <a:ext cx="0" cy="5657760"/>
          </a:xfrm>
          <a:prstGeom prst="line">
            <a:avLst/>
          </a:prstGeom>
          <a:ln cap="sq"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747280" y="1011240"/>
            <a:ext cx="0" cy="5657760"/>
          </a:xfrm>
          <a:prstGeom prst="line">
            <a:avLst/>
          </a:prstGeom>
          <a:ln cap="sq"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1280" y="6669000"/>
            <a:ext cx="8136000" cy="0"/>
          </a:xfrm>
          <a:prstGeom prst="line">
            <a:avLst/>
          </a:prstGeom>
          <a:ln cap="sq"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427640" y="6237360"/>
            <a:ext cx="424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cc"/>
                </a:solidFill>
                <a:latin typeface="Arial"/>
              </a:rPr>
              <a:t>* Esta parte se omite en los proyectos de investigación documenta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1280" y="6669000"/>
            <a:ext cx="81374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716360" y="5013360"/>
            <a:ext cx="4248360" cy="863640"/>
          </a:xfrm>
          <a:prstGeom prst="rect">
            <a:avLst/>
          </a:pr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716360" y="3716280"/>
            <a:ext cx="424836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2421000"/>
            <a:ext cx="3816360" cy="43164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4000" y="2925720"/>
            <a:ext cx="3816360" cy="1727280"/>
          </a:xfrm>
          <a:prstGeom prst="rect">
            <a:avLst/>
          </a:pr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4724280"/>
            <a:ext cx="3816360" cy="172728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4000" y="1917720"/>
            <a:ext cx="3816360" cy="4316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16360" y="1916280"/>
            <a:ext cx="4248360" cy="1726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55640" y="2035080"/>
            <a:ext cx="370836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Century Gothic"/>
              </a:rPr>
              <a:t>TÍTULO TENTATIV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INTRODUCCIÓ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entury Gothic"/>
              </a:rPr>
              <a:t>CAPÍTULO 1: EL PROBLEM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entury Gothic"/>
              </a:rPr>
              <a:t>1.1 Planteamiento del problem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entury Gothic"/>
              </a:rPr>
              <a:t>1.2 Formulación del proble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entury Gothic"/>
              </a:rPr>
              <a:t>1.3 Sistematización del proble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entury Gothic"/>
              </a:rPr>
              <a:t>1.4 Objetivos de la investigación (general y específico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entury Gothic"/>
              </a:rPr>
              <a:t>1.5 Justificación de la investiga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entury Gothic"/>
              </a:rPr>
              <a:t>1.6 Limitaciones de la investiga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entury Gothic"/>
              </a:rPr>
              <a:t>CAPÍTULO 2: EL MARCO TEÓRIC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entury Gothic"/>
              </a:rPr>
              <a:t>2.1 Antecedentes de la investiga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entury Gothic"/>
              </a:rPr>
              <a:t>2.1 Bases teóric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entury Gothic"/>
              </a:rPr>
              <a:t>2.3 Definición de términos ( Sistema Conceptual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entury Gothic"/>
              </a:rPr>
              <a:t>2.4 Hipótes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entury Gothic"/>
              </a:rPr>
              <a:t>2.5 Variables e indicador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4440240"/>
            <a:ext cx="91440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56760" rIns="811080" tIns="46800" bIns="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828800" y="1314360"/>
            <a:ext cx="6094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0" y="0"/>
            <a:ext cx="9144000" cy="1576440"/>
            <a:chOff x="0" y="0"/>
            <a:chExt cx="9144000" cy="1576440"/>
          </a:xfrm>
        </p:grpSpPr>
        <p:pic>
          <p:nvPicPr>
            <p:cNvPr id="150" name="" descr=""/>
            <p:cNvPicPr/>
            <p:nvPr/>
          </p:nvPicPr>
          <p:blipFill>
            <a:blip r:embed="rId1"/>
            <a:srcRect l="33459" t="13071" r="15354" b="37764"/>
            <a:stretch/>
          </p:blipFill>
          <p:spPr>
            <a:xfrm>
              <a:off x="0" y="0"/>
              <a:ext cx="2411280" cy="15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1619280" y="115920"/>
              <a:ext cx="7524720" cy="1224000"/>
            </a:xfrm>
            <a:prstGeom prst="rect">
              <a:avLst/>
            </a:prstGeom>
            <a:gradFill rotWithShape="0">
              <a:gsLst>
                <a:gs pos="0">
                  <a:srgbClr val="1e1e32"/>
                </a:gs>
                <a:gs pos="100000">
                  <a:srgbClr val="99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00000" y="44280"/>
              <a:ext cx="1368360" cy="13687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1908000" y="260280"/>
            <a:ext cx="72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Estructura del proyecto de investigación jurídica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184720" y="1965240"/>
            <a:ext cx="3995640" cy="46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entury Gothic"/>
              </a:rPr>
              <a:t>CAPÍTULO 3: EL MARCO METODOLÓGIC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entury Gothic"/>
              </a:rPr>
              <a:t>3.1 Tipos y niveles de investiga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entury Gothic"/>
              </a:rPr>
              <a:t>3.2 Métodos de investiga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entury Gothic"/>
              </a:rPr>
              <a:t>3.3 Población y muestra (*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entury Gothic"/>
              </a:rPr>
              <a:t>3.4 Técnicas e instrumentos de recolección de dat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entury Gothic"/>
              </a:rPr>
              <a:t>3.5 Tratamiento de la informa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entury Gothic"/>
              </a:rPr>
              <a:t>CAPÍTULO 4: ASPECTOS ADMINISTRATIVOS</a:t>
            </a:r>
            <a:r>
              <a:rPr b="0" lang="es-MX" sz="14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entury Gothic"/>
              </a:rPr>
              <a:t>4.1 Índice del contenido del trabaj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entury Gothic"/>
              </a:rPr>
              <a:t>4.2 Recursos: humanos, materiales y financieros empleado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entury Gothic"/>
              </a:rPr>
              <a:t>4.3 Cronograma de actividad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entury Gothic"/>
              </a:rPr>
              <a:t>BIBLIOGRAFÍ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entury Gothic"/>
              </a:rPr>
              <a:t>ANEX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entury Gothic"/>
              </a:rPr>
              <a:t>APÉNDI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Century Gothic"/>
              </a:rPr>
              <a:t>(*) </a:t>
            </a:r>
            <a:r>
              <a:rPr b="0" i="1" lang="es-MX" sz="1400" spc="-1" strike="noStrike">
                <a:solidFill>
                  <a:srgbClr val="ffffff"/>
                </a:solidFill>
                <a:latin typeface="Century Gothic"/>
              </a:rPr>
              <a:t>Esta parte se omite en los proyectos de investigación documental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4000" y="1916280"/>
            <a:ext cx="431640" cy="453708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16360" y="1916280"/>
            <a:ext cx="432000" cy="453708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206064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249228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76200" y="3573360"/>
            <a:ext cx="30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5280" y="5214960"/>
            <a:ext cx="30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88000" y="2492280"/>
            <a:ext cx="30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788000" y="4005360"/>
            <a:ext cx="30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861080" y="5300640"/>
            <a:ext cx="21564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2f46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0" y="836640"/>
            <a:ext cx="9196560" cy="6021360"/>
            <a:chOff x="0" y="836640"/>
            <a:chExt cx="9196560" cy="6021360"/>
          </a:xfrm>
        </p:grpSpPr>
        <p:sp>
          <p:nvSpPr>
            <p:cNvPr id="166" name=""/>
            <p:cNvSpPr/>
            <p:nvPr/>
          </p:nvSpPr>
          <p:spPr>
            <a:xfrm>
              <a:off x="4140360" y="836640"/>
              <a:ext cx="3024000" cy="60213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836640"/>
              <a:ext cx="9144000" cy="7207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3400" y="1015920"/>
              <a:ext cx="285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 Black"/>
                </a:rPr>
                <a:t>PASOS A DA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687920" y="966960"/>
              <a:ext cx="2116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 Black"/>
                </a:rPr>
                <a:t>REQUISITOS QUE SE HAN DE TOMA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164360" y="909000"/>
              <a:ext cx="2032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ffffff"/>
                  </a:solidFill>
                  <a:latin typeface="Arial Black"/>
                </a:rPr>
                <a:t>MEDIOS Y FUENTES QUE AYUDAN A CUMPLIR LO ANTERIO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78440" y="2184480"/>
              <a:ext cx="1930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76920" y="2241720"/>
              <a:ext cx="1930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140360" y="836640"/>
              <a:ext cx="0" cy="72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7164360" y="836640"/>
              <a:ext cx="0" cy="72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164360" y="1557360"/>
              <a:ext cx="1979640" cy="53006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4360" y="2565360"/>
            <a:ext cx="34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cc66"/>
                </a:solidFill>
                <a:latin typeface="Arial Black"/>
              </a:rPr>
              <a:t>FUENTES DEL PROBLE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1773360"/>
            <a:ext cx="3780000" cy="642600"/>
          </a:xfrm>
          <a:prstGeom prst="rect">
            <a:avLst/>
          </a:prstGeom>
          <a:solidFill>
            <a:srgbClr val="ffcc66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entury Gothic"/>
              </a:rPr>
              <a:t>DETERMINACIÓN DEL PROBLE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4000" y="3645000"/>
            <a:ext cx="417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cc66"/>
                </a:solidFill>
                <a:latin typeface="Arial Black"/>
              </a:rPr>
              <a:t>ELECCIÓN DEL PROBLE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8360" y="4581360"/>
            <a:ext cx="36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cc66"/>
                </a:solidFill>
                <a:latin typeface="Arial Black"/>
              </a:rPr>
              <a:t>LA DEFINICIÓN DEL PROBLE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4000" y="5805360"/>
            <a:ext cx="41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cc66"/>
                </a:solidFill>
                <a:latin typeface="Arial Black"/>
              </a:rPr>
              <a:t>LA DOCUMENT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284720" y="2276640"/>
            <a:ext cx="2808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entury Gothic"/>
              </a:rPr>
              <a:t>Establecer primero el tipo de investigación que se desea ejecut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978440" y="1714680"/>
            <a:ext cx="1930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876920" y="2114640"/>
            <a:ext cx="1930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76920" y="1771560"/>
            <a:ext cx="1930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33459" t="13071" r="15354" b="37764"/>
          <a:stretch/>
        </p:blipFill>
        <p:spPr>
          <a:xfrm>
            <a:off x="0" y="0"/>
            <a:ext cx="1258920" cy="8222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211640" y="3429000"/>
            <a:ext cx="2808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Hay que elegir un problema que sea </a:t>
            </a:r>
            <a:r>
              <a:rPr b="1" i="1" lang="es-MX" sz="1200" spc="-1" strike="noStrike">
                <a:solidFill>
                  <a:srgbClr val="000000"/>
                </a:solidFill>
                <a:latin typeface="Century Gothic"/>
              </a:rPr>
              <a:t>relevante</a:t>
            </a: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, y que sea </a:t>
            </a:r>
            <a:r>
              <a:rPr b="1" i="1" lang="es-MX" sz="1200" spc="-1" strike="noStrike">
                <a:solidFill>
                  <a:srgbClr val="000000"/>
                </a:solidFill>
                <a:latin typeface="Century Gothic"/>
              </a:rPr>
              <a:t>posible de investigar</a:t>
            </a: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 con los medios que se dispo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121280" y="4508640"/>
            <a:ext cx="304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Ha de ser definido operativamente de manera que sea </a:t>
            </a:r>
            <a:r>
              <a:rPr b="1" i="1" lang="es-MX" sz="1200" spc="-1" strike="noStrike">
                <a:solidFill>
                  <a:srgbClr val="000000"/>
                </a:solidFill>
                <a:latin typeface="Century Gothic"/>
              </a:rPr>
              <a:t>resoluble, </a:t>
            </a: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formulándolo en forma de pregun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356000" y="5651640"/>
            <a:ext cx="2722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entury Gothic"/>
              </a:rPr>
              <a:t>Hay que revisar toda la </a:t>
            </a:r>
            <a:r>
              <a:rPr b="1" i="1" lang="es-MX" sz="1400" spc="-1" strike="noStrike">
                <a:solidFill>
                  <a:srgbClr val="000000"/>
                </a:solidFill>
                <a:latin typeface="Century Gothic"/>
              </a:rPr>
              <a:t>información</a:t>
            </a:r>
            <a:r>
              <a:rPr b="1" lang="es-MX" sz="1400" spc="-1" strike="noStrike">
                <a:solidFill>
                  <a:srgbClr val="000000"/>
                </a:solidFill>
                <a:latin typeface="Century Gothic"/>
              </a:rPr>
              <a:t> que existía sobre el proble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201080" y="2298600"/>
            <a:ext cx="19429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 u="sng">
                <a:solidFill>
                  <a:srgbClr val="000000"/>
                </a:solidFill>
                <a:uFillTx/>
                <a:latin typeface="Century Gothic"/>
              </a:rPr>
              <a:t>Fuentes directas:</a:t>
            </a: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 Las teorías. La vida diari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 u="sng">
                <a:solidFill>
                  <a:srgbClr val="000000"/>
                </a:solidFill>
                <a:uFillTx/>
                <a:latin typeface="Century Gothic"/>
              </a:rPr>
              <a:t>Fuentes indirectas:</a:t>
            </a: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 los trabajos anterior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36000" y="3429000"/>
            <a:ext cx="190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Leer, escuchar y trabajar críticamente. Atender lo anómalo e incongruent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178760" y="5589720"/>
            <a:ext cx="1930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Se cuenta con los medios  y fuentes de documentación e informació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148520" y="4581360"/>
            <a:ext cx="1995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Formular el problema con precisión y específi-cament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1280" y="2276640"/>
            <a:ext cx="8532720" cy="936360"/>
          </a:xfrm>
          <a:prstGeom prst="rect">
            <a:avLst/>
          </a:prstGeom>
          <a:noFill/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11280" y="3357720"/>
            <a:ext cx="8532720" cy="936360"/>
          </a:xfrm>
          <a:prstGeom prst="rect">
            <a:avLst/>
          </a:prstGeom>
          <a:noFill/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1280" y="4437000"/>
            <a:ext cx="8532720" cy="936720"/>
          </a:xfrm>
          <a:prstGeom prst="rect">
            <a:avLst/>
          </a:prstGeom>
          <a:noFill/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11280" y="5516640"/>
            <a:ext cx="8532720" cy="936720"/>
          </a:xfrm>
          <a:prstGeom prst="rect">
            <a:avLst/>
          </a:prstGeom>
          <a:noFill/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124000" y="260280"/>
            <a:ext cx="70200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99ff"/>
                </a:solidFill>
                <a:latin typeface="Century Gothic"/>
              </a:rPr>
              <a:t>PROCESO METODOLÓGICO DE LA INVESTIGACIÓN CIENTÍF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8360" y="44280"/>
            <a:ext cx="714240" cy="694080"/>
          </a:xfrm>
          <a:prstGeom prst="ellipse">
            <a:avLst/>
          </a:prstGeom>
          <a:solidFill>
            <a:srgbClr val="ffffff">
              <a:alpha val="30000"/>
            </a:srgbClr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320840" y="5143680"/>
            <a:ext cx="2031840" cy="514080"/>
          </a:xfrm>
          <a:prstGeom prst="flowChartPreparation">
            <a:avLst/>
          </a:prstGeom>
          <a:solidFill>
            <a:srgbClr val="2b54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03040" y="1314360"/>
            <a:ext cx="2235240" cy="1570680"/>
          </a:xfrm>
          <a:prstGeom prst="rect">
            <a:avLst/>
          </a:prstGeom>
          <a:solidFill>
            <a:srgbClr val="2b54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Times New Roman"/>
              </a:rPr>
              <a:t>DETERMINACIÓN DEL PROBLEM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40160" y="1314360"/>
            <a:ext cx="213336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FUENTES DEL PROBLEM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14600" y="1676520"/>
            <a:ext cx="2133720" cy="459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ELECCIÓN DEL PROBLEM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514600" y="2133720"/>
            <a:ext cx="2133720" cy="459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LA DEFINICIÓN DEL PROBLEM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514600" y="2590920"/>
            <a:ext cx="213372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LA DOCUMENTACIÓ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03040" y="3029040"/>
            <a:ext cx="2235240" cy="1014840"/>
          </a:xfrm>
          <a:prstGeom prst="rect">
            <a:avLst/>
          </a:prstGeom>
          <a:solidFill>
            <a:srgbClr val="2b54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Times New Roman"/>
              </a:rPr>
              <a:t>CREACIÓN DE LA HIPÓTE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514600" y="3029040"/>
            <a:ext cx="2133720" cy="459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CREACIÓN DE LA HIPÓTESIS DEL TRABAJ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14600" y="3505320"/>
            <a:ext cx="213372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DISEÑ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3962520"/>
            <a:ext cx="2235240" cy="459000"/>
          </a:xfrm>
          <a:prstGeom prst="rect">
            <a:avLst/>
          </a:prstGeom>
          <a:solidFill>
            <a:srgbClr val="2b54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Times New Roman"/>
              </a:rPr>
              <a:t>COMPROBACIÓN DE LA HIPÓTE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14600" y="3886200"/>
            <a:ext cx="213372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LA REALIZACIÓ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514600" y="4191120"/>
            <a:ext cx="213372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EL ANÁLI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03040" y="4572000"/>
            <a:ext cx="2235240" cy="276480"/>
          </a:xfrm>
          <a:prstGeom prst="rect">
            <a:avLst/>
          </a:prstGeom>
          <a:solidFill>
            <a:srgbClr val="2b54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Times New Roman"/>
              </a:rPr>
              <a:t>ANÁLISIS DE RESULTAD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40160" y="4572000"/>
            <a:ext cx="213336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DISCUSIÓ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40160" y="4857840"/>
            <a:ext cx="213336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CONCLUSIO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19320" y="457200"/>
            <a:ext cx="2031840" cy="307080"/>
          </a:xfrm>
          <a:prstGeom prst="rect">
            <a:avLst/>
          </a:prstGeom>
          <a:solidFill>
            <a:srgbClr val="2b5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PASOS A D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295280" y="5181480"/>
            <a:ext cx="2260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imes New Roman"/>
              </a:rPr>
              <a:t>NUEVOS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imes New Roman"/>
              </a:rPr>
              <a:t>CONOCIMIENTO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5772240"/>
            <a:ext cx="3505320" cy="276480"/>
          </a:xfrm>
          <a:prstGeom prst="rect">
            <a:avLst/>
          </a:prstGeom>
          <a:solidFill>
            <a:srgbClr val="2b54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Times New Roman"/>
              </a:rPr>
              <a:t>REDACCIÓN DEL INFORME FIN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62120" y="6248520"/>
            <a:ext cx="3251160" cy="276480"/>
          </a:xfrm>
          <a:prstGeom prst="rect">
            <a:avLst/>
          </a:prstGeom>
          <a:solidFill>
            <a:srgbClr val="2b54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Times New Roman"/>
              </a:rPr>
              <a:t>PUBLICACIÓ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133720" y="800280"/>
            <a:ext cx="2743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Times New Roman"/>
              </a:rPr>
              <a:t>DESEO DE OBTENER NUEVOS CONOCIMIENTO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235240" y="800280"/>
            <a:ext cx="2539800" cy="495000"/>
          </a:xfrm>
          <a:prstGeom prst="downArrowCallout">
            <a:avLst>
              <a:gd name="adj1" fmla="val 128284"/>
              <a:gd name="adj2" fmla="val 128273"/>
              <a:gd name="adj3" fmla="val 16667"/>
              <a:gd name="adj4" fmla="val 6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876920" y="457200"/>
            <a:ext cx="0" cy="5886360"/>
          </a:xfrm>
          <a:prstGeom prst="line">
            <a:avLst/>
          </a:prstGeom>
          <a:ln w="3492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978440" y="457200"/>
            <a:ext cx="1828800" cy="368280"/>
          </a:xfrm>
          <a:prstGeom prst="rect">
            <a:avLst/>
          </a:prstGeom>
          <a:solidFill>
            <a:srgbClr val="2b5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ffffff"/>
                </a:solidFill>
                <a:latin typeface="Times New Roman"/>
              </a:rPr>
              <a:t>REQUISITOS QUE SE HAN DE TOMAR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743040"/>
            <a:ext cx="914400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908760" y="457200"/>
            <a:ext cx="0" cy="5886360"/>
          </a:xfrm>
          <a:prstGeom prst="line">
            <a:avLst/>
          </a:prstGeom>
          <a:ln w="3492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010280" y="380520"/>
            <a:ext cx="2032200" cy="337320"/>
          </a:xfrm>
          <a:prstGeom prst="rect">
            <a:avLst/>
          </a:prstGeom>
          <a:solidFill>
            <a:srgbClr val="2b5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ffffff"/>
                </a:solidFill>
                <a:latin typeface="Times New Roman"/>
              </a:rPr>
              <a:t>MEDIOS Y FUENTES QUE AYUDAN A CUMPLIR LO ANTERIOR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978440" y="1314360"/>
            <a:ext cx="19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Establecer primero el </a:t>
            </a:r>
            <a:r>
              <a:rPr b="1" i="1" lang="es-MX" sz="800" spc="-1" strike="noStrike">
                <a:solidFill>
                  <a:srgbClr val="ffffff"/>
                </a:solidFill>
                <a:latin typeface="Times New Roman"/>
              </a:rPr>
              <a:t>tipo de investigación</a:t>
            </a: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 que se desea ejecutar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978440" y="1714680"/>
            <a:ext cx="1930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876920" y="2114640"/>
            <a:ext cx="1930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876920" y="1771560"/>
            <a:ext cx="1930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78440" y="1657440"/>
            <a:ext cx="193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Hay que elegir un problema que sea </a:t>
            </a:r>
            <a:r>
              <a:rPr b="1" i="1" lang="es-MX" sz="800" spc="-1" strike="noStrike">
                <a:solidFill>
                  <a:srgbClr val="ffffff"/>
                </a:solidFill>
                <a:latin typeface="Times New Roman"/>
              </a:rPr>
              <a:t>relevante</a:t>
            </a: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, y que sea </a:t>
            </a:r>
            <a:r>
              <a:rPr b="1" i="1" lang="es-MX" sz="800" spc="-1" strike="noStrike">
                <a:solidFill>
                  <a:srgbClr val="ffffff"/>
                </a:solidFill>
                <a:latin typeface="Times New Roman"/>
              </a:rPr>
              <a:t>posible de investigar</a:t>
            </a: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 con los medios que se dispon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978440" y="2114640"/>
            <a:ext cx="193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Ha de ser definido operativamente de manera que sea </a:t>
            </a:r>
            <a:r>
              <a:rPr b="1" i="1" lang="es-MX" sz="800" spc="-1" strike="noStrike">
                <a:solidFill>
                  <a:srgbClr val="ffffff"/>
                </a:solidFill>
                <a:latin typeface="Times New Roman"/>
              </a:rPr>
              <a:t>resoluble, </a:t>
            </a: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formulándolo en forma de pregunta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978440" y="2571840"/>
            <a:ext cx="19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Hay que revisar toda la </a:t>
            </a:r>
            <a:r>
              <a:rPr b="1" i="1" lang="es-MX" sz="800" spc="-1" strike="noStrike">
                <a:solidFill>
                  <a:srgbClr val="ffffff"/>
                </a:solidFill>
                <a:latin typeface="Times New Roman"/>
              </a:rPr>
              <a:t>información</a:t>
            </a: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 que existía sobre el problema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978440" y="3029040"/>
            <a:ext cx="1930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978440" y="3029040"/>
            <a:ext cx="19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Que sean muy </a:t>
            </a:r>
            <a:r>
              <a:rPr b="1" i="1" lang="es-MX" sz="800" spc="-1" strike="noStrike">
                <a:solidFill>
                  <a:srgbClr val="ffffff"/>
                </a:solidFill>
                <a:latin typeface="Times New Roman"/>
              </a:rPr>
              <a:t>precisas y susceptibles</a:t>
            </a: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MX" sz="800" spc="-1" strike="noStrike">
                <a:solidFill>
                  <a:srgbClr val="ffffff"/>
                </a:solidFill>
                <a:latin typeface="Times New Roman"/>
              </a:rPr>
              <a:t>de verificació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181480" y="1828800"/>
            <a:ext cx="1930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78440" y="3486240"/>
            <a:ext cx="19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Que esté en </a:t>
            </a:r>
            <a:r>
              <a:rPr b="1" i="1" lang="es-MX" sz="800" spc="-1" strike="noStrike">
                <a:solidFill>
                  <a:srgbClr val="ffffff"/>
                </a:solidFill>
                <a:latin typeface="Times New Roman"/>
              </a:rPr>
              <a:t>relación con las hipótesis y objetivo de la investigació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978440" y="3943440"/>
            <a:ext cx="19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Aplicar  </a:t>
            </a:r>
            <a:r>
              <a:rPr b="1" i="1" lang="es-MX" sz="800" spc="-1" strike="noStrike">
                <a:solidFill>
                  <a:srgbClr val="ffffff"/>
                </a:solidFill>
                <a:latin typeface="Times New Roman"/>
              </a:rPr>
              <a:t>estrictamente</a:t>
            </a: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 lo indicado en el diseñ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78440" y="4286160"/>
            <a:ext cx="193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Aplicar las</a:t>
            </a:r>
            <a:r>
              <a:rPr b="1" i="1" lang="es-MX" sz="800" spc="-1" strike="noStrike">
                <a:solidFill>
                  <a:srgbClr val="ffffff"/>
                </a:solidFill>
                <a:latin typeface="Times New Roman"/>
              </a:rPr>
              <a:t> técnicas</a:t>
            </a: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 adecuada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978440" y="4572000"/>
            <a:ext cx="19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Comparar los resultados con la </a:t>
            </a:r>
            <a:r>
              <a:rPr b="1" i="1" lang="es-MX" sz="800" spc="-1" strike="noStrike">
                <a:solidFill>
                  <a:srgbClr val="ffffff"/>
                </a:solidFill>
                <a:latin typeface="Times New Roman"/>
              </a:rPr>
              <a:t>hipótesis de trabajo</a:t>
            </a: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, y ver si se pueden generalizar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079960" y="4915080"/>
            <a:ext cx="19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Comparar los resultados con la </a:t>
            </a:r>
            <a:r>
              <a:rPr b="1" i="1" lang="es-MX" sz="800" spc="-1" strike="noStrike">
                <a:solidFill>
                  <a:srgbClr val="ffffff"/>
                </a:solidFill>
                <a:latin typeface="Times New Roman"/>
              </a:rPr>
              <a:t>teoría</a:t>
            </a: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 y extraer las consecuencia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673520" y="1371600"/>
            <a:ext cx="304920" cy="0"/>
          </a:xfrm>
          <a:prstGeom prst="line">
            <a:avLst/>
          </a:prstGeom>
          <a:ln w="381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73520" y="1771560"/>
            <a:ext cx="304920" cy="0"/>
          </a:xfrm>
          <a:prstGeom prst="line">
            <a:avLst/>
          </a:prstGeom>
          <a:ln w="381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673520" y="2171880"/>
            <a:ext cx="304920" cy="0"/>
          </a:xfrm>
          <a:prstGeom prst="line">
            <a:avLst/>
          </a:prstGeom>
          <a:ln w="381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673520" y="2685960"/>
            <a:ext cx="304920" cy="0"/>
          </a:xfrm>
          <a:prstGeom prst="line">
            <a:avLst/>
          </a:prstGeom>
          <a:ln w="381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73520" y="3143160"/>
            <a:ext cx="304920" cy="0"/>
          </a:xfrm>
          <a:prstGeom prst="line">
            <a:avLst/>
          </a:prstGeom>
          <a:ln w="381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73520" y="3657600"/>
            <a:ext cx="304920" cy="0"/>
          </a:xfrm>
          <a:prstGeom prst="line">
            <a:avLst/>
          </a:prstGeom>
          <a:ln w="381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73520" y="4057560"/>
            <a:ext cx="304920" cy="0"/>
          </a:xfrm>
          <a:prstGeom prst="line">
            <a:avLst/>
          </a:prstGeom>
          <a:ln w="381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673520" y="4343400"/>
            <a:ext cx="304920" cy="0"/>
          </a:xfrm>
          <a:prstGeom prst="line">
            <a:avLst/>
          </a:prstGeom>
          <a:ln w="381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673520" y="4686480"/>
            <a:ext cx="304920" cy="0"/>
          </a:xfrm>
          <a:prstGeom prst="line">
            <a:avLst/>
          </a:prstGeom>
          <a:ln w="381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73520" y="4971960"/>
            <a:ext cx="304920" cy="0"/>
          </a:xfrm>
          <a:prstGeom prst="line">
            <a:avLst/>
          </a:prstGeom>
          <a:ln w="381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908760" y="1371600"/>
            <a:ext cx="304920" cy="0"/>
          </a:xfrm>
          <a:prstGeom prst="line">
            <a:avLst/>
          </a:prstGeom>
          <a:ln w="38160">
            <a:solidFill>
              <a:srgbClr val="00ccff"/>
            </a:solidFill>
            <a:miter/>
            <a:tailEnd len="med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13680" y="1143000"/>
            <a:ext cx="1727280" cy="6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800" spc="-1" strike="noStrike">
                <a:solidFill>
                  <a:srgbClr val="ffffff"/>
                </a:solidFill>
                <a:latin typeface="Times New Roman"/>
              </a:rPr>
              <a:t>Fuentes directas:</a:t>
            </a: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 Las teorías. La vida diaria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800" spc="-1" strike="noStrike">
                <a:solidFill>
                  <a:srgbClr val="ffffff"/>
                </a:solidFill>
                <a:latin typeface="Times New Roman"/>
              </a:rPr>
              <a:t>Fuentes indirectas:</a:t>
            </a: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 los trabajos anteriores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13680" y="1657440"/>
            <a:ext cx="19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Leer, escuchar y trabajar críticamente. Atender lo anómalo e incongruente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213680" y="2571840"/>
            <a:ext cx="19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Se cuenta con los medios  y fuentes de documentación e información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13680" y="2057400"/>
            <a:ext cx="172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Formular el problema con precisión y específicamente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15200" y="302904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El conocimiento de la realidad investigada, el dominio de la teoría y la cultura científica genera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315200" y="35434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Tener en cuenta los diversos diseños que existe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315200" y="3943440"/>
            <a:ext cx="1828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Planificació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Experimento pilot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315200" y="428616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Los tipos de análisis estadísticos, lingüísticos, documentales, etc..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315200" y="462924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Los conceptos de </a:t>
            </a:r>
            <a:r>
              <a:rPr b="1" i="1" lang="es-MX" sz="800" spc="-1" strike="noStrike">
                <a:solidFill>
                  <a:srgbClr val="ffffff"/>
                </a:solidFill>
                <a:latin typeface="Times New Roman"/>
              </a:rPr>
              <a:t>Hipótesis nula </a:t>
            </a: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i="1" lang="es-MX" sz="800" spc="-1" strike="noStrike">
                <a:solidFill>
                  <a:srgbClr val="ffffff"/>
                </a:solidFill>
                <a:latin typeface="Times New Roman"/>
              </a:rPr>
              <a:t> Hipótesis alternativa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315200" y="491508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Las teorías de partida y los resultados de otros investigadores (Documentación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908760" y="1771560"/>
            <a:ext cx="304920" cy="0"/>
          </a:xfrm>
          <a:prstGeom prst="line">
            <a:avLst/>
          </a:prstGeom>
          <a:ln w="38160">
            <a:solidFill>
              <a:srgbClr val="00ccff"/>
            </a:solidFill>
            <a:miter/>
            <a:tailEnd len="med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908760" y="2171880"/>
            <a:ext cx="304920" cy="0"/>
          </a:xfrm>
          <a:prstGeom prst="line">
            <a:avLst/>
          </a:prstGeom>
          <a:ln w="38160">
            <a:solidFill>
              <a:srgbClr val="00ccff"/>
            </a:solidFill>
            <a:miter/>
            <a:tailEnd len="med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908760" y="2685960"/>
            <a:ext cx="304920" cy="0"/>
          </a:xfrm>
          <a:prstGeom prst="line">
            <a:avLst/>
          </a:prstGeom>
          <a:ln w="38160">
            <a:solidFill>
              <a:srgbClr val="00ccff"/>
            </a:solidFill>
            <a:miter/>
            <a:tailEnd len="med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908760" y="3143160"/>
            <a:ext cx="304920" cy="0"/>
          </a:xfrm>
          <a:prstGeom prst="line">
            <a:avLst/>
          </a:prstGeom>
          <a:ln w="38160">
            <a:solidFill>
              <a:srgbClr val="00ccff"/>
            </a:solidFill>
            <a:miter/>
            <a:tailEnd len="med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908760" y="3657600"/>
            <a:ext cx="304920" cy="0"/>
          </a:xfrm>
          <a:prstGeom prst="line">
            <a:avLst/>
          </a:prstGeom>
          <a:ln w="38160">
            <a:solidFill>
              <a:srgbClr val="00ccff"/>
            </a:solidFill>
            <a:miter/>
            <a:tailEnd len="med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908760" y="4057560"/>
            <a:ext cx="304920" cy="0"/>
          </a:xfrm>
          <a:prstGeom prst="line">
            <a:avLst/>
          </a:prstGeom>
          <a:ln w="38160">
            <a:solidFill>
              <a:srgbClr val="00ccff"/>
            </a:solidFill>
            <a:miter/>
            <a:tailEnd len="med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908760" y="4343400"/>
            <a:ext cx="304920" cy="0"/>
          </a:xfrm>
          <a:prstGeom prst="line">
            <a:avLst/>
          </a:prstGeom>
          <a:ln w="38160">
            <a:solidFill>
              <a:srgbClr val="00ccff"/>
            </a:solidFill>
            <a:miter/>
            <a:tailEnd len="med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908760" y="4686480"/>
            <a:ext cx="304920" cy="0"/>
          </a:xfrm>
          <a:prstGeom prst="line">
            <a:avLst/>
          </a:prstGeom>
          <a:ln w="38160">
            <a:solidFill>
              <a:srgbClr val="00ccff"/>
            </a:solidFill>
            <a:miter/>
            <a:tailEnd len="med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908760" y="4971960"/>
            <a:ext cx="304920" cy="0"/>
          </a:xfrm>
          <a:prstGeom prst="line">
            <a:avLst/>
          </a:prstGeom>
          <a:ln w="38160">
            <a:solidFill>
              <a:srgbClr val="00ccff"/>
            </a:solidFill>
            <a:miter/>
            <a:tailEnd len="med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235240" y="1486080"/>
            <a:ext cx="507960" cy="56880"/>
          </a:xfrm>
          <a:prstGeom prst="leftRightArrow">
            <a:avLst>
              <a:gd name="adj1" fmla="val 50000"/>
              <a:gd name="adj2" fmla="val 177780"/>
            </a:avLst>
          </a:prstGeom>
          <a:solidFill>
            <a:srgbClr val="2b5481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35240" y="1886040"/>
            <a:ext cx="507960" cy="57240"/>
          </a:xfrm>
          <a:prstGeom prst="leftRightArrow">
            <a:avLst>
              <a:gd name="adj1" fmla="val 50000"/>
              <a:gd name="adj2" fmla="val 176662"/>
            </a:avLst>
          </a:prstGeom>
          <a:solidFill>
            <a:srgbClr val="2b5481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235240" y="2286000"/>
            <a:ext cx="507960" cy="57240"/>
          </a:xfrm>
          <a:prstGeom prst="leftRightArrow">
            <a:avLst>
              <a:gd name="adj1" fmla="val 50000"/>
              <a:gd name="adj2" fmla="val 176662"/>
            </a:avLst>
          </a:prstGeom>
          <a:solidFill>
            <a:srgbClr val="2b5481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235240" y="2685960"/>
            <a:ext cx="507960" cy="57240"/>
          </a:xfrm>
          <a:prstGeom prst="leftRightArrow">
            <a:avLst>
              <a:gd name="adj1" fmla="val 50000"/>
              <a:gd name="adj2" fmla="val 176662"/>
            </a:avLst>
          </a:prstGeom>
          <a:solidFill>
            <a:srgbClr val="2b5481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235240" y="3257640"/>
            <a:ext cx="507960" cy="57240"/>
          </a:xfrm>
          <a:prstGeom prst="leftRightArrow">
            <a:avLst>
              <a:gd name="adj1" fmla="val 50000"/>
              <a:gd name="adj2" fmla="val 176662"/>
            </a:avLst>
          </a:prstGeom>
          <a:solidFill>
            <a:srgbClr val="2b5481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235240" y="3657600"/>
            <a:ext cx="507960" cy="57240"/>
          </a:xfrm>
          <a:prstGeom prst="leftRightArrow">
            <a:avLst>
              <a:gd name="adj1" fmla="val 50000"/>
              <a:gd name="adj2" fmla="val 176662"/>
            </a:avLst>
          </a:prstGeom>
          <a:solidFill>
            <a:srgbClr val="2b5481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235240" y="4114800"/>
            <a:ext cx="507960" cy="57240"/>
          </a:xfrm>
          <a:prstGeom prst="leftRightArrow">
            <a:avLst>
              <a:gd name="adj1" fmla="val 50000"/>
              <a:gd name="adj2" fmla="val 176662"/>
            </a:avLst>
          </a:prstGeom>
          <a:solidFill>
            <a:srgbClr val="2b5481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235240" y="4286160"/>
            <a:ext cx="507960" cy="57240"/>
          </a:xfrm>
          <a:prstGeom prst="leftRightArrow">
            <a:avLst>
              <a:gd name="adj1" fmla="val 50000"/>
              <a:gd name="adj2" fmla="val 176662"/>
            </a:avLst>
          </a:prstGeom>
          <a:solidFill>
            <a:srgbClr val="2b5481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235240" y="4629240"/>
            <a:ext cx="507960" cy="57240"/>
          </a:xfrm>
          <a:prstGeom prst="leftRightArrow">
            <a:avLst>
              <a:gd name="adj1" fmla="val 50000"/>
              <a:gd name="adj2" fmla="val 176662"/>
            </a:avLst>
          </a:prstGeom>
          <a:solidFill>
            <a:srgbClr val="2b5481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235240" y="4857840"/>
            <a:ext cx="507960" cy="57240"/>
          </a:xfrm>
          <a:prstGeom prst="leftRightArrow">
            <a:avLst>
              <a:gd name="adj1" fmla="val 50000"/>
              <a:gd name="adj2" fmla="val 176662"/>
            </a:avLst>
          </a:prstGeom>
          <a:solidFill>
            <a:srgbClr val="2b5481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031840" y="4915080"/>
            <a:ext cx="0" cy="228600"/>
          </a:xfrm>
          <a:prstGeom prst="line">
            <a:avLst/>
          </a:prstGeom>
          <a:ln w="57240">
            <a:solidFill>
              <a:srgbClr val="2b54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235240" y="5657760"/>
            <a:ext cx="0" cy="114480"/>
          </a:xfrm>
          <a:prstGeom prst="line">
            <a:avLst/>
          </a:prstGeom>
          <a:ln w="57240">
            <a:solidFill>
              <a:srgbClr val="2b54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286000" y="6019920"/>
            <a:ext cx="0" cy="266760"/>
          </a:xfrm>
          <a:prstGeom prst="line">
            <a:avLst/>
          </a:prstGeom>
          <a:ln w="57240">
            <a:solidFill>
              <a:srgbClr val="2b54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003366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PROCESO METODOLÓGICO DE LA INVESTIGACIÓN CIENTÍF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-36360" y="-27000"/>
            <a:ext cx="9144000" cy="1576440"/>
            <a:chOff x="-36360" y="-27000"/>
            <a:chExt cx="9144000" cy="1576440"/>
          </a:xfrm>
        </p:grpSpPr>
        <p:pic>
          <p:nvPicPr>
            <p:cNvPr id="285" name="" descr=""/>
            <p:cNvPicPr/>
            <p:nvPr/>
          </p:nvPicPr>
          <p:blipFill>
            <a:blip r:embed="rId1"/>
            <a:srcRect l="33459" t="13071" r="15354" b="37764"/>
            <a:stretch/>
          </p:blipFill>
          <p:spPr>
            <a:xfrm>
              <a:off x="-36360" y="-27000"/>
              <a:ext cx="2411280" cy="15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1582920" y="88920"/>
              <a:ext cx="7524720" cy="1224000"/>
            </a:xfrm>
            <a:prstGeom prst="rect">
              <a:avLst/>
            </a:prstGeom>
            <a:gradFill rotWithShape="0">
              <a:gsLst>
                <a:gs pos="0">
                  <a:srgbClr val="1e1e32"/>
                </a:gs>
                <a:gs pos="100000">
                  <a:srgbClr val="99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63640" y="17280"/>
              <a:ext cx="1368360" cy="13687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050560" y="404280"/>
            <a:ext cx="648180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Formato para la evaluación de exposiciones orales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1403280" y="1700280"/>
          <a:ext cx="6407280" cy="4548240"/>
        </p:xfrm>
        <a:graphic>
          <a:graphicData uri="http://schemas.openxmlformats.org/drawingml/2006/table">
            <a:tbl>
              <a:tblPr/>
              <a:tblGrid>
                <a:gridCol w="2050920"/>
                <a:gridCol w="436680"/>
                <a:gridCol w="434880"/>
                <a:gridCol w="438120"/>
                <a:gridCol w="433440"/>
                <a:gridCol w="435240"/>
                <a:gridCol w="434880"/>
                <a:gridCol w="438120"/>
                <a:gridCol w="434880"/>
                <a:gridCol w="434880"/>
                <a:gridCol w="4352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ombre  del alumn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resentación person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ono de voz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itmo de exposi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ronunci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Dominio de si mism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tiv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ocabulari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Dominio del contenid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enguaje corpor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xplicacion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cursos audiovisu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Organización y coherenc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ntrol del tiemp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nclusiones y/o cier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6:21:05Z</dcterms:created>
  <dc:creator>Gabriel Alvarez</dc:creator>
  <dc:description/>
  <dc:language>en-US</dc:language>
  <cp:lastModifiedBy>aaranda</cp:lastModifiedBy>
  <dcterms:modified xsi:type="dcterms:W3CDTF">2008-04-14T20:24:48Z</dcterms:modified>
  <cp:revision>120</cp:revision>
  <dc:subject/>
  <dc:title>Diapositiva 1</dc:title>
</cp:coreProperties>
</file>