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AE665-133B-4F86-ACC9-AF027C9AC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24861-22A3-487E-96CA-CC29AD2403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22959-408E-4A5E-AB1A-914ADB287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C31AA-E84F-49FA-B11A-1EAFD168B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14090-FE5E-4584-B60A-536ABF17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316CB-D491-4A14-B8C1-8BCAE366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B6D77-834C-42E8-AA7B-9D8318C8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A2B9B-98E5-46BF-A237-4AC1333F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DA0E6-6F9C-459C-9BC6-9AC6C1A0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FD5FD-2295-4A69-A2F2-D8C52AC4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76FAD1-8067-472A-861A-F0176C04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24E45-C937-4287-B0FE-02715103F6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B8628-A0B4-4C69-905E-78915798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29720-ABC6-4226-A802-3B13F92E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EA07A-0D7B-4D92-B1AF-1E4E68F4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643FA-313F-414B-B201-559FB438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FF1AE-CCC3-4951-9EE6-16907636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B799B-073A-40FA-83DA-34C571D03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2143C-0098-4C94-A138-AC05B5AB4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24A7F-13DD-41F8-820B-05E20E811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682B-4A14-410A-AF87-66325097EA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7D396-178B-458C-8C04-589C550A6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A80A6-2B03-45BF-9B85-CC92AF711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A4285-B4F8-4E6A-A0F0-D7A9C19DD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4560" y="6237000"/>
            <a:ext cx="3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14DA-61C6-4D75-B509-91755002A9B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2014-CC49-41F3-99A4-B5920F30116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1052640"/>
            <a:chOff x="0" y="0"/>
            <a:chExt cx="9144000" cy="1052640"/>
          </a:xfrm>
        </p:grpSpPr>
        <p:pic>
          <p:nvPicPr>
            <p:cNvPr id="81" name="" descr=""/>
            <p:cNvPicPr/>
            <p:nvPr/>
          </p:nvPicPr>
          <p:blipFill>
            <a:blip r:embed="rId1"/>
            <a:srcRect l="33459" t="13071" r="15354" b="37764"/>
            <a:stretch/>
          </p:blipFill>
          <p:spPr>
            <a:xfrm>
              <a:off x="0" y="0"/>
              <a:ext cx="241128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619280" y="77400"/>
              <a:ext cx="7524720" cy="817200"/>
            </a:xfrm>
            <a:prstGeom prst="rect">
              <a:avLst/>
            </a:prstGeom>
            <a:gradFill rotWithShape="0">
              <a:gsLst>
                <a:gs pos="0">
                  <a:srgbClr val="1e1e32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00000" y="29520"/>
              <a:ext cx="1368360" cy="91404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835280" y="333360"/>
            <a:ext cx="73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entury Gothic"/>
              </a:rPr>
              <a:t>Esquema del proceso de la investigación cientí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84880" y="120636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noFill/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84880" y="2573280"/>
            <a:ext cx="609480" cy="399960"/>
          </a:xfrm>
          <a:prstGeom prst="rightArrow">
            <a:avLst>
              <a:gd name="adj1" fmla="val 50000"/>
              <a:gd name="adj2" fmla="val 38096"/>
            </a:avLst>
          </a:prstGeom>
          <a:noFill/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16360" y="1206360"/>
            <a:ext cx="2735280" cy="25812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ELECCIÓN DEL T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1120680"/>
            <a:ext cx="3059280" cy="1217160"/>
          </a:xfrm>
          <a:prstGeom prst="rect">
            <a:avLst/>
          </a:prstGeom>
          <a:noFill/>
          <a:ln w="9360">
            <a:solidFill>
              <a:srgbClr val="e5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REVISIÓN BIBLIOGRÁF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CONSULTA A EXPERTOS Y/O ESPECIALIST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OBSERVACIÓN DIRECTA DE 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REALID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14720"/>
            <a:ext cx="2735280" cy="129276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FORMULACIÓN DEL ANTE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ELABORACIÓN DEL PROY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4720" y="2489040"/>
            <a:ext cx="3059280" cy="4448520"/>
          </a:xfrm>
          <a:prstGeom prst="rect">
            <a:avLst/>
          </a:prstGeom>
          <a:noFill/>
          <a:ln w="12600">
            <a:solidFill>
              <a:srgbClr val="e5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PLANTEAMIENTO, FORMULACIÓN Y SISTEMATIZACIÓN 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OBJETIVOS DE LA INVESTIG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JUSTIFICACIÓN DE LA INVESTIG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ANTECEDENTES DE LA INVESTIGACIÓ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TEORÍA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SISTEMA CONCEPTU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HIPÓTESIS, VARIABLES E INDICAD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TIPOS Y NIVELES DE INVESTIGACIÓ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MÉTODOS Y TÉCNICAS DE INVESTIGACIÓ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ÍNDICE DEL CONTENIDO DE LA INVESTIGACIÓ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RECURSOS HUMANOS Y MATERIA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CRONOGRAMA DE ACTIVID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Century Gothic"/>
              </a:rPr>
              <a:t>BIBLIOGRAFÍA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3040" y="4081320"/>
            <a:ext cx="2438640" cy="7855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EJECU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46240" y="3870360"/>
            <a:ext cx="2641680" cy="156924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AMPLIACIÓN DEL MARCO TEÓR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UEBA DE INSTRUMENTOS (ESTUDIO PILOTO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COLECCIÓN DE DATOS (APLICACIÓN DE INSTRUMENTOS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OCESAMIENTO Y ANÁLISIS DE LOS DAT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INTERPRETACIÓN DE LOS RESULTADO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VERIFICACIÓN O FALSEAMIENTO DE LA HIPÓTESI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LABORACIÓN DE CONCLUSION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1349280"/>
            <a:ext cx="304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71640" y="1709640"/>
            <a:ext cx="304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1596960"/>
            <a:ext cx="2735280" cy="45900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DENTIFICACIÓN DE UN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54360" y="2862360"/>
            <a:ext cx="304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41680" y="444672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41680" y="6102360"/>
            <a:ext cx="304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3040" y="5681520"/>
            <a:ext cx="2438640" cy="7855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DIVULG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46240" y="5526000"/>
            <a:ext cx="2641680" cy="113580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DACCIÓN DEL BORRADOR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VISIÓN Y CORREC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ESENTACIÓN DEL INFORME DE INVESTIGACIÓN (MONOGRAFÍA, TRABAJO DE GRADO, TESIS U OTRO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VALUACIÓN DEL TRABAJO ESCRITO Y SU PRESENTACIÓN OR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1349280"/>
            <a:ext cx="0" cy="1513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84360" y="1709640"/>
            <a:ext cx="2872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206360"/>
            <a:ext cx="2408400" cy="7855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Black"/>
              </a:rPr>
              <a:t>PLANIF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44000" cy="1576440"/>
            <a:chOff x="0" y="0"/>
            <a:chExt cx="9144000" cy="157644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rcRect l="33459" t="13071" r="15354" b="37764"/>
            <a:stretch/>
          </p:blipFill>
          <p:spPr>
            <a:xfrm>
              <a:off x="0" y="0"/>
              <a:ext cx="241128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619280" y="115920"/>
              <a:ext cx="7524720" cy="1224000"/>
            </a:xfrm>
            <a:prstGeom prst="rect">
              <a:avLst/>
            </a:prstGeom>
            <a:gradFill rotWithShape="0">
              <a:gsLst>
                <a:gs pos="0">
                  <a:srgbClr val="1e1e32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0000" y="44280"/>
              <a:ext cx="1368360" cy="13687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484360" y="260280"/>
            <a:ext cx="66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nterrogantes que debe tener en cuenta quien inicia un proceso de investig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752480"/>
            <a:ext cx="4248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Qué estudiar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Cuál es la situación actual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Cuáles son las preguntas de investigación que deben ser respondida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Qué propósitos tiene la investigación que se plantea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Cuáles son los motivos para hacer el estudio propuesto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Quiénes han investigado anteriormente sobre el tema planteado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Qué se pretende probar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Cómo se va a realizar la investigación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A qué fuentes escritas se va a referir el investigador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Qué recursos se necesitan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¿Cuánto tiempo va a emplear en hacer el estudio propuesto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1773360"/>
            <a:ext cx="3816360" cy="51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Definición del tema de 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Planteamiento del probl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Formulación y sistematización del problema de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Objetivos de la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Justific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Marco teór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Hipóte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Aspectos metodológico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Bibliograf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Presupues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Cronogr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0" y="0"/>
            <a:ext cx="9144000" cy="981000"/>
            <a:chOff x="0" y="0"/>
            <a:chExt cx="9144000" cy="98100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rcRect l="33459" t="13071" r="15354" b="37764"/>
            <a:stretch/>
          </p:blipFill>
          <p:spPr>
            <a:xfrm>
              <a:off x="0" y="0"/>
              <a:ext cx="241128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619280" y="72000"/>
              <a:ext cx="7524720" cy="761760"/>
            </a:xfrm>
            <a:prstGeom prst="rect">
              <a:avLst/>
            </a:prstGeom>
            <a:gradFill rotWithShape="0">
              <a:gsLst>
                <a:gs pos="0">
                  <a:srgbClr val="1e1e32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00000" y="27360"/>
              <a:ext cx="1368360" cy="851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332000" y="260280"/>
            <a:ext cx="75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Estructura del Proyecto de Investigación Juríd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2400" y="1011240"/>
            <a:ext cx="4484880" cy="64764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6153120"/>
            <a:ext cx="3651120" cy="5158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BIBLIOGRAFÍA , ANEXOS , APÉNDI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4720" y="1628640"/>
            <a:ext cx="4484520" cy="11494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1.1) Planteamiento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1.2) Formula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1.3) Sistematiza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1.4) Objetivos de Investigació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1.5) Justifica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1658880"/>
            <a:ext cx="3651120" cy="11494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CAPÍTULO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L PROBL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2400" y="5106960"/>
            <a:ext cx="4484880" cy="1046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4.1)  Índice del contenido del trabaj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4.2)  Recursos: humanos, materiales y financieros emplead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4.3) Cronograma de activid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5106960"/>
            <a:ext cx="3651120" cy="104616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PÍTULO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SPECTOS ADMINISTRATIV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2400" y="3957480"/>
            <a:ext cx="4484880" cy="11494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3.1) Tipos  y niveles de investig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3.2) métodos de investig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3.3) Población y muestra (*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3.4) Técnicas e instrumentos de recolección de da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3.5) Tratamiento de la inform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957480"/>
            <a:ext cx="3651120" cy="114948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PITUL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L MARCO METODOLÓG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62400" y="2808360"/>
            <a:ext cx="4484880" cy="1149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2.1) Antecedentes de la investig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2.2) Bases teóric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2.3) Definición de términ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2.4) Hipót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2.5) Variables e indicad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2808360"/>
            <a:ext cx="3651120" cy="1149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CAPITULO 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L MARCO TEÓR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011240"/>
            <a:ext cx="3651120" cy="64764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TITULO TENTATIV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INTRODUC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2808360"/>
            <a:ext cx="81360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3957480"/>
            <a:ext cx="81360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5106960"/>
            <a:ext cx="81360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1658880"/>
            <a:ext cx="81360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6153120"/>
            <a:ext cx="81360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2400" y="1011240"/>
            <a:ext cx="0" cy="565776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011240"/>
            <a:ext cx="8136000" cy="0"/>
          </a:xfrm>
          <a:prstGeom prst="line">
            <a:avLst/>
          </a:prstGeom>
          <a:ln cap="sq"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1011240"/>
            <a:ext cx="0" cy="5657760"/>
          </a:xfrm>
          <a:prstGeom prst="line">
            <a:avLst/>
          </a:prstGeom>
          <a:ln cap="sq"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747280" y="1011240"/>
            <a:ext cx="0" cy="5657760"/>
          </a:xfrm>
          <a:prstGeom prst="line">
            <a:avLst/>
          </a:prstGeom>
          <a:ln cap="sq"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6669000"/>
            <a:ext cx="8136000" cy="0"/>
          </a:xfrm>
          <a:prstGeom prst="line">
            <a:avLst/>
          </a:prstGeom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27640" y="6237360"/>
            <a:ext cx="424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* Esta parte se omite en los proyectos de investigación documen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6669000"/>
            <a:ext cx="8137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716360" y="5013360"/>
            <a:ext cx="4248360" cy="86364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6360" y="3716280"/>
            <a:ext cx="4248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2421000"/>
            <a:ext cx="3816360" cy="4316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925720"/>
            <a:ext cx="3816360" cy="17272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4724280"/>
            <a:ext cx="3816360" cy="1727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1917720"/>
            <a:ext cx="3816360" cy="431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16360" y="1916280"/>
            <a:ext cx="4248360" cy="1726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2035080"/>
            <a:ext cx="3708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Century Gothic"/>
              </a:rPr>
              <a:t>TÍTULO TENTATIV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INTRODUC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CAPÍTULO 1: EL PROBLEM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1 Planteamiento del problem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2 Formulación del probl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3 Sistematización del probl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4 Objetivos de la investigación (general y específico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5 Justificación de la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1.6 Limitaciones de la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CAPÍTULO 2: EL MARCO TEÓRIC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2.1 Antecedentes de la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2.1 Bases teór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2.3 Definición de términos ( Sistema Conceptual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2.4 Hipóte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2.5 Variables e indicad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440240"/>
            <a:ext cx="91440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56760" rIns="811080" tIns="4680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1314360"/>
            <a:ext cx="609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0"/>
            <a:ext cx="9144000" cy="1576440"/>
            <a:chOff x="0" y="0"/>
            <a:chExt cx="9144000" cy="157644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rcRect l="33459" t="13071" r="15354" b="37764"/>
            <a:stretch/>
          </p:blipFill>
          <p:spPr>
            <a:xfrm>
              <a:off x="0" y="0"/>
              <a:ext cx="241128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619280" y="115920"/>
              <a:ext cx="7524720" cy="1224000"/>
            </a:xfrm>
            <a:prstGeom prst="rect">
              <a:avLst/>
            </a:prstGeom>
            <a:gradFill rotWithShape="0">
              <a:gsLst>
                <a:gs pos="0">
                  <a:srgbClr val="1e1e32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00000" y="44280"/>
              <a:ext cx="1368360" cy="13687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908000" y="260280"/>
            <a:ext cx="72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structura del proyecto de investigación jurídic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84720" y="1965240"/>
            <a:ext cx="399564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CAPÍTULO 3: EL MARCO METODOLÓG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3.1 Tipos y niveles de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3.2 Métodos de investig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3.3 Población y muestra (*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3.4 Técnicas e instrumentos de recolección de da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3.5 Tratamiento de la inform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CAPÍTULO 4: ASPECTOS ADMINISTRATIVOS</a:t>
            </a: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4.1 Índice del contenido del trabaj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4.2 Recursos: humanos, materiales y financieros emplead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entury Gothic"/>
              </a:rPr>
              <a:t>4.3 Cronograma de activida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BIBLIOGRAF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ANEX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APÉNDI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Century Gothic"/>
              </a:rPr>
              <a:t>(*) </a:t>
            </a:r>
            <a:r>
              <a:rPr b="0" i="1" lang="es-MX" sz="1400" spc="-1" strike="noStrike">
                <a:solidFill>
                  <a:srgbClr val="ffffff"/>
                </a:solidFill>
                <a:latin typeface="Century Gothic"/>
              </a:rPr>
              <a:t>Esta parte se omite en los proyectos de investigación document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916280"/>
            <a:ext cx="431640" cy="45370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1916280"/>
            <a:ext cx="432000" cy="45370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206064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249228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6200" y="357336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5214960"/>
            <a:ext cx="3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2492280"/>
            <a:ext cx="3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88000" y="4005360"/>
            <a:ext cx="3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61080" y="530064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836640"/>
            <a:ext cx="9196560" cy="6021360"/>
            <a:chOff x="0" y="836640"/>
            <a:chExt cx="9196560" cy="6021360"/>
          </a:xfrm>
        </p:grpSpPr>
        <p:sp>
          <p:nvSpPr>
            <p:cNvPr id="166" name=""/>
            <p:cNvSpPr/>
            <p:nvPr/>
          </p:nvSpPr>
          <p:spPr>
            <a:xfrm>
              <a:off x="4140360" y="836640"/>
              <a:ext cx="3024000" cy="60213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836640"/>
              <a:ext cx="9144000" cy="720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3400" y="1015920"/>
              <a:ext cx="285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 Black"/>
                </a:rPr>
                <a:t>PASOS A DA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87920" y="966960"/>
              <a:ext cx="211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 Black"/>
                </a:rPr>
                <a:t>REQUISITOS QUE SE HAN DE TOMA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164360" y="909000"/>
              <a:ext cx="2032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ffffff"/>
                  </a:solidFill>
                  <a:latin typeface="Arial Black"/>
                </a:rPr>
                <a:t>MEDIOS Y FUENTES QUE AYUDAN A CUMPLIR LO ANTERIO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8440" y="2184480"/>
              <a:ext cx="1930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6920" y="2241720"/>
              <a:ext cx="1930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140360" y="836640"/>
              <a:ext cx="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164360" y="836640"/>
              <a:ext cx="0" cy="72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4360" y="1557360"/>
              <a:ext cx="1979640" cy="5300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4360" y="25653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Arial Black"/>
              </a:rPr>
              <a:t>FUENTES DEL PROBL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773360"/>
            <a:ext cx="3780000" cy="642600"/>
          </a:xfrm>
          <a:prstGeom prst="rect">
            <a:avLst/>
          </a:prstGeom>
          <a:solidFill>
            <a:srgbClr val="ffcc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</a:rPr>
              <a:t>DETERMINACIÓN DEL PROBL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3645000"/>
            <a:ext cx="417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Arial Black"/>
              </a:rPr>
              <a:t>ELECCIÓN DEL PROBL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458136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Arial Black"/>
              </a:rPr>
              <a:t>LA DEFINICIÓN DEL PROBL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5805360"/>
            <a:ext cx="41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cc66"/>
                </a:solidFill>
                <a:latin typeface="Arial Black"/>
              </a:rPr>
              <a:t>LA DOCUMENT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4720" y="227664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Establecer primero el tipo de investigación que se desea ejecut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78440" y="1714680"/>
            <a:ext cx="193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76920" y="2114640"/>
            <a:ext cx="1930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1771560"/>
            <a:ext cx="193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33459" t="13071" r="15354" b="37764"/>
          <a:stretch/>
        </p:blipFill>
        <p:spPr>
          <a:xfrm>
            <a:off x="0" y="0"/>
            <a:ext cx="1258920" cy="822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211640" y="3429000"/>
            <a:ext cx="28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Hay que elegir un problema que sea </a:t>
            </a:r>
            <a:r>
              <a:rPr b="1" i="1" lang="es-MX" sz="1200" spc="-1" strike="noStrike">
                <a:solidFill>
                  <a:srgbClr val="000000"/>
                </a:solidFill>
                <a:latin typeface="Century Gothic"/>
              </a:rPr>
              <a:t>relevante</a:t>
            </a: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, y que sea </a:t>
            </a:r>
            <a:r>
              <a:rPr b="1" i="1" lang="es-MX" sz="1200" spc="-1" strike="noStrike">
                <a:solidFill>
                  <a:srgbClr val="000000"/>
                </a:solidFill>
                <a:latin typeface="Century Gothic"/>
              </a:rPr>
              <a:t>posible de investigar</a:t>
            </a: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 con los medios que se disp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21280" y="4508640"/>
            <a:ext cx="304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Ha de ser definido operativamente de manera que sea </a:t>
            </a:r>
            <a:r>
              <a:rPr b="1" i="1" lang="es-MX" sz="1200" spc="-1" strike="noStrike">
                <a:solidFill>
                  <a:srgbClr val="000000"/>
                </a:solidFill>
                <a:latin typeface="Century Gothic"/>
              </a:rPr>
              <a:t>resoluble, </a:t>
            </a: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formulándolo en forma de pregun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56000" y="5651640"/>
            <a:ext cx="272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Hay que revisar toda la </a:t>
            </a:r>
            <a:r>
              <a:rPr b="1" i="1" lang="es-MX" sz="1400" spc="-1" strike="noStrike">
                <a:solidFill>
                  <a:srgbClr val="000000"/>
                </a:solidFill>
                <a:latin typeface="Century Gothic"/>
              </a:rPr>
              <a:t>información</a:t>
            </a: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 que existía sobre el proble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01080" y="2298600"/>
            <a:ext cx="19429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Century Gothic"/>
              </a:rPr>
              <a:t>Fuentes directas:</a:t>
            </a: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 Las teorías. La vida diar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Century Gothic"/>
              </a:rPr>
              <a:t>Fuentes indirectas:</a:t>
            </a: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 los trabajos anterio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36000" y="3429000"/>
            <a:ext cx="19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Leer, escuchar y trabajar críticamente. Atender lo anómalo e incongruen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78760" y="5589720"/>
            <a:ext cx="193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e cuenta con los medios  y fuentes de documentación e informació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48520" y="4581360"/>
            <a:ext cx="19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Formular el problema con precisión y específi-camen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2276640"/>
            <a:ext cx="8532720" cy="93636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3357720"/>
            <a:ext cx="8532720" cy="93636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4437000"/>
            <a:ext cx="8532720" cy="93672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5516640"/>
            <a:ext cx="8532720" cy="93672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24000" y="260280"/>
            <a:ext cx="7020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99ff"/>
                </a:solidFill>
                <a:latin typeface="Century Gothic"/>
              </a:rPr>
              <a:t>PROCESO METODOLÓGICO DE LA INVESTIGACIÓN CIENTÍ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44280"/>
            <a:ext cx="714240" cy="694080"/>
          </a:xfrm>
          <a:prstGeom prst="ellipse">
            <a:avLst/>
          </a:prstGeom>
          <a:solidFill>
            <a:srgbClr val="ffffff">
              <a:alpha val="30000"/>
            </a:srgbClr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320840" y="5143680"/>
            <a:ext cx="2031840" cy="514080"/>
          </a:xfrm>
          <a:prstGeom prst="flowChartPreparation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040" y="1314360"/>
            <a:ext cx="2235240" cy="157068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DETERMINA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40160" y="1314360"/>
            <a:ext cx="2133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FUENTES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676520"/>
            <a:ext cx="2133720" cy="45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ELEC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14600" y="2133720"/>
            <a:ext cx="2133720" cy="45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LA DEFINICIÓN DEL PROBLE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590920"/>
            <a:ext cx="2133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LA DOCUMENT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03040" y="3029040"/>
            <a:ext cx="2235240" cy="101484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CREACIÓN DE LA HIPÓT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4600" y="3029040"/>
            <a:ext cx="2133720" cy="45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CREACIÓN DE LA HIPÓTESIS DEL TRABAJ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3505320"/>
            <a:ext cx="2133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3962520"/>
            <a:ext cx="2235240" cy="45900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COMPROBACIÓN DE LA HIPÓT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886200"/>
            <a:ext cx="2133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LA REALIZ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14600" y="4191120"/>
            <a:ext cx="213372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EL ANÁLI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3040" y="4572000"/>
            <a:ext cx="2235240" cy="27648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ANÁLISIS DE RESULTAD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40160" y="4572000"/>
            <a:ext cx="2133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DISCUS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40160" y="4857840"/>
            <a:ext cx="21333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457200"/>
            <a:ext cx="2031840" cy="30708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PASOS A D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95280" y="5181480"/>
            <a:ext cx="2260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imes New Roman"/>
              </a:rPr>
              <a:t>NUEVOS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imes New Roman"/>
              </a:rPr>
              <a:t>CONOCIMIE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772240"/>
            <a:ext cx="3505320" cy="27648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REDACCIÓN DEL INFORME FIN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6248520"/>
            <a:ext cx="3251160" cy="276480"/>
          </a:xfrm>
          <a:prstGeom prst="rect">
            <a:avLst/>
          </a:prstGeom>
          <a:solidFill>
            <a:srgbClr val="2b54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PUBLIC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3720" y="800280"/>
            <a:ext cx="274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Times New Roman"/>
              </a:rPr>
              <a:t>DESEO DE OBTENER NUEVOS CONOCIMIENT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35240" y="800280"/>
            <a:ext cx="2539800" cy="495000"/>
          </a:xfrm>
          <a:prstGeom prst="downArrowCallout">
            <a:avLst>
              <a:gd name="adj1" fmla="val 128284"/>
              <a:gd name="adj2" fmla="val 128273"/>
              <a:gd name="adj3" fmla="val 16667"/>
              <a:gd name="adj4" fmla="val 6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76920" y="457200"/>
            <a:ext cx="0" cy="5886360"/>
          </a:xfrm>
          <a:prstGeom prst="line">
            <a:avLst/>
          </a:prstGeom>
          <a:ln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978440" y="457200"/>
            <a:ext cx="1828800" cy="36828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Times New Roman"/>
              </a:rPr>
              <a:t>REQUISITOS QUE SE HAN DE TOM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743040"/>
            <a:ext cx="9144000" cy="0"/>
          </a:xfrm>
          <a:prstGeom prst="line">
            <a:avLst/>
          </a:prstGeom>
          <a:ln w="284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08760" y="457200"/>
            <a:ext cx="0" cy="5886360"/>
          </a:xfrm>
          <a:prstGeom prst="line">
            <a:avLst/>
          </a:prstGeom>
          <a:ln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10280" y="380520"/>
            <a:ext cx="2032200" cy="33732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Times New Roman"/>
              </a:rPr>
              <a:t>MEDIOS Y FUENTES QUE AYUDAN A CUMPLIR LO ANTERIO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78440" y="131436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Establecer primero el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tipo de investigación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que se desea ejecuta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78440" y="1714680"/>
            <a:ext cx="1930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2114640"/>
            <a:ext cx="1930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1771560"/>
            <a:ext cx="1930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78440" y="165744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Hay que elegir un problema que se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relevante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, y que se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posible de investigar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con los medios que se dispon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78440" y="2114640"/>
            <a:ext cx="193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Ha de ser definido operativamente de manera que se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resoluble, 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formulándolo en forma de pregunt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78440" y="25718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Hay que revisar toda l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información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que existía sobre el problem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78440" y="3029040"/>
            <a:ext cx="1930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78440" y="30290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Que sean muy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precisas y susceptibles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de verific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1828800"/>
            <a:ext cx="1930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78440" y="34862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Que esté en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relación con las hipótesis y objetivo de la investig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78440" y="39434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Aplicar 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estrictamente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lo indicado en el diseñ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78440" y="4286160"/>
            <a:ext cx="193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Aplicar las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 técnicas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adecuad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78440" y="457200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Comparar los resultados con l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hipótesis de trabajo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, y ver si se pueden generaliza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79960" y="491508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Comparar los resultados con la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teoría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y extraer las consecuenci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73520" y="13716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73520" y="17715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73520" y="217188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73520" y="26859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73520" y="31431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73520" y="36576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73520" y="40575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73520" y="43434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73520" y="468648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73520" y="49719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08760" y="13716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13680" y="1143000"/>
            <a:ext cx="172728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Fuentes directas: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Las teorías. La vida diari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Fuentes indirectas: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 los trabajos anteriores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13680" y="16574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Leer, escuchar y trabajar críticamente. Atender lo anómalo e incongruente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213680" y="257184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Se cuenta con los medios  y fuentes de documentación e información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13680" y="205740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Formular el problema con precisión y específicamente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302904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El conocimiento de la realidad investigada, el dominio de la teoría y la cultura científica gener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15200" y="3543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Tener en cuenta los diversos diseños que existe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3943440"/>
            <a:ext cx="1828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Planific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Experimento pilot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315200" y="42861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Los tipos de análisis estadísticos, lingüísticos, documentales, etc..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15200" y="462924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Los conceptos de 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Hipótesis nula </a:t>
            </a: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i="1" lang="es-MX" sz="800" spc="-1" strike="noStrike">
                <a:solidFill>
                  <a:srgbClr val="ffffff"/>
                </a:solidFill>
                <a:latin typeface="Times New Roman"/>
              </a:rPr>
              <a:t> Hipótesis alternativ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15200" y="49150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ffffff"/>
                </a:solidFill>
                <a:latin typeface="Times New Roman"/>
              </a:rPr>
              <a:t>Las teorías de partida y los resultados de otros investigadores (Documentación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08760" y="17715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908760" y="217188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08760" y="26859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08760" y="31431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08760" y="36576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08760" y="40575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08760" y="434340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908760" y="468648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908760" y="4971960"/>
            <a:ext cx="304920" cy="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35240" y="1486080"/>
            <a:ext cx="507960" cy="56880"/>
          </a:xfrm>
          <a:prstGeom prst="leftRightArrow">
            <a:avLst>
              <a:gd name="adj1" fmla="val 50000"/>
              <a:gd name="adj2" fmla="val 177780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35240" y="188604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35240" y="228600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35240" y="268596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35240" y="325764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35240" y="365760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35240" y="411480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5240" y="428616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35240" y="462924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35240" y="4857840"/>
            <a:ext cx="507960" cy="57240"/>
          </a:xfrm>
          <a:prstGeom prst="leftRightArrow">
            <a:avLst>
              <a:gd name="adj1" fmla="val 50000"/>
              <a:gd name="adj2" fmla="val 176662"/>
            </a:avLst>
          </a:prstGeom>
          <a:solidFill>
            <a:srgbClr val="2b5481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31840" y="4915080"/>
            <a:ext cx="0" cy="228600"/>
          </a:xfrm>
          <a:prstGeom prst="line">
            <a:avLst/>
          </a:prstGeom>
          <a:ln w="57240">
            <a:solidFill>
              <a:srgbClr val="2b54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235240" y="5657760"/>
            <a:ext cx="0" cy="114480"/>
          </a:xfrm>
          <a:prstGeom prst="line">
            <a:avLst/>
          </a:prstGeom>
          <a:ln w="57240">
            <a:solidFill>
              <a:srgbClr val="2b54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6019920"/>
            <a:ext cx="0" cy="266760"/>
          </a:xfrm>
          <a:prstGeom prst="line">
            <a:avLst/>
          </a:prstGeom>
          <a:ln w="57240">
            <a:solidFill>
              <a:srgbClr val="2b54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solidFill>
            <a:srgbClr val="003366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PROCESO METODOLÓGICO DE LA INVESTIGACIÓN CIENTÍ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-36360" y="-27000"/>
            <a:ext cx="9144000" cy="1576440"/>
            <a:chOff x="-36360" y="-27000"/>
            <a:chExt cx="9144000" cy="1576440"/>
          </a:xfrm>
        </p:grpSpPr>
        <p:pic>
          <p:nvPicPr>
            <p:cNvPr id="285" name="" descr=""/>
            <p:cNvPicPr/>
            <p:nvPr/>
          </p:nvPicPr>
          <p:blipFill>
            <a:blip r:embed="rId1"/>
            <a:srcRect l="33459" t="13071" r="15354" b="37764"/>
            <a:stretch/>
          </p:blipFill>
          <p:spPr>
            <a:xfrm>
              <a:off x="-36360" y="-27000"/>
              <a:ext cx="241128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1582920" y="88920"/>
              <a:ext cx="7524720" cy="1224000"/>
            </a:xfrm>
            <a:prstGeom prst="rect">
              <a:avLst/>
            </a:prstGeom>
            <a:gradFill rotWithShape="0">
              <a:gsLst>
                <a:gs pos="0">
                  <a:srgbClr val="1e1e32"/>
                </a:gs>
                <a:gs pos="100000">
                  <a:srgbClr val="99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3640" y="17280"/>
              <a:ext cx="1368360" cy="13687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0560" y="404280"/>
            <a:ext cx="64818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ormato para la evaluación de exposiciones orales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403280" y="1700280"/>
          <a:ext cx="6407280" cy="4548240"/>
        </p:xfrm>
        <a:graphic>
          <a:graphicData uri="http://schemas.openxmlformats.org/drawingml/2006/table">
            <a:tbl>
              <a:tblPr/>
              <a:tblGrid>
                <a:gridCol w="2050920"/>
                <a:gridCol w="436680"/>
                <a:gridCol w="434880"/>
                <a:gridCol w="438120"/>
                <a:gridCol w="433440"/>
                <a:gridCol w="435240"/>
                <a:gridCol w="434880"/>
                <a:gridCol w="438120"/>
                <a:gridCol w="434880"/>
                <a:gridCol w="434880"/>
                <a:gridCol w="4352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ombre  del alum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esentación person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ono de vo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itmo de exposi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onunci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ominio de si mism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tiv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Vocabular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ominio del contenid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enguaje corpo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xplic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cursos audiovis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Organización y coher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trol del tiemp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clusiones y/o cier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2b548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6:21:05Z</dcterms:created>
  <dc:creator>Gabriel Alvarez</dc:creator>
  <dc:description/>
  <dc:language>en-US</dc:language>
  <cp:lastModifiedBy>aaranda</cp:lastModifiedBy>
  <dcterms:modified xsi:type="dcterms:W3CDTF">2008-04-14T20:24:48Z</dcterms:modified>
  <cp:revision>120</cp:revision>
  <dc:subject/>
  <dc:title>Diapositiva 1</dc:title>
</cp:coreProperties>
</file>