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3863-5291-4267-9D2E-9DBBD810B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EEAE-89FD-4EF2-8F64-1E1A4E770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CC5E-A932-464E-B0FF-73C67EDDB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7094-BC23-4989-9D9A-F909437EF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9BA35-E8B0-44CF-9037-F7B1FF82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220E0-9860-43AB-852A-DBFF819A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422AD-3129-4A43-88F3-82E91DCB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3037C-8652-4E73-8C1D-11D8B8CF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F2363-FA0A-4522-A593-984EAA8B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CBEF9-8B7B-4258-8806-C3CE025A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66D15-88B4-4CCC-9D67-2089FDF1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97A6-A6DF-4B5C-B626-BEBC343F1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3E213-2257-4F34-AAB6-DE329B56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02A53-3B77-4B17-A7DE-74454CCA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7FCA8-5A73-4C40-8BD1-99DC93F4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AC0E3-5D8D-4F34-B447-E17A4B85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C7B90-E894-4968-9B02-C59F6014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DF9C-698D-426A-8D9F-532958117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288B-222C-4284-A5A4-D63327F26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67DF-A75A-4000-8802-351F63553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D4D3-D5F0-4454-B16E-5F4B287FA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6BDC-7630-46C2-AB88-1FCB16321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7336-132F-4988-818E-DD6C58153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AAF0-77E5-4149-B2C8-A7CF86B61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4560" y="6237000"/>
            <a:ext cx="3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C77-16F4-4270-8A78-6F5B65DAFB9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1D11-7ACB-4CC2-B8E6-04317186636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1052640"/>
            <a:chOff x="0" y="0"/>
            <a:chExt cx="9144000" cy="105264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619280" y="77400"/>
              <a:ext cx="7524720" cy="8172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00000" y="29520"/>
              <a:ext cx="1368360" cy="9140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835280" y="33336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squema del proceso de la investigación cientí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1576440"/>
            <a:chOff x="0" y="0"/>
            <a:chExt cx="9144000" cy="15764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619280" y="115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0000" y="44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484360" y="260280"/>
            <a:ext cx="66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nterrogantes que debe tener en cuenta quien inicia un proceso de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752480"/>
            <a:ext cx="4248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estudia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 es la situación actual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es son las preguntas de investigación que deben ser respondida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propósitos tiene la investigación que se plantea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es son los motivos para hacer el estudio propuest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iénes han investigado anteriormente sobre el tema plantead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se pretende proba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ómo se va a realizar la investigació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A qué fuentes escritas se va a referir el investigado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recursos se necesita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nto tiempo va a emplear en hacer el estudio propuest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1773360"/>
            <a:ext cx="3816360" cy="51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Definición del tema de 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lanteamiento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ormulación y sistematización del problema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Objetivo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st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arco te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Hipó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spectos metodológic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resupues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Cronogr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4000" cy="981000"/>
            <a:chOff x="0" y="0"/>
            <a:chExt cx="9144000" cy="9810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619280" y="72000"/>
              <a:ext cx="7524720" cy="76176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0000" y="27360"/>
              <a:ext cx="1368360" cy="851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000" y="26028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structura del Proyecto de Investigación 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1628640"/>
            <a:ext cx="44845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PITUL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PITULO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TITULO TENTA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716360" y="5013360"/>
            <a:ext cx="4248360" cy="86364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3716280"/>
            <a:ext cx="4248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421000"/>
            <a:ext cx="3816360" cy="4316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925720"/>
            <a:ext cx="3816360" cy="17272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724280"/>
            <a:ext cx="3816360" cy="1727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917720"/>
            <a:ext cx="381636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1916280"/>
            <a:ext cx="4248360" cy="172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035080"/>
            <a:ext cx="370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entury Gothic"/>
              </a:rPr>
              <a:t>TÍTULO TENTA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INTRODUC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1: EL PROBLE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1 Planteamiento del proble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2 Formulación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3 Sistematización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4 Objetivos de la investigación (general y específic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5 Justificación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6 Limitacione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2: EL MARCO TEÓRI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1 Antecedente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1 Bases teór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3 Definición de términos ( Sistema Conceptu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4 Hipó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5 Variables e 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40240"/>
            <a:ext cx="914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760" rIns="811080" tIns="4680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314360"/>
            <a:ext cx="609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1576440"/>
            <a:chOff x="0" y="0"/>
            <a:chExt cx="9144000" cy="15764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619280" y="115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000" y="44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908000" y="260280"/>
            <a:ext cx="72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structura del proyecto de investigación jurídic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1965240"/>
            <a:ext cx="399564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3: EL MARCO METODOLÓG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1 Tipos y niveles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2 Métodos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3 Población y muestra (*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4 Técnicas e instrumentos de recolección de da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5 Tratamiento de la inform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4: ASPECTOS ADMINISTRATIVOS</a:t>
            </a: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1 Índice del contenido del traba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2 Recursos: humanos, materiales y financieros emplead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3 Cronograma de 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entury Gothic"/>
              </a:rPr>
              <a:t>(*) </a:t>
            </a: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Esta parte se omite en los proyectos de investigación document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916280"/>
            <a:ext cx="431640" cy="4537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916280"/>
            <a:ext cx="432000" cy="4537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06064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49228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200" y="35733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2149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49228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400536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61080" y="530064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836640"/>
            <a:ext cx="9196560" cy="6021360"/>
            <a:chOff x="0" y="836640"/>
            <a:chExt cx="9196560" cy="6021360"/>
          </a:xfrm>
        </p:grpSpPr>
        <p:sp>
          <p:nvSpPr>
            <p:cNvPr id="166" name=""/>
            <p:cNvSpPr/>
            <p:nvPr/>
          </p:nvSpPr>
          <p:spPr>
            <a:xfrm>
              <a:off x="4140360" y="836640"/>
              <a:ext cx="3024000" cy="6021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836640"/>
              <a:ext cx="9144000" cy="720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400" y="1015920"/>
              <a:ext cx="285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 Black"/>
                </a:rPr>
                <a:t>PASOS A D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7920" y="966960"/>
              <a:ext cx="211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 Black"/>
                </a:rPr>
                <a:t>REQUISITOS QUE SE HAN DE TOM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4360" y="909000"/>
              <a:ext cx="2032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ffffff"/>
                  </a:solidFill>
                  <a:latin typeface="Arial Black"/>
                </a:rPr>
                <a:t>MEDIOS Y FUENTES QUE AYUDAN A CUMPLIR LO ANTERIO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8440" y="2184480"/>
              <a:ext cx="1930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2241720"/>
              <a:ext cx="1930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140360" y="83664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64360" y="83664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1557360"/>
              <a:ext cx="1979640" cy="5300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4360" y="2565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FUENTES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773360"/>
            <a:ext cx="37800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DETERMINACIÓN DEL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645000"/>
            <a:ext cx="41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ELECCIÓN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4581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LA DEFINICIÓN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5805360"/>
            <a:ext cx="41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LA DOCU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227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Establecer primero el tipo de investigación que se desea ejecut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78440" y="1714680"/>
            <a:ext cx="193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2114640"/>
            <a:ext cx="193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1771560"/>
            <a:ext cx="19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33459" t="13071" r="15354" b="37764"/>
          <a:stretch/>
        </p:blipFill>
        <p:spPr>
          <a:xfrm>
            <a:off x="0" y="0"/>
            <a:ext cx="1258920" cy="82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11640" y="342900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ay que elegir un problema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relevante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, y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posible de investigar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con los medios que se disp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21280" y="4508640"/>
            <a:ext cx="30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a de ser definido operativamente de manera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resoluble, 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ándolo en forma de pregun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5651640"/>
            <a:ext cx="272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Hay que revisar toda la </a:t>
            </a:r>
            <a:r>
              <a:rPr b="1" i="1" lang="es-MX" sz="1400" spc="-1" strike="noStrike">
                <a:solidFill>
                  <a:srgbClr val="000000"/>
                </a:solidFill>
                <a:latin typeface="Century Gothic"/>
              </a:rPr>
              <a:t>información</a:t>
            </a: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 que existía sobre 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01080" y="2298600"/>
            <a:ext cx="1942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Century Gothic"/>
              </a:rPr>
              <a:t>Fuentes directas: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Las teorías. La vida dia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Century Gothic"/>
              </a:rPr>
              <a:t>Fuentes indirectas: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los trabajos anteri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3429000"/>
            <a:ext cx="19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Leer, escuchar y trabajar críticamente. Atender lo anómalo e incongruen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78760" y="5589720"/>
            <a:ext cx="193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 cuenta con los medios  y fuentes de documentación e informa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8520" y="4581360"/>
            <a:ext cx="19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r el problema con precisión y específi-camen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276640"/>
            <a:ext cx="8532720" cy="9363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3357720"/>
            <a:ext cx="8532720" cy="9363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437000"/>
            <a:ext cx="8532720" cy="9367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5516640"/>
            <a:ext cx="8532720" cy="9367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260280"/>
            <a:ext cx="7020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ff"/>
                </a:solidFill>
                <a:latin typeface="Century Gothic"/>
              </a:rPr>
              <a:t>PROCESO METODOLÓGICO DE LA INVESTIGACIÓN CIENTÍ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44280"/>
            <a:ext cx="714240" cy="694080"/>
          </a:xfrm>
          <a:prstGeom prst="ellipse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20840" y="5143680"/>
            <a:ext cx="2031840" cy="514080"/>
          </a:xfrm>
          <a:prstGeom prst="flowChartPreparation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040" y="1314360"/>
            <a:ext cx="2235240" cy="15706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DETERMIN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0160" y="131436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FUENTES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67652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ELEC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13372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DEFINI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5909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DOCUMENT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3040" y="3029040"/>
            <a:ext cx="2235240" cy="101484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REACIÓN DE LA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302904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REACIÓN DE LA HIPÓTESIS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35053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962520"/>
            <a:ext cx="2235240" cy="4590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OMPROBACIÓN DE LA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88620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REALIZ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41911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EL ANÁLI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4572000"/>
            <a:ext cx="223524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ANÁLISIS DE RESULT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40160" y="457200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DISCUS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40160" y="485784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457200"/>
            <a:ext cx="2031840" cy="3070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SOS A D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5181480"/>
            <a:ext cx="226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</a:rPr>
              <a:t>NUEVO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</a:rPr>
              <a:t>CONOC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772240"/>
            <a:ext cx="350532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REDACCIÓN DEL INFORME FI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6248520"/>
            <a:ext cx="325116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PUBLI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800280"/>
            <a:ext cx="27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DESEO DE OBTENER NUEVOS CONOC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35240" y="800280"/>
            <a:ext cx="2539800" cy="495000"/>
          </a:xfrm>
          <a:prstGeom prst="downArrowCallout">
            <a:avLst>
              <a:gd name="adj1" fmla="val 128284"/>
              <a:gd name="adj2" fmla="val 128273"/>
              <a:gd name="adj3" fmla="val 16667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57200"/>
            <a:ext cx="0" cy="5886360"/>
          </a:xfrm>
          <a:prstGeom prst="line">
            <a:avLst/>
          </a:prstGeom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78440" y="457200"/>
            <a:ext cx="1828800" cy="3682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Times New Roman"/>
              </a:rPr>
              <a:t>REQUISITOS QUE SE HAN DE TOM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43040"/>
            <a:ext cx="91440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08760" y="457200"/>
            <a:ext cx="0" cy="5886360"/>
          </a:xfrm>
          <a:prstGeom prst="line">
            <a:avLst/>
          </a:prstGeom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380520"/>
            <a:ext cx="2032200" cy="3373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imes New Roman"/>
              </a:rPr>
              <a:t>MEDIOS Y FUENTES QUE AYUDAN A CUMPLIR LO ANTERI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78440" y="131436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stablecer primero el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tipo de investigación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que se desea ejecut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78440" y="171468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211464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177156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78440" y="16574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y que elegir un problema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levante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, y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posible de investigar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con los medios que se dispon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78440" y="21146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 de ser definido operativamente de manera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soluble, 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formulándolo en forma de pregunt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78440" y="25718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y que revisar toda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información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que existía sobre el problem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78440" y="302904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78440" y="30290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Que sean muy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precisas y susceptibles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de verific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1828800"/>
            <a:ext cx="1930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78440" y="34862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Que esté en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lación con las hipótesis y objetivo de la investig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78440" y="39434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Aplicar 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estrictamente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o indicado en el diseñ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78440" y="4286160"/>
            <a:ext cx="193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Aplicar las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técnicas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adecuad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78440" y="457200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Comparar los resultados con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hipótesis de trabajo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, y ver si se pueden generaliz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9960" y="491508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Comparar los resultados con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teoría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y extraer las consecuenci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73520" y="1371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3520" y="1771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73520" y="21718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73520" y="2685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73520" y="31431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73520" y="3657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73520" y="4057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73520" y="43434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73520" y="4686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73520" y="4971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08760" y="1371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13680" y="1143000"/>
            <a:ext cx="17272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Fuentes directas: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as teorías. La vida diari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Fuentes indirectas: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os trabajos anteriore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13680" y="16574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eer, escuchar y trabajar críticamente. Atender lo anómalo e incongruent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13680" y="25718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Se cuenta con los medios  y fuentes de documentación e información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13680" y="205740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Formular el problema con precisión y específicament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302904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l conocimiento de la realidad investigada, el dominio de la teoría y la cultura científica gener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3543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Tener en cuenta los diversos diseños que existe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3943440"/>
            <a:ext cx="182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xperimento pilo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4286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os tipos de análisis estadísticos, lingüísticos, documentales, etc..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46292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os conceptos de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Hipótesis nula 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Hipótesis alternativ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49150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as teorías de partida y los resultados de otros investigadores (Documentación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08760" y="1771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08760" y="21718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08760" y="2685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08760" y="31431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08760" y="3657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08760" y="4057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08760" y="43434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08760" y="4686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08760" y="4971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35240" y="1486080"/>
            <a:ext cx="507960" cy="56880"/>
          </a:xfrm>
          <a:prstGeom prst="leftRightArrow">
            <a:avLst>
              <a:gd name="adj1" fmla="val 50000"/>
              <a:gd name="adj2" fmla="val 177780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35240" y="18860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35240" y="22860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268596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35240" y="32576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36576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35240" y="41148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5240" y="428616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35240" y="46292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5240" y="48578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31840" y="4915080"/>
            <a:ext cx="0" cy="22860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35240" y="5657760"/>
            <a:ext cx="0" cy="11448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6019920"/>
            <a:ext cx="0" cy="26676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ROCESO METODOLÓGICO DE LA INVESTIGACIÓN CIENTÍ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-36360" y="-27000"/>
            <a:ext cx="9144000" cy="1576440"/>
            <a:chOff x="-36360" y="-27000"/>
            <a:chExt cx="9144000" cy="15764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-36360" y="-2700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582920" y="88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3640" y="17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64818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403280" y="1700280"/>
          <a:ext cx="6407280" cy="4548240"/>
        </p:xfrm>
        <a:graphic>
          <a:graphicData uri="http://schemas.openxmlformats.org/drawingml/2006/table">
            <a:tbl>
              <a:tblPr/>
              <a:tblGrid>
                <a:gridCol w="2050920"/>
                <a:gridCol w="436680"/>
                <a:gridCol w="434880"/>
                <a:gridCol w="438120"/>
                <a:gridCol w="433440"/>
                <a:gridCol w="435240"/>
                <a:gridCol w="434880"/>
                <a:gridCol w="438120"/>
                <a:gridCol w="434880"/>
                <a:gridCol w="434880"/>
                <a:gridCol w="435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mbre  del alum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esentación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no de vo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itmo de expos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nunci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minio de si m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cabul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minio del conteni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nguaje corp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plic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cursos audiovis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ganización y coher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 del tiem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clusiones y/o cier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6:21:05Z</dcterms:created>
  <dc:creator>Gabriel Alvarez</dc:creator>
  <dc:description/>
  <dc:language>en-US</dc:language>
  <cp:lastModifiedBy>aaranda</cp:lastModifiedBy>
  <dcterms:modified xsi:type="dcterms:W3CDTF">2008-04-14T20:24:48Z</dcterms:modified>
  <cp:revision>120</cp:revision>
  <dc:subject/>
  <dc:title>Diapositiva 1</dc:title>
</cp:coreProperties>
</file>