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037-F20C-494C-B2DC-00A4AE2A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F53-942E-4784-8EF7-15453DED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D66-A34A-4C77-9A07-3DB77DCF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882-0B1D-47FE-A1F2-FE13A8FD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1106-B002-4BFF-B009-5C610220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2A5F-8764-4BF5-AE02-38489D36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A653-4AA1-480E-BEB3-83C5A269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FAD5-862C-4ADC-BB61-6C7C5443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33C4-6049-4A10-A9FB-84B32E93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8716-1D24-4B02-8B69-0B93E4B5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EBB8-459D-4D20-9837-39EB67F1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DCB-9963-418D-8AC2-349198C2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376A-C65A-4464-84F9-247F062C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C699-1E2E-4FC2-A9B9-00E2C5D2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AB5E-6B5C-4720-8EB6-90B9EFE1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E708-47C5-4AEF-AFB4-B8EF9DEE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CA1C-1CC8-4404-B186-0639A3DB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150-764A-4D92-9289-5F13D063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D01-97C4-4BED-8D22-CB256A5D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E35-93B9-4801-BF0C-840C821A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54A-900D-4F8C-814A-8646B882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260-AE35-4B92-8944-891951A1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DC9-ED62-42B3-BEE4-9C8691F3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FCF-A602-4E6E-AC55-D26169AF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6470-9A77-4832-B95E-26E81CE5C3E9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3219-64F2-4C23-9783-3C0BA6AB07EB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288720"/>
            <a:ext cx="761976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ESAGREGACIÓN DE REDES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     “Facilidades Esencial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Octubre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Jimena Gutiérrez Barbagel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Facultad de Derech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617400"/>
            <a:ext cx="804384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es-CL" sz="3600" spc="-1" strike="noStrike">
                <a:solidFill>
                  <a:srgbClr val="333399"/>
                </a:solidFill>
                <a:latin typeface="Tahoma"/>
              </a:rPr>
              <a:t>Derecho de Acceso” a las Red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349000"/>
            <a:ext cx="777240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cepto amplio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(D° comparado v/s chilen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cluye incluso la Interconex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Género: D° de Acceso a las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pecie: D° de Interconectar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 confundir c/ Cargo de Acces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Lato &amp; Sentido Estric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Lato: D° reconocido a un operador de ejercer la actividad económica de las telecomunic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Estricto: </a:t>
            </a:r>
            <a:r>
              <a:rPr b="0" lang="es-CL" sz="3200" spc="-1" strike="noStrike">
                <a:solidFill>
                  <a:srgbClr val="ff0000"/>
                </a:solidFill>
                <a:latin typeface="Tahoma"/>
              </a:rPr>
              <a:t>D° reconocido a un operador de usar la infraestructura del o de los operadores titulares de la mism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Fuentes de la Desagregación de Redes en la Ley N° 18.168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uente Indirecta Art. 26°, inc. 2°: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 Factibilidad de utilizar </a:t>
            </a:r>
            <a:r>
              <a:rPr b="0" i="1" lang="es-CL" sz="3200" spc="-1" strike="noStrike">
                <a:solidFill>
                  <a:srgbClr val="000000"/>
                </a:solidFill>
                <a:latin typeface="Tahoma"/>
              </a:rPr>
              <a:t>medios de terceros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(Ej. OM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uente Directa Art. 29°, inc. 2°: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cio de conmutación y/o transmisión de señales provistas como servicio intermedio o como circuitos privados (regulación tarifari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559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Arial Narrow"/>
              </a:rPr>
              <a:t>    </a:t>
            </a:r>
            <a:r>
              <a:rPr b="0" lang="es-CL" sz="3200" spc="-1" strike="noStrike">
                <a:solidFill>
                  <a:srgbClr val="003399"/>
                </a:solidFill>
                <a:latin typeface="Arial Narrow"/>
              </a:rPr>
              <a:t>Servicios Públicos de Telecomun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(Art. 3 Ley Teleco#; ej: Servicio Público Telefón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1c1c"/>
                </a:solidFill>
                <a:latin typeface="Arial Narrow"/>
              </a:rPr>
              <a:t>Destinados “a satisfacer las necesidades de telecomunicaciones de la comunidad en genera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Doctrina del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servicio público concedid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Concepción histórica del servicio telefónico, telegráfico, telex..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1c1c"/>
                </a:solidFill>
                <a:latin typeface="Arial Narrow"/>
              </a:rPr>
              <a:t>Destinados a interconectarse con otros servicios públicos de telecomunicaciones</a:t>
            </a:r>
            <a:r>
              <a:rPr b="0" lang="es-CL" sz="2400" spc="-1" strike="noStrike">
                <a:solidFill>
                  <a:srgbClr val="1c1c1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Interconexión (como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interoperabilidad</a:t>
            </a: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c1c1c"/>
                </a:solidFill>
                <a:latin typeface="Arial Narrow"/>
              </a:rPr>
              <a:t>Dº de acceso a las redes</a:t>
            </a:r>
            <a:r>
              <a:rPr b="0" lang="es-CL" sz="1800" spc="-1" strike="noStrike">
                <a:solidFill>
                  <a:srgbClr val="1c1c1c"/>
                </a:solidFill>
                <a:latin typeface="Arial Narrow"/>
              </a:rPr>
              <a:t> (normativa comparada; Chile: Principios de competencia y de desagregación y/o compartición de redes 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Interconexión ¿Entre el mismo tipo de servicios públicos o entre servicios públicos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del mismo tipo</a:t>
            </a: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Arial Narrow"/>
              </a:rPr>
              <a:t>Servicio Público Telefónico &amp; Desagregació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5500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Local </a:t>
            </a: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(art. 29 inc. 2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Móvil (OMV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de Larga Distancia Nacional e Internacional </a:t>
            </a: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(art. 29 inc. 2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3399"/>
                </a:solidFill>
                <a:latin typeface="Arial Narrow"/>
              </a:rPr>
              <a:t>La Red Pública Telefónica</a:t>
            </a:r>
            <a:r>
              <a:rPr b="0" lang="es-ES_tradnl" sz="32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s 24 Redes Telefónicas Locales = 24 Zonas Primarias/Paí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 Red Telefónica Móvil= Redes de las Cías. Telef. Móv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 Red Telefónica de Larga Distancia= Redes de Portadores, que proveen conmutación o transmisión de LD Є al SPT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Desagregación de redes &amp; Fijación Tarif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Precios y Fijación Tarifaria (Título V Ley Nº 18.16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esupuestos (arts. 24º bis, 25º y 29º inc. 2º L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Servicio Regulados: 1) A Público (previa calificación TD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2) Entre Operadores (siemp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incipio de “Empresa Eficien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Desagregación de Red: Circuitos Priv. o Serv. Intermed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Derecho Comparado: “Derecho de Acceso”, “Facilidades Esencial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Chile: Limitación al Dominio derivada de </a:t>
            </a:r>
            <a:r>
              <a:rPr b="0" i="1" lang="es-CL" sz="2000" spc="-1" strike="noStrike">
                <a:solidFill>
                  <a:srgbClr val="000000"/>
                </a:solidFill>
                <a:latin typeface="Arial Narrow"/>
              </a:rPr>
              <a:t>función social</a:t>
            </a: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 de las redes pub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693720"/>
            <a:ext cx="5943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Arial Narrow"/>
              </a:rPr>
              <a:t>Tarifas a Públ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.- Regla Gener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</a:rPr>
              <a:t>LIBERTAD TARIFARIA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(art. 29° inc. 1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.- Excep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</a:rPr>
              <a:t>FIJACIÓN TARIFARIA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 (art. 29° inc. 2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Telefonía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rga Distancia Nacional e Inter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Narrow"/>
              </a:rPr>
              <a:t>Servicios de Transmisión y/o Conmutación de señales provistos como Circuitos Privados o Servicios Intermedios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844640"/>
            <a:ext cx="8345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I.- Presupuestos Legales de la Fij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1) “Condiciones insuficientes” en el Mercado para garantizar un régimen de libertad tarifaria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genéric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No habla de monopolio, dominancia ni incumb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oncepto de M° Relevante v/s Geográfico (Ej: sustituibilid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oncepto de “Desafiabilidad” del M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2) Calificación Expresa del Organo de Defensa de la Competencia en tal sentido (TDLC, antes Comisión Resolu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99"/>
                </a:solidFill>
                <a:latin typeface="Arial Narrow"/>
              </a:rPr>
              <a:t>Resolución N° </a:t>
            </a:r>
            <a:r>
              <a:rPr b="0" lang="es-ES_tradnl" sz="4000" spc="-1" strike="noStrike">
                <a:solidFill>
                  <a:srgbClr val="003399"/>
                </a:solidFill>
                <a:latin typeface="Arial Narrow"/>
              </a:rPr>
              <a:t>515/98</a:t>
            </a:r>
            <a:r>
              <a:rPr b="0" lang="es-ES_tradnl" sz="4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es-ES_tradnl" sz="3200" spc="-1" strike="noStrike">
                <a:solidFill>
                  <a:srgbClr val="003399"/>
                </a:solidFill>
                <a:latin typeface="Arial Narrow"/>
              </a:rPr>
              <a:t>(C. Resolutiva)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Primer antecedente jurisdiccional respecto de desagregación de re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scripción de Servicios Desagregados a Tarificar en el Caso de C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Mandato a la Autoridad sectorial de fijar tarifas propendiendo a “la máxima desagregación técnicamente factibl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70572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Doctrina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“Essential Facilities”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; </a:t>
            </a: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Presupuesto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1.- Monopolio natural (u oligopolio); </a:t>
            </a:r>
            <a:r>
              <a:rPr b="1" lang="es-CL" sz="2400" spc="-1" strike="noStrike">
                <a:solidFill>
                  <a:srgbClr val="3333cc"/>
                </a:solidFill>
                <a:latin typeface="Tahoma"/>
              </a:rPr>
              <a:t>n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Operador (es) dominante (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egración vertic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Ejs: sistemas de transmisión eléctrica </a:t>
            </a: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dedicado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; art. 26° inc. 2° Ley Teleco#; servicios de red v/s servicios finales; red &amp; ferrocarriles, et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2.- Infraestructura o activos de difícil  repl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versiones cuantiosas o recursos escas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stos </a:t>
            </a:r>
            <a:r>
              <a:rPr b="0" i="1" lang="es-CL" sz="2400" spc="-1" strike="noStrike">
                <a:solidFill>
                  <a:srgbClr val="000000"/>
                </a:solidFill>
                <a:latin typeface="Tahoma"/>
              </a:rPr>
              <a:t>hundi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umo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esencial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(no meramente conveniente o más económic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4000" spc="-1" strike="noStrike">
                <a:solidFill>
                  <a:srgbClr val="003399"/>
                </a:solidFill>
                <a:latin typeface="Arial Narrow"/>
              </a:rPr>
              <a:t>Resolución N° 686/2003 </a:t>
            </a:r>
            <a:r>
              <a:rPr b="0" lang="es-ES_tradnl" sz="2800" spc="-1" strike="noStrike">
                <a:solidFill>
                  <a:srgbClr val="003399"/>
                </a:solidFill>
                <a:latin typeface="Arial Narrow"/>
              </a:rPr>
              <a:t>(C. Resolu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onsideraciones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n Telefonía Loc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Titularidad de líneas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 (CTC: 70%  a nivel regional, excepto X, XI e Isla de Pascua; Entel: 100%  en Isla de Pascua; Telsur: 80%  en X región; Telcoy: 80%  en XI reg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G° de “Desafiabilidad” del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conomías de Esca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conomías de Dens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Inexistencia de Portabilidad del Número (como barrera de entrada y de salid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44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G° de “Sustituibilidad” por otras tecnologías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(cable coaxial; WLL; PLC; 3°G móvil)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No constituirían competencia potencial, salvo caso Cable Coaxial en el futur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Gran concentración de oferta en “zona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ersistencia de riesgo de subsidios cruzados en algunas zon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 Narrow"/>
              </a:rPr>
              <a:t>Desagregación obligatoria para todos los prestadores del servicio, dominantes o no, e independientemente de la tecnología (resuelvo 3°)</a:t>
            </a:r>
            <a:r>
              <a:rPr b="1" lang="es-CL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Además de la CTC (calificación específic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Impugnaciones operadores no domin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oblemática tecnología inalámbricas (Ej: WL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60280"/>
            <a:ext cx="7792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EJ. Servicios Desagregados</a:t>
            </a:r>
            <a:br>
              <a:rPr sz="4000"/>
            </a:b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n</a:t>
            </a: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Telefonía Local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99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Par de Co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Acometida Par de Co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de espacio para equipos (Hou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upervisión Técnica de Visi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Adecuación de Obras Civ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Enlace Punto a punto entre centros de conmu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de facilidades para otros servicios en línea de un suscriptor de la concesion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Información de oportunidad y disponibilidad de servicios desagreg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Facilidades para figuración en guía telefónica de información del suscriptor asociado a línea de rev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línea telefónica analógica o digital para rev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Oferta de “Facilidad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Oferta Púb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Condiciones de ofrecimiento de los serv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ajo los presupuestos del decreto tarifario (precios, plazos, etc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No discriminato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i en cuanto a opera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i en cuanto a servicio a ser pre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Arial Narrow"/>
              </a:rPr>
              <a:t>Principios o Directrices Regulatorias de Telecomunicac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63700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Neutralidad Tecnológic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Interconexión Obligator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Competenci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Acceso Universa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2896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Interconexión Obligato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Fundamento: Interoperabilidad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Tipo particular de acceso a las redes (doctrina y D° comparado sobr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Essential Facilities);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 Narrow"/>
                <a:ea typeface="바탕"/>
              </a:rPr>
              <a:t>Problemática preexistente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  <a:ea typeface="바탕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Barrera Económica (altos costos de invers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Barrera Jurídica (denegatoria de contrat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Sentido Lato y Sentido Estricto del D° Acce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D° de desarrollar una actividad económica s/ barreras de entrada y respetando el marco jurídico vig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D° de uso de “infraestructura esencial” del O. incumb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0560" y="617040"/>
            <a:ext cx="68929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o</a:t>
            </a: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mpet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Interconexión Obligato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Subsidios Cruzad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바탕"/>
              </a:rPr>
              <a:t>Entre Servicios Regulados y Desregul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바탕"/>
              </a:rPr>
              <a:t>Condiciones para integración vertical de servicios (ej: Art. 26° inc. 2° L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Tarifas Regula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Desagreg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바탕"/>
              </a:rPr>
              <a:t>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° de Acce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Ventajas Desagregación de Red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Promoción Competencia (incorporación de nuevos acto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Evita duplicación innecesaria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efici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avorece el desarrollo de nuevos servici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plicaciones tecnológ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Desventajas Desagregación de Red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Desincentivo a la invers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or parte del titular de las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or parte de terce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Ley de Mínimo Esfuer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eficie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Menor desarrollo de infraestructura física &amp; tecnológic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ey del Mínimo Esfuerz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2637000"/>
            <a:ext cx="819936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3.- Denegación injustificada al uso de la infraestructura por los competi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4.- Factibilidad técnico económica de compartir la infraestructura ese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n desmedro de la propia calidad de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0480"/>
            <a:ext cx="7696080" cy="15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Facilidades Esenciales</a:t>
            </a:r>
            <a:br>
              <a:rPr sz="4400"/>
            </a:b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Mercados destacabl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d del Servicio Público Telefónico Lo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stema de Transmisión Sector Eléctr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aseoductos Sector del 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lenos Sanitarios Sector Bas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ahías Sector Portua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6849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Herramientas para fomentar la Competencia frente a Integración Vert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agregación o Compartición de Ac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: Desagregación de Redes en Teleco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utonomía en las unidades de nego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paración societaria (filiales abier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abilidad Regulato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evitar subsidios cruz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304920"/>
            <a:ext cx="77770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Facilidades Esenciales &amp; 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Competencia: Barreras de Entrad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276280"/>
            <a:ext cx="83818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3333cc"/>
                </a:solidFill>
                <a:uFillTx/>
                <a:latin typeface="Arial Narrow"/>
              </a:rPr>
              <a:t>Barrera Económica o Natural</a:t>
            </a:r>
            <a:r>
              <a:rPr b="0" lang="es-CL" sz="3600" spc="-1" strike="noStrike">
                <a:solidFill>
                  <a:srgbClr val="3333cc"/>
                </a:solidFill>
                <a:latin typeface="Arial Narrow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Gran Inversión en Infraestructura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“</a:t>
            </a:r>
            <a:r>
              <a:rPr b="1" i="1" lang="es-CL" sz="2400" spc="-1" strike="noStrike">
                <a:solidFill>
                  <a:srgbClr val="000000"/>
                </a:solidFill>
                <a:latin typeface="Arial Narrow"/>
              </a:rPr>
              <a:t>última milla”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Recurso esencial escaso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Ej: bahías, espect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3333cc"/>
                </a:solidFill>
                <a:uFillTx/>
                <a:latin typeface="Arial Narrow"/>
              </a:rPr>
              <a:t>Barrera Juríd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Negativa a contra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Condiciones de Contratación</a:t>
            </a: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Ej: fijación tarifar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37680"/>
            <a:ext cx="724032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 Narrow"/>
              </a:rPr>
              <a:t>Facilidades Esenciales &amp; D°s Constitucional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2637000"/>
            <a:ext cx="8610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Limitación al derecho de dominio (19° N° 2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Derecho de emprendimiento (19° N° 2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No discriminación arbitraria (19 N° 2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620640"/>
            <a:ext cx="76597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Facilidades Esenciales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 Fuent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44704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L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Art. 29, inc. 2° Ley General de Telecomunicaciones </a:t>
            </a: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(servicios de conmutación de señales provistos como servicios intermedios o como circuitos privad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TDL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Ej: Fallo Colbún Endesa </a:t>
            </a: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(Central Hidroeléctrica Aysé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384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Facilidades Esenciales &amp; Telecomunicac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 Narrow"/>
              </a:rPr>
              <a:t>DESAGREGACIÓN DE RED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9:11Z</dcterms:created>
  <dc:creator>Cristian Wulf..</dc:creator>
  <dc:description/>
  <dc:language>en-US</dc:language>
  <cp:lastModifiedBy>ximena</cp:lastModifiedBy>
  <dcterms:modified xsi:type="dcterms:W3CDTF">2007-10-22T21:01:25Z</dcterms:modified>
  <cp:revision>166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82799495</vt:r8>
  </property>
  <property fmtid="{D5CDD505-2E9C-101B-9397-08002B2CF9AE}" pid="3" name="_AuthorEmail">
    <vt:lpwstr>xgutierrez@subtel.cl</vt:lpwstr>
  </property>
  <property fmtid="{D5CDD505-2E9C-101B-9397-08002B2CF9AE}" pid="4" name="_AuthorEmailDisplayName">
    <vt:lpwstr>Ximena Gutierrez</vt:lpwstr>
  </property>
  <property fmtid="{D5CDD505-2E9C-101B-9397-08002B2CF9AE}" pid="5" name="_EmailSubject">
    <vt:lpwstr>me mandaste la presentación?</vt:lpwstr>
  </property>
</Properties>
</file>