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95A-08D3-4757-AD03-780BA38A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5FF-06F6-4C61-B795-225485B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A91-B0C7-412F-A296-22CB04FE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286-1E71-4E96-8872-B2C481DC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C8B9-F81A-4F5D-9E2F-70311222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7A5B-0AFC-4B74-9FF7-8804E38F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EBD3-60B3-403A-A61D-3383A25D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42FA-DABE-4C08-A938-DE3F5351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BB33-B1EC-4850-8B21-5C1AA79B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C430-DA9A-4C37-80E4-AE4001FA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7362-152B-4DF1-AA5A-F6F7246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CE9-BE3D-4AA6-A222-7090ADA7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C0C-8F22-4BCE-8788-C90A811F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FFA8-E6DA-4111-9844-DB4C01E4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4166-813F-47CE-AD1B-849803B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D3DC-0E69-45B2-892E-6FCDD140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D0BF-E3AF-49D2-9038-424197D2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F2B-A374-4069-A94F-9FC1C054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CE7-B788-4610-8397-3AE60C1E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ED1-1F30-40C2-A9B1-55F2E66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B8F-AF8A-4F3B-A9B1-2B4B633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649-AA8D-4ABC-B243-7165FCB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9B4-02E3-4503-A704-D39DC66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939-65DF-47A3-B35F-F3D2D79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02C0-FEE1-4CE3-B2DA-19B1BC21145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CE57-4B40-46FE-AFC8-F6F986E7CF0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88720"/>
            <a:ext cx="76197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ESAGREGACIÓN DE REDE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     “Facilidades Esencial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Octubre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Jimena Gutiérrez Barbagel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Facultad de Derech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617400"/>
            <a:ext cx="80438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Derecho de Acceso” a las Re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amplio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D° comparado v/s chile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luye incluso la Interconex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Género: D° de Acceso a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ecie: D° de Interconectar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onfundir c/ Cargo de Acces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 &amp; Sentido Estri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: D° reconocido a un operador de ejercer la actividad económica de las telecomun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Estricto: </a:t>
            </a:r>
            <a:r>
              <a:rPr b="0" lang="es-CL" sz="3200" spc="-1" strike="noStrike">
                <a:solidFill>
                  <a:srgbClr val="ff0000"/>
                </a:solidFill>
                <a:latin typeface="Tahoma"/>
              </a:rPr>
              <a:t>D° reconocido a un operador de usar la infraestructura del o de los operadores titulares de la mis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Fuentes de la Desagregación de Redes en la Ley N° 18.168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Indirecta Art. 26°, inc. 2°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Factibilidad de utilizar </a:t>
            </a:r>
            <a:r>
              <a:rPr b="0" i="1" lang="es-CL" sz="3200" spc="-1" strike="noStrike">
                <a:solidFill>
                  <a:srgbClr val="000000"/>
                </a:solidFill>
                <a:latin typeface="Tahoma"/>
              </a:rPr>
              <a:t>medios de terceros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(Ej. OM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Directa Art. 29°, inc. 2°: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cio de conmutación y/o transmisión de señales provistas como servicio intermedio o como circuitos privados (regulación tarifari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559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Servicios Públicos de Telecomun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(Art. 3 Ley Teleco#; ej: Servicio Público Telef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“a satisfacer las necesidades de telecomunicaciones de la comunidad en gener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Doctrina del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servicio público concedid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Concepción histórica del servicio telefónico, telegráfico, telex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a interconectarse con otros servicios públicos de telecomunicaciones</a:t>
            </a:r>
            <a:r>
              <a:rPr b="0" lang="es-CL" sz="2400" spc="-1" strike="noStrike">
                <a:solidFill>
                  <a:srgbClr val="1c1c1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(como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interoperabilidad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1c1c"/>
                </a:solidFill>
                <a:latin typeface="Arial Narrow"/>
              </a:rPr>
              <a:t>Dº de acceso a las redes</a:t>
            </a:r>
            <a:r>
              <a:rPr b="0" lang="es-CL" sz="1800" spc="-1" strike="noStrike">
                <a:solidFill>
                  <a:srgbClr val="1c1c1c"/>
                </a:solidFill>
                <a:latin typeface="Arial Narrow"/>
              </a:rPr>
              <a:t> (normativa comparada; Chile: Principios de competencia y de desagregación y/o compartición de redes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¿Entre el mismo tipo de servicios públicos o entre servicios públicos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del mismo tipo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Arial Narrow"/>
              </a:rPr>
              <a:t>Servicio Público Telefónico &amp; Desagrega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550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Loc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Móvil (OMV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de Larga Distancia Nacional e Internacion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Arial Narrow"/>
              </a:rPr>
              <a:t>La Red Pública Telefónica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s 24 Redes Telefónicas Locales = 24 Zonas Primarias/Paí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Móvil= Redes de las Cías. Telef. Móv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de Larga Distancia= Redes de Portadores, que proveen conmutación o transmisión de LD Є al SPT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Desagregación de redes &amp; Fijación Tarif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Precios y Fijación Tarifaria (Título V Ley Nº 18.16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esupuestos (arts. 24º bis, 25º y 29º inc. 2º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Servicio Regulados: 1) A Público (previa calificación TD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2) Entre Operadores (siemp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incipio de “Empresa Eficien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Desagregación de Red: Circuitos Priv. o Serv. Intermed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Derecho Comparado: “Derecho de Acceso”, “Facilidades Esencial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hile: Limitación al Dominio derivada de </a:t>
            </a:r>
            <a:r>
              <a:rPr b="0" i="1" lang="es-CL" sz="2000" spc="-1" strike="noStrike">
                <a:solidFill>
                  <a:srgbClr val="000000"/>
                </a:solidFill>
                <a:latin typeface="Arial Narrow"/>
              </a:rPr>
              <a:t>función social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 de las redes pub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93720"/>
            <a:ext cx="5943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 Narrow"/>
              </a:rPr>
              <a:t>Tarifas a Públ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- Regla Gen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LIBERTAD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(art. 29° inc. 1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- Excep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FIJACIÓN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(art. 29° inc. 2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rga Distancia Nacional e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Narrow"/>
              </a:rPr>
              <a:t>Servicios de Transmisión y/o Conmutación de señales provistos como Circuitos Privados o Servicios Intermedio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44640"/>
            <a:ext cx="8345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- Presupuestos Legales de la Fij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1) “Condiciones insuficientes” en el Mercado para garantizar un régimen de libertad tarifaria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gené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habla de monopolio, dominancia ni incumb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M° Relevante v/s Geográfico (Ej: sustitu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“Desafiabilidad” del M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2) Calificación Expresa del Organo de Defensa de la Competencia en tal sentido (TDLC, antes Comisión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Resolución N° 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515/98</a:t>
            </a: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imer antecedente jurisdiccional respecto de desagregación de re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cripción de Servicios Desagregados a Tarificar en el Caso de C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andato a la Autoridad sectorial de fijar tarifas propendiendo a “la máxima desagregación técnicamente factibl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7057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Doctrina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“Essential Facilities”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;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Presupuesto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1.- Monopolio natural (u oligopolio); </a:t>
            </a: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n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Operador (es) dominante 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gración vert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Ejs: sistemas de transmisión eléctrica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dedicad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; art. 26° inc. 2° Ley Teleco#; servicios de red v/s servicios finales; red &amp; ferrocarriles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2.- Infraestructura o activos de difícil  re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versiones cuantiosas o recursos esca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sto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hund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um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esencial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no meramente conveniente o más económ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Resolución N° 686/2003 </a:t>
            </a:r>
            <a:r>
              <a:rPr b="0" lang="es-ES_tradnl" sz="28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sidera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 Telefonía Loc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itularidad de línea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(CTC: 70%  a nivel regional, excepto X, XI e Isla de Pascua; Entel: 100%  en Isla de Pascua; Telsur: 80%  en X región; Telcoy: 80%  en XI reg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° de “Desafiabilidad”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Esca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Den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existencia de Portabilidad del Número (como barrera de entrada y de sali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° de “Sustituibilidad” por otras 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cable coaxial; WLL; PLC; 3°G móvil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No constituirían competencia potencial, salvo caso Cable Coaxial en el futur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ran concentración de oferta en “zon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ersistencia de riesgo de subsidios cruzados en algunas z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 Narrow"/>
              </a:rPr>
              <a:t>Desagregación obligatoria para todos los prestadores del servicio, dominantes o no, e independientemente de la tecnología (resuelvo 3°)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Además de la CTC (calificación específic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Impugnaciones operadores no domin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blemática tecnología inalámbricas (Ej: WL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EJ. Servicios Desagregados</a:t>
            </a:r>
            <a:br>
              <a:rPr sz="40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n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Telefonía Local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99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Acometida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espacio para equipos (Hou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upervisión Técnica de Visi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Adecuación de Obras Ci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Enlace Punto a punto entre centros de conmu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facilidades para otros servicios en línea de un suscriptor de la concesio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Información de oportunidad y disponibilidad de servicios desagreg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Facilidades para figuración en guía telefónica de información del suscriptor asociado a línea de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línea telefónica analógica o digital para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Oferta de “Facilidad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Oferta Púb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Condiciones de ofrecimiento de los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los presupuestos del decreto tarifario (precios, plazos, etc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No discrimin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oper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servicio a ser pr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 Narrow"/>
              </a:rPr>
              <a:t>Principios o Directrices Regulatorias de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Neutralidad Tecnológic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Competenc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Acceso Univers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89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Interconexión Obligato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Fundamento: Interoperabilidad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Tipo particular de acceso a las redes (doctrina y D° comparado sobr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Essential Facilities);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Narrow"/>
                <a:ea typeface="바탕"/>
              </a:rPr>
              <a:t>Problemática preexistente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  <a:ea typeface="바탕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Económica (altos costos de inver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Jurídica (denegatoria de contrat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Sentido Lato y Sentido Estricto del D° Acce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desarrollar una actividad económica s/ barreras de entrada y respetando el marco jurídico vig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uso de “infraestructura esencial” del O. incumb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560" y="617040"/>
            <a:ext cx="68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mpet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Subsidios Cruza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Entre Servicios Regulados y Desregul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Condiciones para integración vertical de servicios (ej: Art. 26° inc. 2°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Tarifas Regula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Desagre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바탕"/>
              </a:rPr>
              <a:t>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° de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omoción Competencia (incorporación de nuevos act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vita duplicación innecesaria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avorece el desarrollo de nuevos servici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licaciones tecnológ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Des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Desincentivo a la invers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l titular de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 terc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Ley de Mínimo Esfuer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Menor desarrollo de infraestructura física &amp; tecnológ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del Mínimo Esfuer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819936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3.- Denegación injustificada al uso de la infraestructura por los compet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4.- Factibilidad técnico económica de compartir la infraestructura es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n desmedro de la propia calidad de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480"/>
            <a:ext cx="7696080" cy="15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Facilidades Esenciales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Mercados destacab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d del Servicio Público Telefónico 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stema de Transmisión Sector Eléctr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seoductos Sector del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lenos Sanitarios Sector Bas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hías Sector Port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849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Herramientas para fomentar la Competencia frente a Integración Vert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gregación o Compartición de A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: Desagregación de Redes en Teleco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utonomía en las unidades de nego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paración societaria (filiales abie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abilidad Regul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evitar subsidios cru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777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Facilidades Esenciales &amp; 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Competencia: Barreras de Entra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3818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Económica o Natural</a:t>
            </a:r>
            <a:r>
              <a:rPr b="0" lang="es-CL" sz="3600" spc="-1" strike="noStrike">
                <a:solidFill>
                  <a:srgbClr val="3333cc"/>
                </a:solidFill>
                <a:latin typeface="Arial Narrow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Gran Inversión en Infraestructura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“</a:t>
            </a: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última milla”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Recurso esencial escaso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bahías, espec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Juríd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Negativa a contra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Condiciones de Contratación</a:t>
            </a: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fijación tarifa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37680"/>
            <a:ext cx="724032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 Narrow"/>
              </a:rPr>
              <a:t>Facilidades Esenciales &amp; D°s Constituciona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637000"/>
            <a:ext cx="8610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imitación al derecho de dominio (19° N° 2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Derecho de emprendimiento (19° N° 2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No discriminación arbitraria (19 N° 2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659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Facilidades Esenciales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Fuen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470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Art. 29, inc. 2° Ley General de Telecomunicaciones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servicios de conmutación de señales provistos como servicios intermedios o como circuitos priv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D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Ej: Fallo Colbún Endesa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Central Hidroeléctrica Aysé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acilidades Esenciales &amp;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DESAGREGACIÓN DE RED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9:11Z</dcterms:created>
  <dc:creator>Cristian Wulf..</dc:creator>
  <dc:description/>
  <dc:language>en-US</dc:language>
  <cp:lastModifiedBy>ximena</cp:lastModifiedBy>
  <dcterms:modified xsi:type="dcterms:W3CDTF">2007-10-22T21:01:25Z</dcterms:modified>
  <cp:revision>16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2799495</vt:r8>
  </property>
  <property fmtid="{D5CDD505-2E9C-101B-9397-08002B2CF9AE}" pid="3" name="_AuthorEmail">
    <vt:lpwstr>xgutierrez@subtel.cl</vt:lpwstr>
  </property>
  <property fmtid="{D5CDD505-2E9C-101B-9397-08002B2CF9AE}" pid="4" name="_AuthorEmailDisplayName">
    <vt:lpwstr>Ximena Gutierrez</vt:lpwstr>
  </property>
  <property fmtid="{D5CDD505-2E9C-101B-9397-08002B2CF9AE}" pid="5" name="_EmailSubject">
    <vt:lpwstr>me mandaste la presentación?</vt:lpwstr>
  </property>
</Properties>
</file>