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CD6-AE1B-47E1-8343-CA973091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798C-171B-4D84-A810-81179505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FF4-8B6D-4E3A-B3C3-CDF24635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6B1-5F88-4836-BE5C-713F996E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F9A1-B6F6-40CC-8FD5-B4D5DB86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EBAD-326E-48CD-A785-286FF40B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4FD7-B0A8-4020-B01A-53EF6D88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1E84-0808-4EEE-A08C-2862B49F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1D82-8B07-497F-A104-E14AC2B4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E461-65F2-4429-833D-743B839D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2DDB-A52F-4BF0-8B80-797D950B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021-605A-478F-99BA-809D08F0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C72C-209E-4647-A9E9-01F9B2B3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0E07-F000-4995-B84D-5BE5670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86B7-7E78-4E0E-9ECC-33B07F0B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A2FB-293F-4B08-A296-B0EC26D8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79BA-4B0B-4859-909E-1583FA34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FA2-3693-45D9-A0A7-F8BFEB33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B65-42A1-4873-AE35-B3BA72D0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06C-755F-4C4A-AC78-6537592F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841-FC94-472D-ADC4-A6C21AE6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1CE5-1DF8-4B0B-A998-5FE418C5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8B5-4E3F-4E1A-8BA1-3CD1D4D7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254-4ACE-4BCD-9F17-94430AB5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BF76-5096-4D0E-9416-14B0E6F4533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88D3-09A7-4B8D-8206-CDFA69F639D3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88720"/>
            <a:ext cx="761976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ESAGREGACIÓN DE REDES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     “Facilidades Esencial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Octubre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Jimena Gutiérrez Barbagel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Facultad de Derech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 Narrow"/>
              </a:rPr>
              <a:t>U. de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617400"/>
            <a:ext cx="804384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1" lang="es-CL" sz="3600" spc="-1" strike="noStrike">
                <a:solidFill>
                  <a:srgbClr val="333399"/>
                </a:solidFill>
                <a:latin typeface="Tahoma"/>
              </a:rPr>
              <a:t>Derecho de Acceso” a las Red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349000"/>
            <a:ext cx="77724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cepto amplio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D° comparado v/s chilen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cluye incluso la Interconex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Género: D° de Acceso a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pecie: D° de Interconectar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 confundir c/ Cargo de Acces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 &amp; Sentido Estri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Lato: D° reconocido a un operador de ejercer la actividad económica de las telecomunic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ntido Estricto: </a:t>
            </a:r>
            <a:r>
              <a:rPr b="0" lang="es-CL" sz="3200" spc="-1" strike="noStrike">
                <a:solidFill>
                  <a:srgbClr val="ff0000"/>
                </a:solidFill>
                <a:latin typeface="Tahoma"/>
              </a:rPr>
              <a:t>D° reconocido a un operador de usar la infraestructura del o de los operadores titulares de la mism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Fuentes de la Desagregación de Redes en la Ley N° 18.168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Indirecta Art. 26°, inc. 2°: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 Factibilidad de utilizar </a:t>
            </a:r>
            <a:r>
              <a:rPr b="0" i="1" lang="es-CL" sz="3200" spc="-1" strike="noStrike">
                <a:solidFill>
                  <a:srgbClr val="000000"/>
                </a:solidFill>
                <a:latin typeface="Tahoma"/>
              </a:rPr>
              <a:t>medios de terceros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(Ej. OMV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uente Directa Art. 29°, inc. 2°: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cio de conmutación y/o transmisión de señales provistas como servicio intermedio o como circuitos privados (regulación tarifari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5597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    </a:t>
            </a:r>
            <a:r>
              <a:rPr b="0" lang="es-CL" sz="3200" spc="-1" strike="noStrike">
                <a:solidFill>
                  <a:srgbClr val="003399"/>
                </a:solidFill>
                <a:latin typeface="Arial Narrow"/>
              </a:rPr>
              <a:t>Servicios Públicos de Telecomunic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Arial Narrow"/>
              </a:rPr>
              <a:t>(Art. 3 Ley Teleco#; ej: Servicio Público Telefón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“a satisfacer las necesidades de telecomunicaciones de la comunidad en general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Doctrina del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servicio público concedid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Concepción histórica del servicio telefónico, telegráfico, telex..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c1c1c"/>
                </a:solidFill>
                <a:latin typeface="Arial Narrow"/>
              </a:rPr>
              <a:t>Destinados a interconectarse con otros servicios públicos de telecomunicaciones</a:t>
            </a:r>
            <a:r>
              <a:rPr b="0" lang="es-CL" sz="2400" spc="-1" strike="noStrike">
                <a:solidFill>
                  <a:srgbClr val="1c1c1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(como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interoperabilidad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c1c1c"/>
                </a:solidFill>
                <a:latin typeface="Arial Narrow"/>
              </a:rPr>
              <a:t>Dº de acceso a las redes</a:t>
            </a:r>
            <a:r>
              <a:rPr b="0" lang="es-CL" sz="1800" spc="-1" strike="noStrike">
                <a:solidFill>
                  <a:srgbClr val="1c1c1c"/>
                </a:solidFill>
                <a:latin typeface="Arial Narrow"/>
              </a:rPr>
              <a:t> (normativa comparada; Chile: Principios de competencia y de desagregación y/o compartición de redes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Interconexión ¿Entre el mismo tipo de servicios públicos o entre servicios públicos </a:t>
            </a:r>
            <a:r>
              <a:rPr b="0" i="1" lang="es-CL" sz="2000" spc="-1" strike="noStrike">
                <a:solidFill>
                  <a:srgbClr val="1c1c1c"/>
                </a:solidFill>
                <a:latin typeface="Arial Narrow"/>
              </a:rPr>
              <a:t>del mismo tipo</a:t>
            </a:r>
            <a:r>
              <a:rPr b="0" lang="es-CL" sz="2000" spc="-1" strike="noStrike">
                <a:solidFill>
                  <a:srgbClr val="1c1c1c"/>
                </a:solidFill>
                <a:latin typeface="Arial Narrow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99"/>
                </a:solidFill>
                <a:latin typeface="Arial Narrow"/>
              </a:rPr>
              <a:t>Servicio Público Telefónico &amp; Desagregació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2349000"/>
            <a:ext cx="805500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Loc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Móvil (OMV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Narrow"/>
              </a:rPr>
              <a:t>Servicio Público Telefónico de Larga Distancia Nacional e Internacional </a:t>
            </a: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(art. 29 inc. 2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3399"/>
                </a:solidFill>
                <a:latin typeface="Arial Narrow"/>
              </a:rPr>
              <a:t>La Red Pública Telefónica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s 24 Redes Telefónicas Locales = 24 Zonas Primarias/Paí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Móvil= Redes de las Cías. Telef. Móv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Red Telefónica de Larga Distancia= Redes de Portadores, que proveen conmutación o transmisión de LD Є al SPT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Desagregación de redes &amp; Fijación Tarifari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Precios y Fijación Tarifaria (Título V Ley Nº 18.16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esupuestos (arts. 24º bis, 25º y 29º inc. 2º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cedi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Servicio Regulados: 1) A Público (previa calificación TD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2) Entre Operadores (siemp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incipio de “Empresa Eficien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Desagregación de Red: Circuitos Priv. o Serv. Intermedio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Derecho Comparado: “Derecho de Acceso”, “Facilidades Esenciale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Chile: Limitación al Dominio derivada de </a:t>
            </a:r>
            <a:r>
              <a:rPr b="0" i="1" lang="es-CL" sz="2000" spc="-1" strike="noStrike">
                <a:solidFill>
                  <a:srgbClr val="000000"/>
                </a:solidFill>
                <a:latin typeface="Arial Narrow"/>
              </a:rPr>
              <a:t>función social</a:t>
            </a:r>
            <a:r>
              <a:rPr b="0" lang="es-CL" sz="2000" spc="-1" strike="noStrike">
                <a:solidFill>
                  <a:srgbClr val="000000"/>
                </a:solidFill>
                <a:latin typeface="Arial Narrow"/>
              </a:rPr>
              <a:t> de las redes pub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520" y="693720"/>
            <a:ext cx="5943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99"/>
                </a:solidFill>
                <a:latin typeface="Arial Narrow"/>
              </a:rPr>
              <a:t>Tarifas a Públ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.- Regla Gener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LIBERTAD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(art. 29° inc. 1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.- Excep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</a:rPr>
              <a:t>FIJACIÓN TARIFARIA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 (art. 29° inc. 2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Telefonía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rga Distancia Nacional e Inter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 Narrow"/>
              </a:rPr>
              <a:t>Servicios de Transmisión y/o Conmutación de señales provistos como Circuitos Privados o Servicios Intermedios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844640"/>
            <a:ext cx="834552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I.- Presupuestos Legales de la Fij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1) “Condiciones insuficientes” en el Mercado para garantizar un régimen de libertad tarifaria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genér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No habla de monopolio, dominancia ni incumb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M° Relevante v/s Geográfico (Ej: sustituib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Concepto de “Desafiabilidad” del M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2) Calificación Expresa del Organo de Defensa de la Competencia en tal sentido (TDLC, antes Comisión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Resolución N° 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515/98</a:t>
            </a:r>
            <a:r>
              <a:rPr b="0" lang="es-ES_tradnl" sz="44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0" lang="es-ES_tradnl" sz="32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imer antecedente jurisdiccional respecto de desagregación de red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scripción de Servicios Desagregados a Tarificar en el Caso de C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Mandato a la Autoridad sectorial de fijar tarifas propendiendo a “la máxima desagregación técnicamente factibl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670572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Doctrina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“Essential Facilities”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; </a:t>
            </a:r>
            <a:r>
              <a:rPr b="1" lang="en-US" sz="4000" spc="-1" strike="noStrike">
                <a:solidFill>
                  <a:srgbClr val="003399"/>
                </a:solidFill>
                <a:latin typeface="Arial Narrow"/>
              </a:rPr>
              <a:t>Presupuesto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1.- Monopolio natural (u oligopolio); </a:t>
            </a:r>
            <a:r>
              <a:rPr b="1" lang="es-CL" sz="2400" spc="-1" strike="noStrike">
                <a:solidFill>
                  <a:srgbClr val="3333cc"/>
                </a:solidFill>
                <a:latin typeface="Tahoma"/>
              </a:rPr>
              <a:t>n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Operador (es) dominante (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tegración vertic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Ejs: sistemas de transmisión eléctrica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dedicado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; art. 26° inc. 2° Ley Teleco#; servicios de red v/s servicios finales; red &amp; ferrocarriles, et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2.- Infraestructura o activos de difícil  repl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versiones cuantiosas o recursos escas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stos </a:t>
            </a:r>
            <a:r>
              <a:rPr b="0" i="1" lang="es-CL" sz="2400" spc="-1" strike="noStrike">
                <a:solidFill>
                  <a:srgbClr val="000000"/>
                </a:solidFill>
                <a:latin typeface="Tahoma"/>
              </a:rPr>
              <a:t>hund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sum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ahoma"/>
              </a:rPr>
              <a:t>esencial 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(no meramente conveniente o más económic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3399"/>
                </a:solidFill>
                <a:latin typeface="Arial Narrow"/>
              </a:rPr>
              <a:t>Resolución N° 686/2003 </a:t>
            </a:r>
            <a:r>
              <a:rPr b="0" lang="es-ES_tradnl" sz="2800" spc="-1" strike="noStrike">
                <a:solidFill>
                  <a:srgbClr val="003399"/>
                </a:solidFill>
                <a:latin typeface="Arial Narrow"/>
              </a:rPr>
              <a:t>(C. Resolutiv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onsideracione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en Telefonía Loc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Titularidad de líneas</a:t>
            </a: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 (CTC: 70%  a nivel regional, excepto X, XI e Isla de Pascua; Entel: 100%  en Isla de Pascua; Telsur: 80%  en X región; Telcoy: 80%  en XI reg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° de “Desafiabilidad” del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Esca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Economías de Dens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Inexistencia de Portabilidad del Número (como barrera de entrada y de salid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° de “Sustituibilidad” por otras tecnologías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 Narrow"/>
              </a:rPr>
              <a:t>(cable coaxial; WLL; PLC; 3°G móvil)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</a:rPr>
              <a:t>No constituirían competencia potencial, salvo caso Cable Coaxial en el futur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Gran concentración de oferta en “zona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ersistencia de riesgo de subsidios cruzados en algunas zon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 Narrow"/>
              </a:rPr>
              <a:t>Desagregación obligatoria para todos los prestadores del servicio, dominantes o no, e independientemente de la tecnología (resuelvo 3°)</a:t>
            </a:r>
            <a:r>
              <a:rPr b="1" lang="es-CL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Además de la CTC (calificación específic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Impugnaciones operadores no domina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</a:rPr>
              <a:t>Problemática tecnología inalámbricas (Ej: WL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60280"/>
            <a:ext cx="7792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EJ. Servicios Desagregados</a:t>
            </a:r>
            <a:br>
              <a:rPr sz="4000"/>
            </a:b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en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Telefonía Local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99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Acometida Par de Co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espacio para equipos (Hous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upervisión Técnica de Visi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Adecuación de Obras Civ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Enlace Punto a punto entre centros de conmut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de facilidades para otros servicios en línea de un suscriptor de la concesio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Información de oportunidad y disponibilidad de servicios desagreg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Facilidades para figuración en guía telefónica de información del suscriptor asociado a línea de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Servicio línea telefónica analógica o digital para rev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Oferta de “Facilidade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Oferta Púb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Condiciones de ofrecimiento de los servi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ajo los presupuestos del decreto tarifario (precios, plazos, etc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No discrimin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opera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i en cuanto a servicio a ser pre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Arial Narrow"/>
              </a:rPr>
              <a:t>Principios o Directrices Regulatorias de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Neutralidad Tecnológic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Competencia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바탕"/>
              </a:rPr>
              <a:t>Acceso Universa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2896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Interconexión Obligato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Fundamento: Interoperabilidad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Tipo particular de acceso a las redes (doctrina y D° comparado sobr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Essential Facilities);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 Narrow"/>
                <a:ea typeface="바탕"/>
              </a:rPr>
              <a:t>Problemática preexistente</a:t>
            </a:r>
            <a:r>
              <a:rPr b="0" lang="es-ES_tradnl" sz="2800" spc="-1" strike="noStrike">
                <a:solidFill>
                  <a:srgbClr val="000000"/>
                </a:solidFill>
                <a:latin typeface="Arial Narrow"/>
                <a:ea typeface="바탕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Económica (altos costos de inver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Barrera Jurídica (denegatoria de contrat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바탕"/>
              </a:rPr>
              <a:t>Sentido Lato y Sentido Estricto del D° Acce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desarrollar una actividad económica s/ barreras de entrada y respetando el marco jurídico vig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Narrow"/>
                <a:ea typeface="바탕"/>
              </a:rPr>
              <a:t>D° de uso de “infraestructura esencial” del O. incumb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0560" y="617040"/>
            <a:ext cx="689292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Co</a:t>
            </a: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mpet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enc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Interconexión Obligato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Subsidios Cruzad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Entre Servicios Regulados y Desregul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바탕"/>
              </a:rPr>
              <a:t>Condiciones para integración vertical de servicios (ej: Art. 26° inc. 2° 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Tarifas Regulad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바탕"/>
              </a:rPr>
              <a:t>Desagreg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바탕"/>
              </a:rPr>
              <a:t>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° de Acce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Promoción Competencia (incorporación de nuevos actor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Evita duplicación innecesaria de re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Favorece el desarrollo de nuevos servici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plicaciones tecnológ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Tahoma"/>
              </a:rPr>
              <a:t>Desventajas Desagregación de Re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Desincentivo a la invers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l titular de las re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parte de terc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Ley de Mínimo Esfuer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eficie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ahoma"/>
              </a:rPr>
              <a:t>Menor desarrollo de infraestructura física &amp; tecnológic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ey del Mínimo Esfuerz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637000"/>
            <a:ext cx="819936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3.- Denegación injustificada al uso de la infraestructura por los competi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Tahoma"/>
              </a:rPr>
              <a:t>4.- Factibilidad técnico económica de compartir la infraestructura esen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n desmedro de la propia calidad de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0480"/>
            <a:ext cx="7696080" cy="15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 Narrow"/>
              </a:rPr>
              <a:t>Facilidades Esenciales</a:t>
            </a:r>
            <a:br>
              <a:rPr sz="4400"/>
            </a:b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Mercados destacab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d del Servicio Público Telefónico Lo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stema de Transmisión Sector Eléctr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aseoductos Sector del G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lenos Sanitarios Sector Bas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ahías Sector Portua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6849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Tahoma"/>
              </a:rPr>
              <a:t>Herramientas para fomentar la Competencia frente a Integración Vertic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276280"/>
            <a:ext cx="7772400" cy="38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gregación o Compartición de Ac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: Desagregación de Redes en Teleco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utonomía en las unidades de negoc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eparación societaria (filiales abie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abilidad Regulato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a evitar subsidios cruz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304920"/>
            <a:ext cx="777708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Facilidades Esenciales &amp; 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 Narrow"/>
              </a:rPr>
              <a:t>Competencia: Barreras de Entrad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83818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Económica o Natural</a:t>
            </a:r>
            <a:r>
              <a:rPr b="0" lang="es-CL" sz="3600" spc="-1" strike="noStrike">
                <a:solidFill>
                  <a:srgbClr val="3333cc"/>
                </a:solidFill>
                <a:latin typeface="Arial Narrow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Gran Inversión en Infraestructura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“</a:t>
            </a:r>
            <a:r>
              <a:rPr b="1" i="1" lang="es-CL" sz="2400" spc="-1" strike="noStrike">
                <a:solidFill>
                  <a:srgbClr val="000000"/>
                </a:solidFill>
                <a:latin typeface="Arial Narrow"/>
              </a:rPr>
              <a:t>última milla”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Recurso esencial escaso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bahías, espect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3333cc"/>
                </a:solidFill>
                <a:uFillTx/>
                <a:latin typeface="Arial Narrow"/>
              </a:rPr>
              <a:t>Barrera Jurídic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Negativa a contra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Narrow"/>
              </a:rPr>
              <a:t>Condiciones de Contratación</a:t>
            </a: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(Ej: fijación tarifar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37680"/>
            <a:ext cx="724032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 Narrow"/>
              </a:rPr>
              <a:t>Facilidades Esenciales &amp; D°s Constitucional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2637000"/>
            <a:ext cx="861048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imitación al derecho de dominio (19° N° 2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Derecho de emprendimiento (19° N° 2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No discriminación arbitraria (19 N° 2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6597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Facilidades Esenciales</a:t>
            </a:r>
            <a:br>
              <a:rPr sz="4000"/>
            </a:b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3399"/>
                </a:solidFill>
                <a:latin typeface="Arial Narrow"/>
              </a:rPr>
              <a:t> Fuentes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4704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L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Art. 29, inc. 2° Ley General de Telecomunicaciones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servicios de conmutación de señales provistos como servicios intermedios o como circuitos priva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DL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 Narrow"/>
              </a:rPr>
              <a:t>Ej: Fallo Colbún Endesa </a:t>
            </a: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(Central Hidroeléctrica Aysé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Facilidades Esenciales &amp; Telecomunicacion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5120" y="38862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 Narrow"/>
              </a:rPr>
              <a:t>DESAGREGACIÓN DE RED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4:39:11Z</dcterms:created>
  <dc:creator>Cristian Wulf..</dc:creator>
  <dc:description/>
  <dc:language>en-US</dc:language>
  <cp:lastModifiedBy>ximena</cp:lastModifiedBy>
  <dcterms:modified xsi:type="dcterms:W3CDTF">2007-10-22T21:01:25Z</dcterms:modified>
  <cp:revision>16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2799495</vt:r8>
  </property>
  <property fmtid="{D5CDD505-2E9C-101B-9397-08002B2CF9AE}" pid="3" name="_AuthorEmail">
    <vt:lpwstr>xgutierrez@subtel.cl</vt:lpwstr>
  </property>
  <property fmtid="{D5CDD505-2E9C-101B-9397-08002B2CF9AE}" pid="4" name="_AuthorEmailDisplayName">
    <vt:lpwstr>Ximena Gutierrez</vt:lpwstr>
  </property>
  <property fmtid="{D5CDD505-2E9C-101B-9397-08002B2CF9AE}" pid="5" name="_EmailSubject">
    <vt:lpwstr>me mandaste la presentación?</vt:lpwstr>
  </property>
</Properties>
</file>