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981000"/>
            <a:ext cx="552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ncipios fundamentales de las Telecomunic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1280" y="4417920"/>
            <a:ext cx="3835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2360" y="6151680"/>
            <a:ext cx="1992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 Narrow"/>
              </a:rPr>
              <a:t>1er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semestre 200</a:t>
            </a:r>
            <a:r>
              <a:rPr b="1" lang="en-GB" sz="2000" spc="-1" strike="noStrike">
                <a:solidFill>
                  <a:srgbClr val="3333cc"/>
                </a:solidFill>
                <a:latin typeface="Arial Narro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2860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707160" y="-1440"/>
            <a:ext cx="1440" cy="396216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Factores de Poder de Mercado: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Porción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captada del mercado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Barreras de entrad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Rentabilidad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Integración vertic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Factores de Dominancia: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-   Porción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captada del mercado</a:t>
            </a: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alt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1500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Barreras de entrada </a:t>
            </a: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(Res 686/2003)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Instalación esencial de OMC: </a:t>
            </a:r>
            <a:r>
              <a:rPr b="1" lang="es-CL" sz="24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una red o servicio de transporte de telecomunicaciones público que: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a) es suministrada de forma exclusiva o mayoritaria por un único proveedor o un número limitado de proveedores;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y b) su sustitución para proporcionar un servicio no resulta económica o técnicamente viable)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Arial Unicode MS"/>
              </a:rPr>
              <a:t>QUIEN ES DOMINANTE?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rebuchet MS"/>
              </a:rPr>
              <a:t>OMC “P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roveedor que tenga la capacidad de afectar de</a:t>
            </a:r>
            <a:r>
              <a:rPr b="1" lang="es-CL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manera importante las condiciones de participación (desde el punto de vista de los precios y del suministro) en un mercado dado como resultado de: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(a) el control de las instalaciones esenciales; o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(b) la utilización de su posición en el mercado”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Quien actúa de manera independiente a los demás actores del mercado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Dominancia conjunta ≠ Conductas paralela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Ventajas comparativas de un Dominante en Telecomunicaciones: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Instalación esencial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Economías de red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Economías Verticale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Control del desarrollo y la Norma de red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Subsidios Cruzad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288000" indent="-288000" algn="just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Inercia del cliente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3399"/>
                </a:solidFill>
                <a:uFillTx/>
                <a:latin typeface="Arial Narrow"/>
              </a:rPr>
              <a:t>ABUSO DE POSICIÓN DOMINANTE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Conducta abusiva + Dominanci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</a:rPr>
              <a:t>Diferente aproximación entre USA y UE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120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3333cc"/>
                </a:solidFill>
                <a:uFillTx/>
                <a:latin typeface="Arial Narrow"/>
              </a:rPr>
              <a:t>QUE ES ABUSO?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buso anticompetitiv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Negativa de suministro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Precios Predatorio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Discriminación de Precio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buso explotativ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Imposición de Precios o condiciones no equitativa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Limitación de Producción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Narrow"/>
              </a:rPr>
              <a:t>Sujeción de contratos a prestaciones complementarias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Arial Narrow"/>
              </a:rPr>
              <a:t>Medidas regulatorias para evitar conductas anticompetitiv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1749"/>
              </a:spcBef>
              <a:buClr>
                <a:srgbClr val="00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Abuso de posición dominante: </a:t>
            </a:r>
            <a:r>
              <a:rPr b="1" lang="es-CL" sz="2800" spc="-1" strike="noStrike">
                <a:solidFill>
                  <a:srgbClr val="003399"/>
                </a:solidFill>
                <a:latin typeface="Arial Narrow"/>
              </a:rPr>
              <a:t>Interconexión, no discriminación, desagregación de redes, etc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1749"/>
              </a:spcBef>
              <a:buClr>
                <a:srgbClr val="00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Subsidios Cruzados: </a:t>
            </a:r>
            <a:r>
              <a:rPr b="1" lang="es-CL" sz="2800" spc="-1" strike="noStrike">
                <a:solidFill>
                  <a:srgbClr val="003399"/>
                </a:solidFill>
                <a:latin typeface="Arial Narrow"/>
              </a:rPr>
              <a:t>Separación de cuentas, separación estructur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00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Precios predatorios: </a:t>
            </a:r>
            <a:r>
              <a:rPr b="0" lang="es-CL" sz="3600" spc="-1" strike="noStrike">
                <a:solidFill>
                  <a:srgbClr val="003399"/>
                </a:solidFill>
                <a:latin typeface="Arial Narrow"/>
              </a:rPr>
              <a:t>Fijación tarifari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00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Uso Indebido de la información: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00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Clientes cautivos:</a:t>
            </a:r>
            <a:r>
              <a:rPr b="0" lang="es-CL" sz="3600" spc="-1" strike="noStrike">
                <a:solidFill>
                  <a:srgbClr val="003399"/>
                </a:solidFill>
                <a:latin typeface="Arial Narrow"/>
              </a:rPr>
              <a:t> Portabilidad del Númer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 algn="just">
              <a:spcBef>
                <a:spcPts val="2251"/>
              </a:spcBef>
              <a:buClr>
                <a:srgbClr val="0033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Contratos atados: </a:t>
            </a:r>
            <a:r>
              <a:rPr b="0" lang="es-CL" sz="3600" spc="-1" strike="noStrike">
                <a:solidFill>
                  <a:srgbClr val="003399"/>
                </a:solidFill>
                <a:latin typeface="Arial Narrow"/>
              </a:rPr>
              <a:t>condiciones de fusión VTR-metrópoli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NORMATIVA SECTORI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 Narrow"/>
              </a:rPr>
              <a:t>NORMATIVA SECTORIAL PRO-COMPETENCIA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99"/>
                </a:solidFill>
                <a:latin typeface="Arial Narrow"/>
              </a:rPr>
              <a:t>-</a:t>
            </a:r>
            <a:r>
              <a:rPr b="1" lang="es-CL" sz="2800" spc="-1" strike="noStrike">
                <a:solidFill>
                  <a:srgbClr val="003399"/>
                </a:solidFill>
                <a:latin typeface="Arial Narrow"/>
              </a:rPr>
              <a:t>INTERCONEX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Arial Narrow"/>
              </a:rPr>
              <a:t>-DESAGREG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Arial Narrow"/>
              </a:rPr>
              <a:t>-FIJACIÓN TARIFAR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7400" y="0"/>
            <a:ext cx="7086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700280"/>
            <a:ext cx="7010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LIC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7010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</a:t>
            </a: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Principios Fundamentales de la Regulación de Telecomunicacion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292640"/>
            <a:ext cx="7010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ACCESO UNIVERS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181480"/>
            <a:ext cx="701028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PROTECCIÓN DEL CONSUMID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3276720"/>
            <a:ext cx="454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CENC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GRATUIDAD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OBJETIVIDAD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NEUTRALIDAD TECNOLOGICA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ASOCIADO A TIPO DE SERVICIO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ULTA PUBLICA&gt;LICENC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Acoge situaci</a:t>
            </a:r>
            <a:r>
              <a:rPr b="1" lang="es-CL" sz="4000" spc="-1" strike="noStrike">
                <a:solidFill>
                  <a:srgbClr val="000066"/>
                </a:solidFill>
                <a:latin typeface="Arial Narrow"/>
              </a:rPr>
              <a:t>ón de </a:t>
            </a: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Convergencia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Evita constituir barreras de entrada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Obsolecencia de “Concesión”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 Narrow"/>
              </a:rPr>
              <a:t>Persigue facilitar la inversión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SULTA PUBLICA&gt;LICENCIA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 Narrow"/>
              </a:rPr>
              <a:t>Sistema propuesto: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 Narrow"/>
              </a:rPr>
              <a:t>notificación de inicio de actividad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 Narrow"/>
              </a:rPr>
              <a:t>y posterior registro públic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 Narrow"/>
              </a:rPr>
              <a:t>Operadores</a:t>
            </a:r>
            <a:r>
              <a:rPr b="1" lang="en-GB" sz="3600" spc="-1" strike="noStrike">
                <a:solidFill>
                  <a:srgbClr val="000066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Narrow"/>
              </a:rPr>
              <a:t>Operador de red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 Narrow"/>
              </a:rPr>
              <a:t>Operador de servici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1397160"/>
          <a:ext cx="7314840" cy="4926960"/>
        </p:xfrm>
        <a:graphic>
          <a:graphicData uri="http://schemas.openxmlformats.org/drawingml/2006/table">
            <a:tbl>
              <a:tblPr/>
              <a:tblGrid>
                <a:gridCol w="3657240"/>
                <a:gridCol w="3657600"/>
              </a:tblGrid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2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Regulaci</a:t>
                      </a:r>
                      <a:r>
                        <a:rPr b="1" lang="es-CL" sz="36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ón sectori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2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Normas Libre competenc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EX 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EX ANTE y EX P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DE APLICACIÓN ESPE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DE APLICACIÓN TRANSVER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REGULACIÓN ASIMETRICA ENFOCADA AL DOMIN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4d4d4d"/>
                          </a:solidFill>
                          <a:latin typeface="Arial Narrow"/>
                        </a:rPr>
                        <a:t>REGULACIÓ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 Narrow"/>
              </a:rPr>
              <a:t>Órganos encargados de velar por la Libre Competencia: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 Narrow"/>
              </a:rPr>
              <a:t>USA :  Tribunales de Justicia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 Narrow"/>
              </a:rPr>
              <a:t>Europa: Comisión Europea y Dirección General de la Competencia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 Narrow"/>
              </a:rPr>
              <a:t>España: Tribunal de Defensa de Competencia y Servicio de Defensa de la Compentecia + Comisión de Mercado de Telecomunicaciones CMT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 Narrow"/>
              </a:rPr>
              <a:t>Chile: Tribunal de Defensa de la Competencia y Fiscalía Nacional Económica 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3333cc"/>
                </a:solidFill>
                <a:uFillTx/>
                <a:latin typeface="Arial Unicode MS"/>
              </a:rPr>
              <a:t>Mercado Relevante 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Importante para: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determinar </a:t>
            </a:r>
            <a:r>
              <a:rPr b="1" lang="es-CL" sz="24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si una empresa dispone de una posición dominante en dicho mercado. </a:t>
            </a:r>
            <a:r>
              <a:rPr b="1" lang="es-CL" sz="2400" spc="-1" strike="noStrike">
                <a:solidFill>
                  <a:srgbClr val="3333cc"/>
                </a:solidFill>
                <a:latin typeface="Arial Unicode MS"/>
              </a:rPr>
              <a:t>(Res 611, Comisión Resolutiv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 si el mercado de la telefonía móvil es el mismo que el de la telefonía fija)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  <a:ea typeface="Times New Roman"/>
              </a:rPr>
              <a:t>determinar si un acuerdo restrictivo entre Empresas tiene un efecto apreciable contra la competencia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BRE COMPETENCI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 Narrow"/>
              </a:rPr>
              <a:t>Elementos del Mercado Relevante: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 Narrow"/>
              </a:rPr>
              <a:t>Producto </a:t>
            </a:r>
            <a:r>
              <a:rPr b="1" lang="es-CL" sz="2400" spc="-1" strike="noStrike">
                <a:solidFill>
                  <a:srgbClr val="000066"/>
                </a:solidFill>
                <a:latin typeface="Arial Narrow"/>
              </a:rPr>
              <a:t>(Res 611 Comisión Resolutiva)</a:t>
            </a: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spcAft>
                <a:spcPts val="2500"/>
              </a:spcAft>
              <a:buClr>
                <a:srgbClr val="000066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 Narrow"/>
              </a:rPr>
              <a:t>Zona geográfica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5-08T16:06:02Z</dcterms:modified>
  <cp:revision>206</cp:revision>
  <dc:subject/>
  <dc:title>Presentación de PowerPoint</dc:title>
</cp:coreProperties>
</file>