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307880" cy="1155600"/>
            <a:chOff x="7848720" y="1143000"/>
            <a:chExt cx="1307880" cy="11556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20120" y="1550880"/>
              <a:ext cx="63648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760" y="1143000"/>
              <a:ext cx="9032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5392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26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447920"/>
            <a:ext cx="5526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R</a:t>
            </a:r>
            <a:r>
              <a:rPr b="1" lang="en-GB" sz="4000" spc="-1" strike="noStrike">
                <a:solidFill>
                  <a:srgbClr val="003399"/>
                </a:solidFill>
                <a:latin typeface="Tahoma"/>
              </a:rPr>
              <a:t>ol de Regul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81280" y="4417920"/>
            <a:ext cx="3835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2360" y="6151680"/>
            <a:ext cx="199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 Narrow"/>
              </a:rPr>
              <a:t>1er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semestre 200</a:t>
            </a:r>
            <a:r>
              <a:rPr b="1" lang="en-GB" sz="2000" spc="-1" strike="noStrike">
                <a:solidFill>
                  <a:srgbClr val="3333cc"/>
                </a:solidFill>
                <a:latin typeface="Arial Narro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2860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707160" y="-1440"/>
            <a:ext cx="1440" cy="396216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LECTURAS COMPLENTAR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1.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LEY DE BASES DE PROCEDIMIENTOS ADMINISTRATIVOS Art. 13 y 14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2.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Gulim"/>
              </a:rPr>
              <a:t>REGULACIÓN DE SERVICIOS PÚBLICOS: MAS TRANSPARENCIA PARA EMULAR A LA COMPETENCIA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Gulim"/>
              </a:rPr>
              <a:t>.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Gulim"/>
              </a:rPr>
              <a:t>Alexander Galetovic, Ricardo Sanhueza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Rol del Regulador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Dos dimensiones de la Regulación: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Gobierno regulatori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Sustancia regulatori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Rol del Regulador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Modelo a seguir es el d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“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Regulador independiente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”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Independencia organizacion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Independencia financier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Independencia administrativ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ETA PRINCIP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Credibilidad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Legitimidad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Transparencia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Independ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ccountability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Transpar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ticipación públic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dictibi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6. Claridad en los roles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7. Proporcion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8. Competenci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9. Expertis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10. Integr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TEORIA DE CAPTUR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ctitud complaciente con algún grupo de interés,</a:t>
            </a:r>
            <a:r>
              <a:rPr b="1" lang="es-CL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cuyos objetivos difieren de los de la sociedad </a:t>
            </a:r>
            <a:r>
              <a:rPr b="1" lang="en-US" sz="2800" spc="-1" strike="noStrike">
                <a:solidFill>
                  <a:srgbClr val="3333cc"/>
                </a:solidFill>
                <a:latin typeface="TimesNewRomanPSMT"/>
                <a:ea typeface="Times New Roman"/>
              </a:rPr>
              <a:t>como un todo.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Raz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oyección de los funciona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sión de la Industr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resión polític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TEORIA DE LA CAPTUR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Teoría Económica de la regulación (Stigler y Peltzman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Fallas de Gobierno </a:t>
            </a:r>
            <a:r>
              <a:rPr b="1" lang="en-GB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&gt;&gt;&gt;&gt;Desregulaci</a:t>
            </a:r>
            <a:r>
              <a:rPr b="1" lang="es-CL" sz="2800" spc="-1" strike="noStrike">
                <a:solidFill>
                  <a:srgbClr val="0000ff"/>
                </a:solidFill>
                <a:latin typeface="TimesNewRomanPSMT"/>
                <a:ea typeface="Times New Roman"/>
              </a:rPr>
              <a:t>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“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O HAY QUE OLVIDAR QUE LA REGULACIÓN REEMPLAZA AL MERCADO POR LA DECISIÓN DE UN SER HUMANO” (Fred Kahn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Familia Leyton-Pineiro</cp:lastModifiedBy>
  <cp:lastPrinted>2004-01-28T11:14:07Z</cp:lastPrinted>
  <dcterms:modified xsi:type="dcterms:W3CDTF">2008-04-03T01:39:03Z</dcterms:modified>
  <cp:revision>214</cp:revision>
  <dc:subject/>
  <dc:title>Presentación de PowerPoint</dc:title>
</cp:coreProperties>
</file>