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07720" y="698400"/>
            <a:ext cx="464652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move the slide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2B0304-FC77-4E97-BEA3-15C577A35B4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Acá es importante hacer un rápido repaso de algunos temas de microeconom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La microeconomía es el estudio de la conducta de los consumidores y productores que operan en los mercados individuales de la economí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808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49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133360" y="228600"/>
            <a:ext cx="70102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49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49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133720" y="228600"/>
            <a:ext cx="701028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 Unicode MS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1" marL="646200" indent="-24840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2" marL="9943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3" marL="13921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4" marL="1789920" indent="-19872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5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lvl="6" marL="1789920" indent="-19872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848720" y="1143000"/>
            <a:ext cx="1294920" cy="1143000"/>
            <a:chOff x="7848720" y="1143000"/>
            <a:chExt cx="1294920" cy="1143000"/>
          </a:xfrm>
        </p:grpSpPr>
        <p:pic>
          <p:nvPicPr>
            <p:cNvPr id="5" name="" descr=""/>
            <p:cNvPicPr/>
            <p:nvPr/>
          </p:nvPicPr>
          <p:blipFill>
            <a:blip r:embed="rId2"/>
            <a:srcRect l="8334" t="11814" r="39332" b="0"/>
            <a:stretch/>
          </p:blipFill>
          <p:spPr>
            <a:xfrm>
              <a:off x="8519760" y="1550160"/>
              <a:ext cx="623880" cy="7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3"/>
            <a:stretch/>
          </p:blipFill>
          <p:spPr>
            <a:xfrm>
              <a:off x="8240040" y="1143000"/>
              <a:ext cx="891000" cy="51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" descr=""/>
            <p:cNvPicPr/>
            <p:nvPr/>
          </p:nvPicPr>
          <p:blipFill>
            <a:blip r:embed="rId4"/>
            <a:stretch/>
          </p:blipFill>
          <p:spPr>
            <a:xfrm>
              <a:off x="7848720" y="1441440"/>
              <a:ext cx="841320" cy="563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90720" y="1447920"/>
            <a:ext cx="552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99"/>
                </a:solidFill>
                <a:latin typeface="Tahoma"/>
              </a:rPr>
              <a:t>Fundamentos de la Regulaci</a:t>
            </a:r>
            <a:r>
              <a:rPr b="1" lang="es-CL" sz="4000" spc="-1" strike="noStrike">
                <a:solidFill>
                  <a:srgbClr val="003399"/>
                </a:solidFill>
                <a:latin typeface="Tahoma"/>
              </a:rPr>
              <a:t>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81280" y="4417920"/>
            <a:ext cx="383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LORENA PIÑEIRO UGA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Arial Narrow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2360" y="6151680"/>
            <a:ext cx="198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Arial Narrow"/>
              </a:rPr>
              <a:t>1er semestr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057400" y="228240"/>
            <a:ext cx="7086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429000"/>
            <a:ext cx="731520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6705720" y="-360"/>
            <a:ext cx="1440" cy="396252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Determinación de monto de producción y pre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604836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761080" cy="388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MO RESPONDER AL MONOPOLIO?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In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troducir más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 competencia (Legislación antimonopolio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Regular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   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(fijar precios, calidad, aumentar producción, etc)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La economía de escala disponible en el proceso de  producción es de tal magnitud, que el mercado relevante es cubierto a un menor costo por una firma única</a:t>
            </a:r>
            <a:r>
              <a:rPr b="0" lang="es-ES" sz="3200" spc="-1" strike="noStrike">
                <a:solidFill>
                  <a:srgbClr val="3333cc"/>
                </a:solidFill>
                <a:latin typeface="Arial Narrow"/>
                <a:ea typeface="굴림"/>
              </a:rPr>
              <a:t>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MONOPOLIO NATUR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conomi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s</a:t>
            </a:r>
            <a:r>
              <a:rPr b="0" lang="en-GB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 escala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sto marginal disminuye a medida que aumenta la cantidad produci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uente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1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s fijos muy alto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minas de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iam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ntes, carreteras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, patent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2. </a:t>
            </a: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Ganancias por coordinaci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ón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(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ntegración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vertical integration &amp;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redes)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-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 Condición de monopolio natural no es permanente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- Monopolio 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atural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deben ser regulados porque son </a:t>
            </a: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INEVITABLES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1100"/>
              </a:spcBef>
              <a:spcAft>
                <a:spcPts val="2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44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O RESPONDER?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Fijación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Acceso a instalaciones esencial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ntroles de Calidad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14680" y="1413000"/>
            <a:ext cx="3914640" cy="491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697120" y="1981080"/>
            <a:ext cx="374796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608720" cy="51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Orígenes Regulación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MOTIVOS O EXPLICACIONE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-458640" algn="just">
              <a:lnSpc>
                <a:spcPct val="8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JUSTIFICACIONES T</a:t>
            </a:r>
            <a:r>
              <a:rPr b="1" lang="es-CL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E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  <a:ea typeface="굴림"/>
              </a:rPr>
              <a:t>CNICA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 Narrow"/>
            </a:endParaRPr>
          </a:p>
          <a:p>
            <a:pPr marL="458640" indent="0" algn="just">
              <a:lnSpc>
                <a:spcPct val="8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  <a:ea typeface="굴림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NEGA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impone un cost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POSITIVAS: </a:t>
            </a: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rea un beneficio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la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En el consum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PRIV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EXTERN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  <a:ea typeface="굴림"/>
              </a:rPr>
              <a:t>COSTO MARGINAL SOCIAL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 NEGATIVA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81800" cy="38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551640" cy="39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EXTERNALIDADE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Precio del producto no refleja el costo rea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apropia del ahorr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Quien se hace cargo del costo?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90760" y="1484280"/>
            <a:ext cx="6162480" cy="473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INFORMACIÓN INADECUADA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stosa de generar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No existe incentivo suficiente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Información insuficiente o inadecuad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DUCTAS ANTICOMPETITIVAS 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A) Precios predator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Objetivo de una firma: eliminar competencia y lograr domina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Condicion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Resistenci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Barreras de entrada  al mercad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Unicode MS"/>
              </a:rPr>
              <a:t>B) Colus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NTINUIDAD Y DISPONIBILIDAD DE SERVICI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Unicode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Necesidad de evitar el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Efectos de demanda cíclica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Unicode MS"/>
              </a:rPr>
              <a:t>-</a:t>
            </a: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Descreme del mercado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Unicode MS"/>
              </a:rPr>
              <a:t>B.Fundamento de justicia Social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ODER DE NEGOCIACIÓN DESIGUAL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4d4d4d"/>
                </a:solidFill>
                <a:latin typeface="Arial Narrow"/>
                <a:ea typeface="굴림"/>
              </a:rPr>
              <a:t> 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Impide una asignación justa y eficiente de los recursos.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901"/>
              </a:spcBef>
              <a:spcAft>
                <a:spcPts val="2251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Arial Narrow"/>
                <a:ea typeface="굴림"/>
              </a:rPr>
              <a:t>Regulación es necesaria para proteger los intereses de  los más desvalidos</a:t>
            </a:r>
            <a:endParaRPr b="0" lang="en-US" sz="36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FALLAS DE MERCAD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77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MONOPOLIOS Y MONOPOLIOS NATURALE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XTERNALIDADES o SPILLOVER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INFORMACION INADECUADA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TINUIDAD Y DISPONIBILIDAD DE SERVICI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NDUCTAS ANTICOMPETITIVAS 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WINDFALL PROFITS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ESCASEZ Y RACIONAMIENTO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JUSTICIA DISTRIBUTIVA 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COORDIN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LANIFICACIÓN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Arial Unicode MS"/>
              </a:rPr>
              <a:t>PODER DE NEGOCIACIÓN DESIGUAL</a:t>
            </a: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ESCASEZ Y RACIONAMIENTO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es usada para asignar o distribuir ciertos bien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pectro radioléctric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Petróleo, etc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JUSTICIA</a:t>
            </a:r>
            <a:r>
              <a:rPr b="0" lang="es-CL" sz="2200" spc="-1" strike="noStrike">
                <a:solidFill>
                  <a:srgbClr val="3333cc"/>
                </a:solidFill>
                <a:latin typeface="Arial Unicode MS"/>
              </a:rPr>
              <a:t> </a:t>
            </a: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DISTRIBUTIVA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ficiencia Económica busca maximizar bienestar social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 busca una redistribución de la riqueza de manera más equitativ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COORDINACIÓN</a:t>
            </a: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Necesidad de coordinar a la industria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Muy costoso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825"/>
              </a:spcBef>
              <a:spcAft>
                <a:spcPts val="20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Regulación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establece estándare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ffffff"/>
                </a:solidFill>
                <a:latin typeface="Arial Unicode MS"/>
                <a:ea typeface="굴림"/>
              </a:rPr>
              <a:t>PLANIFICACIÓN</a:t>
            </a:r>
            <a:br>
              <a:rPr sz="2700"/>
            </a:br>
            <a:endParaRPr b="1" lang="en-US" sz="27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spcAft>
                <a:spcPts val="2064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Cumplir con las demandas de generaciones</a:t>
            </a:r>
            <a:r>
              <a:rPr b="0" lang="es-CL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r>
              <a:rPr b="1" lang="es-CL" sz="3300" spc="-1" strike="noStrike">
                <a:solidFill>
                  <a:srgbClr val="3333cc"/>
                </a:solidFill>
                <a:latin typeface="Arial Narrow"/>
              </a:rPr>
              <a:t>futuras</a:t>
            </a:r>
            <a:endParaRPr b="0" lang="en-US" sz="33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Unicode MS"/>
              </a:rPr>
              <a:t>CONCLUSI</a:t>
            </a: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ÓN 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" sz="3200" spc="-1" strike="noStrike">
                <a:solidFill>
                  <a:srgbClr val="3333cc"/>
                </a:solidFill>
                <a:latin typeface="Arial Narrow"/>
              </a:rPr>
              <a:t>LA REGULACIÓN PUEDE OBEDECER A VARIADAS JUSTIFICACIONES Y TOMAR LA FORMA DE UN MECANISMO O UNA COMBINACIÓN DE ELLOS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 Unicode MS"/>
              </a:rPr>
              <a:t>PRÓXIMA CLASE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CL" sz="3200" spc="-1" strike="noStrike">
                <a:solidFill>
                  <a:srgbClr val="3333cc"/>
                </a:solidFill>
                <a:latin typeface="Arial Narrow"/>
              </a:rPr>
              <a:t>Traer un ejemplo concreto de medida regulatoria adoptada en Chile o en el exterior de al menos 5 de los 13 fundamentos estudiados.</a:t>
            </a:r>
            <a:endParaRPr b="0" lang="en-US" sz="32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COMPETENCIA PERFECT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GRAN NÚMERO DE COMPRADORES Y VENDEDORE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PRODUCTO HOMOGÉNE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INFORMACIÓN PERFECTA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4d4d4d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d4d4d"/>
                </a:solidFill>
                <a:latin typeface="Arial Narrow"/>
              </a:rPr>
              <a:t>NO HAY BARRERAS DE INGRESO O SALIDA</a:t>
            </a:r>
            <a:r>
              <a:rPr b="0" lang="es-ES" sz="2800" spc="-1" strike="noStrike">
                <a:solidFill>
                  <a:srgbClr val="4d4d4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QUILIBRIO COMPETITIVO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76360" y="1628640"/>
            <a:ext cx="5832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ff"/>
                </a:solidFill>
                <a:latin typeface="Arial Unicode MS"/>
              </a:rPr>
              <a:t>EFICIENCIA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85800" y="1980720"/>
            <a:ext cx="777240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447920" y="1447920"/>
            <a:ext cx="548640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</a:rPr>
              <a:t>MONOPOLIOS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Factores claves: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cia de un único vendedor 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l producto vendido es único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Existen importantes barreras de entrada al mercado y la salida es difícil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NSECUENCIAS DE MONOPOLIO</a:t>
            </a:r>
            <a:endParaRPr b="1" lang="en-US" sz="2800" spc="-1" strike="noStrike">
              <a:solidFill>
                <a:srgbClr val="ffffff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Reducción de producción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Aumento de precios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  <a:p>
            <a:pPr marL="533520" indent="-533520" algn="just">
              <a:spcBef>
                <a:spcPts val="1749"/>
              </a:spcBef>
              <a:buClr>
                <a:srgbClr val="3333cc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Arial Narrow"/>
              </a:rPr>
              <a:t>Transferencia de ingresos de parte de los consumidores al monopolista.</a:t>
            </a:r>
            <a:endParaRPr b="0" lang="en-US" sz="2800" spc="-1" strike="noStrike">
              <a:solidFill>
                <a:srgbClr val="4d4d4d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3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 Unicode MS"/>
              </a:rPr>
              <a:t>Demanda e Ingreso Marginal</a:t>
            </a:r>
            <a:endParaRPr b="1" lang="en-US" sz="2200" spc="-1" strike="noStrike">
              <a:solidFill>
                <a:srgbClr val="ffffff"/>
              </a:solidFill>
              <a:latin typeface="Arial Unicode MS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5904000" cy="4321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6:51:25Z</dcterms:created>
  <dc:creator>lorena piñeiro</dc:creator>
  <dc:description/>
  <dc:language>en-US</dc:language>
  <cp:lastModifiedBy>lpineiro</cp:lastModifiedBy>
  <cp:lastPrinted>2004-01-28T11:14:07Z</cp:lastPrinted>
  <dcterms:modified xsi:type="dcterms:W3CDTF">2008-03-18T14:55:15Z</dcterms:modified>
  <cp:revision>217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2305884</vt:r8>
  </property>
  <property fmtid="{D5CDD505-2E9C-101B-9397-08002B2CF9AE}" pid="3" name="_AuthorEmail">
    <vt:lpwstr>lpineiro@subtel.cl</vt:lpwstr>
  </property>
  <property fmtid="{D5CDD505-2E9C-101B-9397-08002B2CF9AE}" pid="4" name="_AuthorEmailDisplayName">
    <vt:lpwstr>Lorena Piñeiro</vt:lpwstr>
  </property>
  <property fmtid="{D5CDD505-2E9C-101B-9397-08002B2CF9AE}" pid="5" name="_EmailSubject">
    <vt:lpwstr>Clase 123</vt:lpwstr>
  </property>
  <property fmtid="{D5CDD505-2E9C-101B-9397-08002B2CF9AE}" pid="6" name="_PreviousAdHocReviewCycleID">
    <vt:r8>-2030208783</vt:r8>
  </property>
  <property fmtid="{D5CDD505-2E9C-101B-9397-08002B2CF9AE}" pid="7" name="_ReviewingToolsShownOnce">
    <vt:lpwstr/>
  </property>
</Properties>
</file>