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7720" y="698400"/>
            <a:ext cx="464652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469D63-4259-46BA-9C61-5CAB60615B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cá es importante hacer un rápido repaso de algunos temas de microeconom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microeconomía es el estudio de la conducta de los consumidores y productores que operan en los mercados individuales de la economí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294920" cy="1143000"/>
            <a:chOff x="7848720" y="1143000"/>
            <a:chExt cx="129492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8334" t="11814" r="39332" b="0"/>
            <a:stretch/>
          </p:blipFill>
          <p:spPr>
            <a:xfrm>
              <a:off x="8519760" y="1550160"/>
              <a:ext cx="623880" cy="7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040" y="1143000"/>
              <a:ext cx="89100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4132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447920"/>
            <a:ext cx="552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Tahoma"/>
              </a:rPr>
              <a:t>Fundamentos de la Regulaci</a:t>
            </a:r>
            <a:r>
              <a:rPr b="1" lang="es-CL" sz="4000" spc="-1" strike="noStrike">
                <a:solidFill>
                  <a:srgbClr val="003399"/>
                </a:solidFill>
                <a:latin typeface="Tahoma"/>
              </a:rPr>
              <a:t>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81280" y="4417920"/>
            <a:ext cx="38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2360" y="615168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 Narrow"/>
              </a:rPr>
              <a:t>1er semestr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057400" y="22824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05720" y="-360"/>
            <a:ext cx="1440" cy="39625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Determinación de monto de producción y pre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MO RESPONDER AL MONOPOLIO?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In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troducir más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 competencia (Legislación antimonopolio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Regular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(fijar precios, calidad, aumentar producción, etc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La economía de escala disponible en el proceso de  producción es de tal magnitud, que el mercado relevante es cubierto a un menor costo por una firma única</a:t>
            </a:r>
            <a:r>
              <a:rPr b="0" lang="es-ES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conomi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s</a:t>
            </a:r>
            <a:r>
              <a:rPr b="0" lang="en-GB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 escala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sto marginal disminuye a medida que aumenta la cantidad produci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uente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1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s fijos muy alto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minas de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iam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ntes, carretera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, patent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2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Ganancias por coordinaci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ó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ntegración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vertical integration &amp;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rede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-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ndición de monopolio natural no es permanente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- Monopolio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atural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ben ser regulados porque son </a:t>
            </a: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INEVITABLES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O RESPONDER?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ijación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cceso a instalaciones esencial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ntroles de Cal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14680" y="1413000"/>
            <a:ext cx="39146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97120" y="1981080"/>
            <a:ext cx="3747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087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Orígenes Regulación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MOTIVOS O EXPLICACIONE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JUSTIFICACIONES T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E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CNICA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EGA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mpone un cost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POSI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rea un beneficio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PRIV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EXTERN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MARGINAL SOCI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818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55164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Precio del producto no refleja el costo rea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apropia del ahorr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hace cargo del cost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90760" y="1484280"/>
            <a:ext cx="6162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stosa de gener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No existe incentivo suficient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nformación insuficiente o inadecua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DUCTAS ANTICOMPETITIVAS 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A) Precios predator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Objetivo de una firma: eliminar competencia y lograr domina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Condicion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Resiste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Barreras de entrada  a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B) 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TINUIDAD Y DISPONIBILIDAD DE SERVI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Necesidad de evitar e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Efectos de demanda cíclic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Descreme del mercado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B.Fundamento de justicia Social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ODER DE NEGOCIACIÓN DESIGU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4d4d4d"/>
                </a:solidFill>
                <a:latin typeface="Arial Narrow"/>
                <a:ea typeface="굴림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Impide una asignación justa y eficiente de los recursos.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Regulación es necesaria para proteger los intereses de  los más desvalido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LLAS DE MERCAD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MONOPOLIOS Y MONOPOLIOS NATURALE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XTERNALIDADES o SPILLOVER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INFORMACION INADECUADA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TINUIDAD Y DISPONIBILIDAD DE SERVICI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DUCTAS ANTICOMPETITIVAS 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WINDFALL PROFIT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SCASEZ Y RACIONAMIENT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JUSTICIA DISTRIBUTIVA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ORDIN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LANIFIC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ODER DE NEGOCIACIÓN DESIGUAL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ESCASEZ Y RACIONAMIENTO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es usada para asignar o distribuir ciertos bien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pectro radioléctric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Petróleo, etc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JUSTICIA</a:t>
            </a:r>
            <a:r>
              <a:rPr b="0" lang="es-CL" sz="22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DISTRIBUTIVA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ficiencia Económica busca maximizar bienestar social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busca una redistribución de la riqueza de manera más equitativ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COORDINACIÓN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Necesidad de coordinar a la industri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Muy costos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tablece estándar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PLANIFICACIÓN</a:t>
            </a:r>
            <a:br>
              <a:rPr sz="2700"/>
            </a:b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Cumplir con las demandas de generaciones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futura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CONCLUSI</a:t>
            </a: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ÓN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LA REGULACIÓN PUEDE OBEDECER A VARIADAS JUSTIFICACIONES Y TOMAR LA FORMA DE UN MECANISMO O UNA COMBINACIÓN DE ELL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RÓXIMA CLAS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raer un ejemplo concreto de medida regulatoria adoptada en Chile o en el exterior de al menos 5 de los 13 fundamentos estudiados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PETENCIA PERFECT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GRAN NÚMERO DE COMPRADORES Y VENDEDOR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PRODUCTO HOMOGÉNE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INFORMACIÓN PERFECT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NO HAY BARRERAS DE INGRESO O SALIDA</a:t>
            </a:r>
            <a:r>
              <a:rPr b="0" lang="es-ES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QUILIBRIO COMPETITIV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832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5486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MONOPOLI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Factores clav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cia de un único vendedor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l producto vendido es únic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 importantes barreras de entrada al mercado y la salida es difícil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SECUENCIAS DE MONOPOLI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Reducción de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umento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Transferencia de ingresos de parte de los consumidores al monopolista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Demanda e Ingreso Margin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59040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lpineiro</cp:lastModifiedBy>
  <cp:lastPrinted>2004-01-28T11:14:07Z</cp:lastPrinted>
  <dcterms:modified xsi:type="dcterms:W3CDTF">2008-03-18T14:55:15Z</dcterms:modified>
  <cp:revision>21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2305884</vt:r8>
  </property>
  <property fmtid="{D5CDD505-2E9C-101B-9397-08002B2CF9AE}" pid="3" name="_AuthorEmail">
    <vt:lpwstr>lpineiro@subtel.cl</vt:lpwstr>
  </property>
  <property fmtid="{D5CDD505-2E9C-101B-9397-08002B2CF9AE}" pid="4" name="_AuthorEmailDisplayName">
    <vt:lpwstr>Lorena Piñeiro</vt:lpwstr>
  </property>
  <property fmtid="{D5CDD505-2E9C-101B-9397-08002B2CF9AE}" pid="5" name="_EmailSubject">
    <vt:lpwstr>Clase 123</vt:lpwstr>
  </property>
  <property fmtid="{D5CDD505-2E9C-101B-9397-08002B2CF9AE}" pid="6" name="_PreviousAdHocReviewCycleID">
    <vt:r8>-2030208783</vt:r8>
  </property>
  <property fmtid="{D5CDD505-2E9C-101B-9397-08002B2CF9AE}" pid="7" name="_ReviewingToolsShownOnce">
    <vt:lpwstr/>
  </property>
</Properties>
</file>