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Instru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41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egislación anti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o nivel de interven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plicación transversal a las industri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No soluciona problemas técnic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Menor expertise que un regulado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Objetivos de las Licencia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         Regular una estructura de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         Establecer un marco de competitiv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         Asignación de recursos escas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ice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o costo de implement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o nivel de interven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Necesidad de hacer cumplir términos de lic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gímenes de licenci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)      Otorgamiento de licencia individual al operado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)      Otorgamiento de una autorización gener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)      No requerir licencia alguna (entrada libre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Acto administrativo = Unilateral?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Contrato =Acto bilateral?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ntratación públic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Fácil de op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Utiliza incentivos económic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ntrol judicial pobr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nfusión entre ro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ermisos transabl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Gran libertad de administr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ntrol del nivel óptimo de contamin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a discreción regulator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os costos regul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ermisos transabl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Arial Narrow"/>
              </a:rPr>
              <a:t>Desventajas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También se requiere fiscalización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Lenta respuesta a crisi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No compensa a las víctima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Requiere un mercado sano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Algunos daños deben ser absolutamente prohibido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Difícil determinar criterio de asignación de permiso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  <a:ea typeface="굴림"/>
              </a:rPr>
              <a:t>Informar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oca interven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nsumidores decide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oco proclive a captur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Útil para sectores de riesg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nsumidores no utilizan bien la inform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Información puede ser costos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277560" indent="-2775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Difícil de predecir comportamiento de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Actuación direct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uede separar provisión de infraestructura de oper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segura buen nivel de oper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ermite al estado planear inversiones de largo plaz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uede ser costos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Involucramiento estatal no dese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MANDO &amp; CONTRO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Unicode MS"/>
              </a:rPr>
              <a:t>Fortaleza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mediatez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Fija mínimos estándares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Prohíbe inmediatam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Uso de las sancion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Regulación de precio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plicar los resultados de un mercado competitivo”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Dificultad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-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Costos dependen de la empres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simetría de la inform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Falta de consenso sobre la manera de regul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REGULACIÓN DE PRECIO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Objetiv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Financiamien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ficiencia –Asignativ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 Productiv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 Dinámic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quidad – Productor vs Consumido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- Entre consumi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REGULACIÓN DE PRECIO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Discrecion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asa de reto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rice cap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Cualquiera que sea el método, debe ir acompañado de Fijación de estándar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REGULACIÓN PUEDE OBEDECER A VARIADAS JUSTIFICACIONES Y TOMAR LA FORMA DE UN INSTRUMENT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MMAND &amp; CONTRO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Arial Unicode MS"/>
              </a:rPr>
              <a:t>Debilidades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Muy intervencionista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Proclive a la captura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Gran necesidad de información 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Riesgo de legalismo y de efectos anticompetitivo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Difícil determinación de estándare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Caro de administrar y de hacer cumplir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Incentivo es sólo cumplir la norma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IMPOSICIONES FINANCIER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Ventajas: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-         Disminuye los costos de obtener la información y costos de administr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-         Crea un fondo de compensación para las victim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-         Existen incentivos para más desarrollo tecnológ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-         La imposición es más cier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IMPOSICIONES FINANCIER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</a:rPr>
              <a:t>Alternativas Cl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ásica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mpuesto correctiv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Derecho Pen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Sistema de responsabilidad extracontractu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CENTIVOS Económic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a discreción regulator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Bajo costo de aplic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oca intervención en la empres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Incentivo a reducir el daño a cer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resión económica a comportarse aceptablem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CENTIV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Subsidi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CENTIV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Desventaj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Mismas debilidades que C&amp;C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Difícil predecir comportamiento de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Inflexibl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Lento para reaccionar ante crisi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Políticamente conflictiv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  <a:ea typeface="굴림"/>
              </a:rPr>
              <a:t>Guiar el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Legislación Antimonopoli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Licenci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ntratación públic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Permisos transab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orena Pineiro</cp:lastModifiedBy>
  <cp:lastPrinted>2004-01-28T11:14:07Z</cp:lastPrinted>
  <dcterms:modified xsi:type="dcterms:W3CDTF">2008-03-20T11:47:29Z</dcterms:modified>
  <cp:revision>21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69461317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