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743C9-8D8C-4FBE-8924-9F26EC23D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8CA0-1B4A-4BCD-8984-E97001A2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CE5E-E39B-43F7-9DB4-5EEA1D4CA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53CE2-D502-4489-934D-AF7D2B33F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144FF-C21B-45AA-B876-CEB1D026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7573-3FE5-41E5-999F-D6471CE6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3C034-D84F-4729-AC5D-1D6F7A297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2FCA-468E-4796-A852-3AF310B14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BB14-56B4-41D8-BA1D-DEFD589E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D188C-303F-4D09-A066-74832AB1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1327-7E38-4F25-BD4E-07FD2BC1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D194-4E1E-4D4A-B371-4E47BC67E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2CF7-4DDC-45A6-89C5-2664C1D8E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838080" y="2209680"/>
            <a:ext cx="800100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os sistemas tradicionales:</a:t>
            </a:r>
            <a:endParaRPr b="0" lang="en-US" sz="28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 u objetiv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 o subjetiv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 en el Derecho Comparad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rectiva Unión Europea, respecto de actividades listadas.</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gunas legislaciones latinoamericanas (ley de residuos argentina, Código Civil Mexicano). En general actividades peligrosas.</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dos Unidos: CERCLA y RCRA en relación con los Residuos peligrosos.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tículo 3° en relación con el 51 de la Ley de Bases en relación con el Art. 2314 CC.</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entral es el hecho culpable o doloso</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ra mitigar esto se establecieron presunciones de culpa:</a:t>
            </a:r>
            <a:endParaRPr b="0" lang="en-US" sz="2000" spc="-1" strike="noStrike">
              <a:solidFill>
                <a:srgbClr val="000000"/>
              </a:solidFill>
              <a:latin typeface="Times New Roman"/>
            </a:endParaRPr>
          </a:p>
          <a:p>
            <a:pPr lvl="2" marL="1143000" indent="-228600" algn="just">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2, Presunción de culpa: </a:t>
            </a:r>
            <a:r>
              <a:rPr b="0" lang="es-CL" sz="16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ambién deben considerarse los casos de: </a:t>
            </a:r>
            <a:endParaRPr b="0" lang="en-US" sz="2000" spc="-1" strike="noStrike">
              <a:solidFill>
                <a:srgbClr val="000000"/>
              </a:solidFill>
              <a:latin typeface="Times New Roman"/>
            </a:endParaRPr>
          </a:p>
          <a:p>
            <a:pPr lvl="1" marL="743040" indent="-28584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Sanciones de la administración por infracción a sus normas.</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Infracción de nomas o sobre usos y hábitos profesionales.</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buso del derecho (C.C. Argentino, el ejercicio abusivo del derecho constituye una fuente de responsabilidad por daño ambiental).</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l cumplimiento de normas no exime del deber de actuar de modo de evitar daños a terceros o al medio ambiente en este cas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o contrapartida se estableció el artículo 55.</a:t>
            </a:r>
            <a:r>
              <a:rPr b="0" lang="es-CL" sz="2000" spc="-1" strike="noStrike">
                <a:solidFill>
                  <a:srgbClr val="000000"/>
                </a:solidFill>
                <a:latin typeface="Tahoma"/>
              </a:rPr>
              <a:t> </a:t>
            </a:r>
            <a:r>
              <a:rPr b="0" lang="en-US" sz="2000" spc="-1" strike="noStrike">
                <a:solidFill>
                  <a:srgbClr val="000000"/>
                </a:solidFill>
                <a:latin typeface="Tahoma"/>
              </a:rPr>
              <a:t>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Directiva Europea (2002):</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Daños a las aguas...</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oda pérdida, disminución, detrimento o menoscabo significativo inferido al medio ambiente o a uno o más de sus componentes (art. 2 letra e)</a:t>
            </a:r>
            <a:endParaRPr b="0" lang="en-US" sz="2400" spc="-1" strike="noStrike">
              <a:solidFill>
                <a:srgbClr val="000000"/>
              </a:solidFill>
              <a:latin typeface="Times New Roman"/>
            </a:endParaRPr>
          </a:p>
          <a:p>
            <a:pPr lvl="1" marL="735480" indent="-28296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rt. 2 letra ll); </a:t>
            </a:r>
            <a:endParaRPr b="0" lang="en-US" sz="2000" spc="-1" strike="noStrike">
              <a:solidFill>
                <a:srgbClr val="000000"/>
              </a:solidFill>
              <a:latin typeface="Times New Roman"/>
            </a:endParaRPr>
          </a:p>
          <a:p>
            <a:pPr lvl="1" marL="735480" indent="-28296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ativo</a:t>
            </a:r>
            <a:endParaRPr b="0" lang="en-US" sz="2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s de Responsabilidad</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udicial: </a:t>
            </a:r>
            <a:r>
              <a:rPr b="0" lang="en-US" sz="2400" spc="-1" strike="noStrike">
                <a:solidFill>
                  <a:srgbClr val="000000"/>
                </a:solidFill>
                <a:latin typeface="Tahoma"/>
              </a:rPr>
              <a:t>En el caso chileno se interponen ante los Tribunales de Justicia (hay excepcionales en casos en que órganos administrativos ordenan las medidas reparadoras, Serv. Salu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dministrativa: </a:t>
            </a:r>
            <a:r>
              <a:rPr b="0" lang="en-US" sz="2400" spc="-1" strike="noStrike">
                <a:solidFill>
                  <a:srgbClr val="000000"/>
                </a:solidFill>
                <a:latin typeface="Tahoma"/>
              </a:rPr>
              <a:t>En Europa y otros países latinoamericanos es potestad de la administración (Colombia, Perú, Bolivia, Argentina) o sistemas en que es potestad de los tribunales pero también la administración</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inco años desde la manifestación evidente del dañ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nto la acción civil como la acción reparatori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CC.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6">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0">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Art. 2 letra s); </a:t>
            </a:r>
            <a:endParaRPr b="0" lang="en-US" sz="28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2">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52">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normativa especial en cuanto a capacidad.</a:t>
            </a:r>
            <a:endParaRPr b="0" lang="en-US" sz="3200" spc="-1" strike="noStrike">
              <a:solidFill>
                <a:srgbClr val="000000"/>
              </a:solidFill>
              <a:latin typeface="Times New Roman"/>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mantiene el requisito de la causalidad de la legislación chilen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y casos de presunción de causalidad (legislación aleman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leyton</cp:lastModifiedBy>
  <dcterms:modified xsi:type="dcterms:W3CDTF">2008-05-26T15:38:10Z</dcterms:modified>
  <cp:revision>40</cp:revision>
  <dc:subject/>
  <dc:title>PowerPoint Presentation</dc:title>
</cp:coreProperties>
</file>